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335A9-6FB5-4CF2-8ACD-170B404E9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LAM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images or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82800" y="6124680"/>
            <a:ext cx="452916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 from provider page 64, no longer used. Generalize for user’s guid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p with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client remembers and understands the most important instruction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:  “I want to make sure I’ve helped you plan, so just to summarize: When do you use a condom? How do you use it?  Where will you keep them? What could go wrong? And what will you do about it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ve client printed material to take home, if possi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lease come back if you have any problems —including if you have trouble getting your partner to use condoms every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219400"/>
            <a:ext cx="4569120" cy="42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Efectos secundarios: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ueden causar irritación, escozor o infecciones de la vejiga urina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9400" y="4029120"/>
            <a:ext cx="45691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diafragmas (al igual que los espermicidas) son más eficaces cuando se usan correctamente cada vez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387600"/>
            <a:ext cx="45687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Para protegerse contra las ITS o el VIH/SIDA,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¿Desea saber más acerca de los métodos vaginale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e desea saber más acerca de los métodos vaginales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61000" y="1400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6100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873000"/>
            <a:ext cx="4869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cluyen a los espermicidas y el diafr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8200" y="5121360"/>
            <a:ext cx="4568760" cy="619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o se sabe con seguridad que grado de protección ofrecen los diafragmas contra el VIH/SIDA.</a:t>
            </a: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000"/>
            </a:br>
            <a:r>
              <a:rPr b="1" lang="es-ES_tradnl" sz="1100" spc="-1" strike="noStrike">
                <a:solidFill>
                  <a:srgbClr val="ff0000"/>
                </a:solidFill>
                <a:latin typeface="Arial"/>
              </a:rPr>
              <a:t>Para protegerse contra las ITS/VIH/SIDA, </a:t>
            </a: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use también</a:t>
            </a:r>
            <a:r>
              <a:rPr b="1" lang="es-ES_tradnl" sz="1100" spc="-1" strike="noStrike">
                <a:solidFill>
                  <a:srgbClr val="ff0000"/>
                </a:solidFill>
                <a:latin typeface="Arial"/>
              </a:rPr>
              <a:t>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9400" y="2709720"/>
            <a:ext cx="456912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Le resultaría incómodo introducir algo en su vagin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Le molestaría usar un método que pueda provocar una sensación de suciedad después de las relaciones sexuale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96200">
            <a:off x="4736880" y="2626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1000" y="4029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5868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2160" y="55800"/>
            <a:ext cx="1011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étodos 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9400" y="911160"/>
            <a:ext cx="4569120" cy="124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cerca de los métodos vaginal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diafragma es una pieza flexible de goma que impide que los espermatozoides entren en el útero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espermicidas vienen en forma de gel, crema, tableta espumante, supositorio, espuma o película soluble, que mata a los espermatozoid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mbos métodos los inserta la mujer en su vagina antes de las relaciones sexuales. No interrumpen el acto sexual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7080" y="2706840"/>
            <a:ext cx="504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spermicid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n menos efectivos que otros mé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ofrecen protección contra las ITS o el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7080" y="3710160"/>
            <a:ext cx="517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afrag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 ser un método efectivo si se usa correctamente cada v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ecesita un examen pélvico para determinar el tamaño apropi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posible que ofrezca protección contra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gunas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080" y="1147680"/>
            <a:ext cx="482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ben colocarse en la vagina cada vez antes de tener relaciones sex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7080" y="1636560"/>
            <a:ext cx="4868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gunas/os usuarios sufren efectos secund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141640"/>
            <a:ext cx="4537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n provocar una sensación de su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902400">
            <a:off x="4760640" y="2077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1000" y="88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9040" y="6143760"/>
            <a:ext cx="437040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 Elección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72160" y="6858000"/>
            <a:ext cx="135396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07880" y="457200"/>
            <a:ext cx="790200" cy="331920"/>
            <a:chOff x="407880" y="457200"/>
            <a:chExt cx="790200" cy="33192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71240" y="50652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07880" y="45720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 rot="902400">
            <a:off x="4760640" y="3323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-114480"/>
            <a:ext cx="9907560" cy="6858000"/>
            <a:chOff x="0" y="-114480"/>
            <a:chExt cx="9907560" cy="6858000"/>
          </a:xfrm>
        </p:grpSpPr>
        <p:sp>
          <p:nvSpPr>
            <p:cNvPr id="258" name=""/>
            <p:cNvSpPr/>
            <p:nvPr/>
          </p:nvSpPr>
          <p:spPr>
            <a:xfrm>
              <a:off x="6095880" y="1866600"/>
              <a:ext cx="3200400" cy="31244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-114480"/>
              <a:ext cx="9907560" cy="1125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MEL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étodo de Amenorrea de Lacta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7800" y="2781000"/>
              <a:ext cx="4114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0520" y="1239480"/>
              <a:ext cx="5713560" cy="41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un método anticonceptivo basado en la lactancia mater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ELA significa amamantar con frecuencia,  día y noche, y darle al bebé muy poco o nada de otros aliment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un método efectivo durante los primeros seis meses después del par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La leche materna es el mejor alimento para el beb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No ofrece protección contra las ITS o el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35080" y="5473440"/>
              <a:ext cx="5334120" cy="1270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Desea saber más acerca del MELA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228600" y="554328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6629400" y="2019240"/>
              <a:ext cx="2244600" cy="336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10228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una condición médica que haga que el embarazo sea peligr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Quién puede y quién no pue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sar los métodos vag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317196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Y si está pensando acerca del diafragma, dígame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040" y="1724040"/>
            <a:ext cx="44960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 usar los métodos vaginales en forma seg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1522600">
            <a:off x="4933800" y="1479240"/>
            <a:ext cx="4792680" cy="1558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2000" y="2876400"/>
            <a:ext cx="52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ero, en general, no se debe usar los ESPERMICIDAS o el DIAFRAGMA con espermicida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766000">
            <a:off x="398520" y="381924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7360" y="3827520"/>
            <a:ext cx="730080" cy="126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25720" y="5076720"/>
            <a:ext cx="39891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más de una pareja sexual o su pareja tiene relaciones sexuales con otras personas (alto ries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ontra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 VI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3211560" y="377028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44760" y="3875040"/>
            <a:ext cx="1121040" cy="12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91360" y="400212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 tenido recientemente un parto o un ab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916600" y="3840840"/>
            <a:ext cx="1300320" cy="1212120"/>
            <a:chOff x="5916600" y="3840840"/>
            <a:chExt cx="1300320" cy="1212120"/>
          </a:xfrm>
        </p:grpSpPr>
        <p:sp>
          <p:nvSpPr>
            <p:cNvPr id="89" name=""/>
            <p:cNvSpPr/>
            <p:nvPr/>
          </p:nvSpPr>
          <p:spPr>
            <a:xfrm rot="741000">
              <a:off x="6000480" y="3951000"/>
              <a:ext cx="1131840" cy="9111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6188040" y="4019400"/>
              <a:ext cx="7365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7326360" y="5186520"/>
            <a:ext cx="2576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alérgica al lá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 tenido alguna vez el síndrome de choque tóx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328440" y="5005800"/>
            <a:ext cx="999720" cy="1418040"/>
            <a:chOff x="6328440" y="5005800"/>
            <a:chExt cx="999720" cy="1418040"/>
          </a:xfrm>
        </p:grpSpPr>
        <p:sp>
          <p:nvSpPr>
            <p:cNvPr id="93" name=""/>
            <p:cNvSpPr/>
            <p:nvPr/>
          </p:nvSpPr>
          <p:spPr>
            <a:xfrm rot="369000">
              <a:off x="6397200" y="5047920"/>
              <a:ext cx="861840" cy="13334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480000" y="5098680"/>
              <a:ext cx="571680" cy="13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557680" y="1474920"/>
            <a:ext cx="3333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320" y="2333520"/>
            <a:ext cx="526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una condición médica que haga que el embarazo sea peligr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220760"/>
            <a:ext cx="56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La mayoría de las mujeres pueden usar los métodos vaginales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n forma segura.</a:t>
            </a:r>
            <a:r>
              <a:rPr b="1" lang="es-ES_tradnl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ero, en general, no se debe usar los ESPERMICIDAS o 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el DIAFRAGMA con espermicida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876400"/>
            <a:ext cx="538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más de una pareja sexual o su pareja tiene relaciones sexuales con otras persona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(alto riesgo de contraer VI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645000"/>
            <a:ext cx="52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55940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a tenido recientemente un parto o un ab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4827600"/>
            <a:ext cx="5645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alérgica al lá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a tenido alguna vez el síndrome de choque tó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05360"/>
            <a:ext cx="990900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440" y="3762360"/>
            <a:ext cx="4044960" cy="93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 se debe esperar de 6 a 12 semanas después del parto o después de un aborto del segundo trimestre para medir el diafragma, dependiendo del momento en que el útero y el cuello uterino vuelvan a su forma y tamaño norm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440" y="4745160"/>
            <a:ext cx="404496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No debe usar un diafragma de lát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6440" y="5176800"/>
            <a:ext cx="404496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 no debe usar un diafrag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440" y="2862360"/>
            <a:ext cx="404496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Los espermicidas NO deben usarse si la mujer corre un alto riesgo de contraer el VI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e desconoce el grado de efectividad de un diafragma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n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spermicid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3280" y="5950080"/>
            <a:ext cx="411624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no puede usar los métodos vaginales: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760" y="5978520"/>
            <a:ext cx="4471920" cy="866880"/>
          </a:xfrm>
          <a:prstGeom prst="downArrowCallout">
            <a:avLst>
              <a:gd name="adj1" fmla="val 515911"/>
              <a:gd name="adj2" fmla="val 2579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puede usar el méto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 para hablar acerca del diafragma o a la página MV4 para hablar acerca de los espermic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5200" y="23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520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328600">
            <a:off x="5295960" y="4449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08560" y="4819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1160" y="5157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0"/>
            <a:ext cx="990900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Quién puede y quién no puede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usar los método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520" y="17784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120" y="6444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933720"/>
            <a:ext cx="52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Y si está pensando usar el DIAFRAGMA, dígame si us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6440" y="1490760"/>
            <a:ext cx="4044960" cy="13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Las condiciones medicas que hacen que el embarazo sea peligroso incluyen la hipertensión arterial, diabetes, enfermedad cardiovascular, accidente cerebrovacular, algunos cánceres, ITS incluido el VIH/SIDA, enfermedad hepática, anemia, tuberculosi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Un método más efectivo puede ser más apropiado para mujeres que presentan estos problemas de salu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080" y="549900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44520" y="547560"/>
            <a:ext cx="790200" cy="331920"/>
            <a:chOff x="344520" y="547560"/>
            <a:chExt cx="790200" cy="331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407880" y="59688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44520" y="54756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69040" y="1268280"/>
            <a:ext cx="25354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Después de la relación sexu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Deje el diafragma en su sitio por AL MENOS 6 horas pero NO MÁS DE 24 hor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ra retirarlo, deslice suavemente un dedo debajo del borde y tire del diafragma hacia abajo y hacia afue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" y="2708280"/>
            <a:ext cx="219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lique suficiente crema o jalea espermicida dentro del diafragma  y alrededor del bor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9600" y="2421000"/>
            <a:ext cx="21510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esione el diafragma de manera que se toquen los bordes de ambos lados y empuje el diafragma en la vagina lo más adentro posi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4600" y="3860640"/>
            <a:ext cx="24480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Toque el diafragma para asegurarse de que cubre el cuello uterin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360" y="5589720"/>
            <a:ext cx="554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TAMBIÉN: Con cada acto sexual adicional, use un aplicador para insertar más espermicida en la vagina. NO retire el diafragm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3200" y="1197000"/>
            <a:ext cx="2605320" cy="38736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1197000"/>
            <a:ext cx="2133720" cy="38624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5200" y="1197000"/>
            <a:ext cx="2211480" cy="38750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95840" y="1197000"/>
            <a:ext cx="2338200" cy="38624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Cómo usar el diafrag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Le gustaría usar este método </a:t>
            </a: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y ver si le agrada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63800" y="1341360"/>
            <a:ext cx="1600200" cy="99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2160" y="11206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1135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7720" y="1125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232240" y="1255680"/>
            <a:ext cx="1332000" cy="2552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12840" y="143352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718160" y="1322280"/>
            <a:ext cx="170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oque el diafragma para asegurarse de que cubre el cuello ute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1322280"/>
            <a:ext cx="1868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lique suficiente crema o jalea espermicida en el diafragma y alrededor del bo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e aproximadamente una cucharada de jalea o cr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51800" y="3645000"/>
            <a:ext cx="3001680" cy="1444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ídese de no rasgar el diafragma al retirar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ve el diafragma con agua limpia y un jabón suave después de cada u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vise el diafragma en busca de orificios colocándolo a contraluz o llenándolo con agu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que el diafragma y si es posible guárdelo en un sitio limpio, fresco y oscur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920" y="46195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 cada acto sexual adicional, use un aplicador para insertar más espermicida en la vagina.  No retire el diafrag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pués de la relación sexu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je el diafragma en su sitio por AL MENOS 6 horas pero NO MÁS DE 2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retirarlo, deslice suavemente un dedo debajo del borde y tire del diafragma hacia abajo y hacia afu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64240" y="3645000"/>
            <a:ext cx="1569960" cy="131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segúrese de que puede palpar el cuello uterino al tocar la cúpula del diafragma, el cual se siente como la punta de la nari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cómo usar el diafragma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6240" y="6093000"/>
            <a:ext cx="4343400" cy="685800"/>
          </a:xfrm>
          <a:prstGeom prst="downArrowCallout">
            <a:avLst>
              <a:gd name="adj1" fmla="val 633392"/>
              <a:gd name="adj2" fmla="val 31666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se a la página siguiente para hablar acerca de los espermicidas si es neces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hable más acerca del diafragma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8440" y="1093680"/>
            <a:ext cx="1949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sione el diafragma de manera que se toquen los bordes de ambos lados y empuje el diafragma en la vagina lo más adentro po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ómo usar el diafrag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5760" y="10098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2520" y="1000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0" y="10000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0480" y="1000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983800" y="5553000"/>
            <a:ext cx="576000" cy="468360"/>
            <a:chOff x="8983800" y="5553000"/>
            <a:chExt cx="576000" cy="468360"/>
          </a:xfrm>
        </p:grpSpPr>
        <p:sp>
          <p:nvSpPr>
            <p:cNvPr id="167" name=""/>
            <p:cNvSpPr/>
            <p:nvPr/>
          </p:nvSpPr>
          <p:spPr>
            <a:xfrm>
              <a:off x="8983800" y="5553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9123480" y="5678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-11916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7080" y="5457960"/>
            <a:ext cx="17524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2920" y="2700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9520" y="-8640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53880" y="404640"/>
            <a:ext cx="790200" cy="331920"/>
            <a:chOff x="353880" y="404640"/>
            <a:chExt cx="790200" cy="33192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17240" y="45396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353880" y="40464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ómo usar los esperm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43960" y="2225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lícula solu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360" y="22068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abletas o suposit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746840" y="1166760"/>
            <a:ext cx="1226880" cy="1019160"/>
            <a:chOff x="7746840" y="1166760"/>
            <a:chExt cx="1226880" cy="1019160"/>
          </a:xfrm>
        </p:grpSpPr>
        <p:sp>
          <p:nvSpPr>
            <p:cNvPr id="180" name=""/>
            <p:cNvSpPr/>
            <p:nvPr/>
          </p:nvSpPr>
          <p:spPr>
            <a:xfrm rot="21522600">
              <a:off x="7819560" y="1179000"/>
              <a:ext cx="1143000" cy="993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746840" y="1258920"/>
              <a:ext cx="1143000" cy="91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567760" y="1240200"/>
            <a:ext cx="1393560" cy="1021320"/>
            <a:chOff x="5567760" y="1240200"/>
            <a:chExt cx="1393560" cy="1021320"/>
          </a:xfrm>
        </p:grpSpPr>
        <p:sp>
          <p:nvSpPr>
            <p:cNvPr id="183" name=""/>
            <p:cNvSpPr/>
            <p:nvPr/>
          </p:nvSpPr>
          <p:spPr>
            <a:xfrm rot="21522600">
              <a:off x="5578560" y="1255320"/>
              <a:ext cx="1371600" cy="9907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654880" y="1473120"/>
              <a:ext cx="12952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1522600">
            <a:off x="3378240" y="112500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" y="2787480"/>
            <a:ext cx="752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erte antes de tener relaciones sexual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hasta una hora 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erte en el fondo de la vagina usando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licador o los de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lave la vagina por al menos 6 horas despué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s relaciones sex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 es posible, almacene en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gar fresco y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994120" y="5072040"/>
            <a:ext cx="4303080" cy="1611360"/>
            <a:chOff x="2994120" y="5072040"/>
            <a:chExt cx="4303080" cy="1611360"/>
          </a:xfrm>
        </p:grpSpPr>
        <p:sp>
          <p:nvSpPr>
            <p:cNvPr id="189" name=""/>
            <p:cNvSpPr/>
            <p:nvPr/>
          </p:nvSpPr>
          <p:spPr>
            <a:xfrm>
              <a:off x="3354120" y="5072040"/>
              <a:ext cx="3943080" cy="145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</a:t>
              </a: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Le gustaría usar este método </a:t>
              </a: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y ver si le agrad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2994120" y="5737320"/>
              <a:ext cx="121896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7110360" y="2752560"/>
            <a:ext cx="1873440" cy="2670120"/>
            <a:chOff x="7110360" y="2752560"/>
            <a:chExt cx="1873440" cy="2670120"/>
          </a:xfrm>
        </p:grpSpPr>
        <p:sp>
          <p:nvSpPr>
            <p:cNvPr id="192" name=""/>
            <p:cNvSpPr/>
            <p:nvPr/>
          </p:nvSpPr>
          <p:spPr>
            <a:xfrm rot="21522600">
              <a:off x="7279920" y="2787120"/>
              <a:ext cx="1676520" cy="24130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7110360" y="2752560"/>
              <a:ext cx="1673280" cy="267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523800" y="1341360"/>
            <a:ext cx="175284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24120" y="1128600"/>
            <a:ext cx="9572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lienta entiende cómo usar los espermicidas?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yuda a evitar que las tabletas espumantes se derrita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6118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6118200"/>
            <a:ext cx="3886200" cy="58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e más acerca de los espermicidas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ómo usar los espermic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7080" y="1484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rte antes de tener relaciones sexuales (hasta una hora a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080" y="23256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rte en el fondo de la vagina usando un aplicador o los de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80" y="3141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lave la vagina por al menos 6 horas después de tener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7080" y="40705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es posible, almacene en un lugar fresco y se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0760" y="1413000"/>
            <a:ext cx="4073760" cy="160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Con las tabletas, los supositorios y la película solubl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ben insertarse al menos unos 10 minutos antes de tener relaciones sexu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i usa película soluble, dóblela por la mitad e insértela con los dedos secos, colocándola cerca del cuello uterino.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Con la espu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gite bien el recipiente, antes de aplic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156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055080" y="5560920"/>
            <a:ext cx="576000" cy="468360"/>
            <a:chOff x="9055080" y="5560920"/>
            <a:chExt cx="576000" cy="468360"/>
          </a:xfrm>
        </p:grpSpPr>
        <p:sp>
          <p:nvSpPr>
            <p:cNvPr id="211" name=""/>
            <p:cNvSpPr/>
            <p:nvPr/>
          </p:nvSpPr>
          <p:spPr>
            <a:xfrm>
              <a:off x="9055080" y="55609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9194760" y="56865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27080" y="551484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520" y="2700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2120" y="-8640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3880" y="414360"/>
            <a:ext cx="790200" cy="331920"/>
            <a:chOff x="353880" y="414360"/>
            <a:chExt cx="790200" cy="33192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417240" y="46368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353880" y="41436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45880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368136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39212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40" y="1628640"/>
            <a:ext cx="5257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ecesita más espermici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diafragma se endurece, se desgasta o tiene ori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sted o su pareja tienen alguna reacción adversa  (picazón, erupción o irrit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ente dolor al or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374184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943600" y="261144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16560" y="375444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365960" y="3687840"/>
            <a:ext cx="1746360" cy="1800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794120" y="1476360"/>
            <a:ext cx="1752840" cy="858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2280" y="525780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576440"/>
            <a:ext cx="4523040" cy="74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fórmele dónde puede reabastecerse, ya sea en la clínica o en una farmac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 importante que consiga más espermicida antes de que se le term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438360"/>
            <a:ext cx="452304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uede deberse al espermicida o al látex, o podría ser una infección o vaginit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uede ser necesario cambiar de marca de espermicida o cambiar de méto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594320"/>
            <a:ext cx="4523040" cy="3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 una señal de infección en el tracto urin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462040"/>
            <a:ext cx="4523040" cy="7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os diafragmas deben reemplazar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demás, los diafragmas deben medirse de nuevo después de un parto o un abort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5867280"/>
            <a:ext cx="7543800" cy="90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Tiene plena confianza de que puede usar este método satisfactoriamente?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Hay algo que pueda repetir o explicar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 o de respaldo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el método cada vez que tenga relaciones sexual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760" y="544500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33920" y="1792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33920" y="2674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33920" y="3649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33920" y="463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7080" y="455616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iente dolor al or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440"/>
            <a:ext cx="990612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980480" y="5942160"/>
            <a:ext cx="576000" cy="468000"/>
            <a:chOff x="7980480" y="5942160"/>
            <a:chExt cx="576000" cy="468000"/>
          </a:xfrm>
        </p:grpSpPr>
        <p:sp>
          <p:nvSpPr>
            <p:cNvPr id="246" name=""/>
            <p:cNvSpPr/>
            <p:nvPr/>
          </p:nvSpPr>
          <p:spPr>
            <a:xfrm>
              <a:off x="7980480" y="594216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120160" y="606744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114480" y="32608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ted o su pareja tienen alguna reacción adversa (picazón, erupción, irrit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480" y="2443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iafragma se endurece, desgasta o tiene ori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480" y="172260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ecesita más espermici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520" y="103320"/>
            <a:ext cx="1143000" cy="761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2120" y="2808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3600" y="506520"/>
            <a:ext cx="790200" cy="331560"/>
            <a:chOff x="363600" y="506520"/>
            <a:chExt cx="790200" cy="33156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426960" y="555840"/>
              <a:ext cx="7268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363600" y="506520"/>
              <a:ext cx="398520" cy="18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10T08:51:06Z</cp:lastPrinted>
  <dcterms:modified xsi:type="dcterms:W3CDTF">2006-10-20T13:50:06Z</dcterms:modified>
  <cp:revision>482</cp:revision>
  <dc:subject/>
  <dc:title>No Slide Title</dc:title>
</cp:coreProperties>
</file>