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09560" y="746280"/>
            <a:ext cx="537696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F56C-FC2C-4B9B-AD19-2AE81BBD3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Levonorgestrel-only ECPs are readily available in the country programme, can remove references to combined estrogen-progestogen ECPs (since they are less effective and cause more nausea and vomiting)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ternative images of ECPs are contained in the adaptation CD Rom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ossible addition: guidance on use of combined oral contraceptive pills (COCs) for emergency contraception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any relevant referral inform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ormation on length of use refers to Copper IUD. Adapt text for other IUD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709560" y="746280"/>
            <a:ext cx="5376960" cy="3722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nformation applies to Copper-releasing IUDs. The image is of a Copper T IUD. If different types of IUD are used, then these pages may need to be adapted (including both images and technical information)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200" spc="-1" strike="noStrike">
                <a:solidFill>
                  <a:srgbClr val="ff66cc"/>
                </a:solidFill>
                <a:latin typeface="Arial"/>
              </a:rPr>
              <a:t>adaptation CD R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an alternate file for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vonorgestrel-releasing (hormonal) IU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06A-7C2D-4673-8CC1-9E3ADCE9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FB6-1A3B-424A-9D8F-779C0CE2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321-B75F-467E-B728-9D733D3B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2EF-004A-4BAC-82E4-11EEB3FB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B1D-72FC-4AF5-8977-D61B2D84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431-24AC-467C-AC13-7A04034F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3A68-D57A-4EDB-BF2F-07676B93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2BE-C01C-4673-937B-9EA3AB9F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2D9-E1A9-4D7F-9A16-F647006E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E5B-0580-417A-8CC9-E53AA635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8937-1765-441E-8304-174CB19B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8AC-1353-42DB-B74A-7DB7C92B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5BC5-07BB-4635-A861-878E6FE5B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756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La anticoncepción de emergencia (AE)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01440"/>
            <a:ext cx="39196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isten métodos seguro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evitar el embarazo después de haber tenido relaciones sexuales sin prot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28520" y="44280"/>
            <a:ext cx="1368360" cy="752760"/>
            <a:chOff x="128520" y="44280"/>
            <a:chExt cx="1368360" cy="752760"/>
          </a:xfrm>
        </p:grpSpPr>
        <p:sp>
          <p:nvSpPr>
            <p:cNvPr id="51" name=""/>
            <p:cNvSpPr/>
            <p:nvPr/>
          </p:nvSpPr>
          <p:spPr>
            <a:xfrm>
              <a:off x="128520" y="44280"/>
              <a:ext cx="1368360" cy="7527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8520" y="44280"/>
              <a:ext cx="13683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concepción</a:t>
              </a:r>
              <a:br>
                <a:rPr sz="1200"/>
              </a:b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emerg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11160" y="2421000"/>
            <a:ext cx="3892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158040" indent="-158040">
              <a:lnSpc>
                <a:spcPct val="100000"/>
              </a:lnSpc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Cuánto tiempo hace que tuvo relaciones sexuales sin protecc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2880" y="5589720"/>
            <a:ext cx="1852920" cy="307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2880" y="342900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No hace más de 5 dí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4381560"/>
            <a:ext cx="4292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Hace más de 5 días?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000" y="4937040"/>
            <a:ext cx="364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145800" indent="-14580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Es posible que se haya expuesto a ITS o al VIH/SIDA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08600" y="2927520"/>
            <a:ext cx="5770440" cy="69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Píldoras de anticoncepción de emergencia:</a:t>
            </a:r>
            <a:r>
              <a:rPr b="0" lang="es-ES" sz="11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lienta debe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tomar las píldoras lo antes posible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después de la relación sexual sin protección. Éstas pueden tomarse hasta cinco días después de la relación sexual. Vea la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ágina sigui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08600" y="4608360"/>
            <a:ext cx="5770440" cy="247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roporciónele orientación según sea apropi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8600" y="880920"/>
            <a:ext cx="5770440" cy="66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Esto puede sucederle a cualquiera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mita que la clienta le cuente su situación si ella así lo dese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frézcale apoyo sin juzgarla.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08600" y="1587600"/>
            <a:ext cx="5770440" cy="129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72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lienta puede considerar el uso de AE s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usó un método anticoncept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só un método incorrectamente (por ejemplo, se olvidó de tomar píldoras, se ha retrasado en las inyeccion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método le falló (por ejemplo, el condón se rompió, expulsó el DIU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lla responde “sí” a cualquiera de las preguntas del Apéndice 1, probablemente no estaba en un momento fértil y por lo tanto no necesitará la AE. Sin embargo, si le preocupa la posibilidad de estar en riesgo de embarazo, puede usar la AE de todas form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053280" y="979560"/>
            <a:ext cx="635040" cy="468360"/>
            <a:chOff x="9053280" y="979560"/>
            <a:chExt cx="635040" cy="468360"/>
          </a:xfrm>
        </p:grpSpPr>
        <p:sp>
          <p:nvSpPr>
            <p:cNvPr id="65" name=""/>
            <p:cNvSpPr/>
            <p:nvPr/>
          </p:nvSpPr>
          <p:spPr>
            <a:xfrm flipH="1">
              <a:off x="9052920" y="979560"/>
              <a:ext cx="61308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9068760" y="987840"/>
              <a:ext cx="61956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4008600" y="3666960"/>
            <a:ext cx="5770440" cy="898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IU de cobre para anticoncepción de emergencia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más eficaz que las píldoras, pero las mujeres que corren riesgo de contraer ITS no debieran usarlo (ver la página DIU2 en la sección del DIU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bién puede usarse hasta 5 días después del coito sin protección (ver la página AE4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una elección acertada para aquellas mujeres que desean continuar usando el DI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08600" y="4900680"/>
            <a:ext cx="5770440" cy="896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uvo relaciones sexuales sin protección en circunstancias propicias para la transmisión del VIH o de las ITS, ofrézcale e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e de inmediato l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filaxis post exposición (PPE) al VIH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(dentro de 72 horas) y, si está disponible, el tratamiento de una presunta ITS. En caso de no disponer de estos tratamientos, refiera a la clienta a otro centro asistencial donde pueda recibir orientación, apoyo y tratamien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27280" y="9223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20594400">
            <a:off x="3516120" y="3216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759800">
            <a:off x="3492000" y="44830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422000">
            <a:off x="3513240" y="36921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49798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5867280"/>
            <a:ext cx="9909000" cy="1014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La clienta desea usar la anticoncepción de emergenci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8240" y="6151680"/>
            <a:ext cx="3962520" cy="693720"/>
          </a:xfrm>
          <a:prstGeom prst="downArrowCallout">
            <a:avLst>
              <a:gd name="adj1" fmla="val 571251"/>
              <a:gd name="adj2" fmla="val 285599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obtener información acerca de la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íldoras de A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vaya a l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9160" y="6886440"/>
            <a:ext cx="1620720" cy="438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iconcepción de emergencia (A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-98280" y="5940360"/>
            <a:ext cx="1218960" cy="946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815000" y="6146640"/>
            <a:ext cx="4444920" cy="693720"/>
          </a:xfrm>
          <a:prstGeom prst="downArrowCallout">
            <a:avLst>
              <a:gd name="adj1" fmla="val 640795"/>
              <a:gd name="adj2" fmla="val 32036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obtener información sobre el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U de cobre para anticoncepción de emergenci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vaya a la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ágina AE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E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67760" y="5699160"/>
            <a:ext cx="576000" cy="468360"/>
            <a:chOff x="9167760" y="5699160"/>
            <a:chExt cx="576000" cy="468360"/>
          </a:xfrm>
        </p:grpSpPr>
        <p:sp>
          <p:nvSpPr>
            <p:cNvPr id="81" name=""/>
            <p:cNvSpPr/>
            <p:nvPr/>
          </p:nvSpPr>
          <p:spPr>
            <a:xfrm>
              <a:off x="9167760" y="56991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5"/>
            <a:stretch/>
          </p:blipFill>
          <p:spPr>
            <a:xfrm>
              <a:off x="9307440" y="58248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8520" y="1177560"/>
            <a:ext cx="5943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be tomarlas lo antes posible después de haber tenido relaciones sexuales sin  prote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 provocan un abor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ueden ocasionar náuseas, vómito, manchado o sangr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 evitan el embarazo la próxima vez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que tenga relaciones sexu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 son para usarse regular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-360" y="-360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íldoras anticonceptivas de emerg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139360" y="1458000"/>
            <a:ext cx="4550760" cy="4807800"/>
            <a:chOff x="5139360" y="1458000"/>
            <a:chExt cx="4550760" cy="4807800"/>
          </a:xfrm>
        </p:grpSpPr>
        <p:sp>
          <p:nvSpPr>
            <p:cNvPr id="86" name=""/>
            <p:cNvSpPr/>
            <p:nvPr/>
          </p:nvSpPr>
          <p:spPr>
            <a:xfrm rot="21468000">
              <a:off x="7635960" y="4348080"/>
              <a:ext cx="1866960" cy="129384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042400">
              <a:off x="5410080" y="4114440"/>
              <a:ext cx="1905120" cy="16765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1232200">
              <a:off x="6172200" y="1626840"/>
              <a:ext cx="3276720" cy="20574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6184800" y="1981080"/>
              <a:ext cx="3505320" cy="17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7551720" y="4751280"/>
              <a:ext cx="2049480" cy="13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5718240" y="4199040"/>
              <a:ext cx="1206360" cy="20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680"/>
            <a:ext cx="9907560" cy="97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íldoras anticonceptivas d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emergencia (P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1240" y="1023840"/>
            <a:ext cx="5232240" cy="1498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La clienta debe </a:t>
            </a:r>
            <a:r>
              <a:rPr b="1" i="1" lang="es-ES" sz="1100" spc="-1" strike="noStrike">
                <a:solidFill>
                  <a:srgbClr val="ff3300"/>
                </a:solidFill>
                <a:latin typeface="Arial"/>
              </a:rPr>
              <a:t>tomar las píldoras lo antes posible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 haber tenido relaciones sexuales sin la protección de un método anticonceptivo, idealmente dentro de las siguientes 72 horas (3 días).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píldoras pueden tomarse hasta dentro de 120 horas (5 días) después de la relación sexual, pero se vuelven menos efectivas cada día que pa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uvo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otra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relaciones sexuales en ausencia de un método anticonceptivo después de la fecha de su último período, es posible que ya esté embarazada y entonces las PAE no funcionarían. Si toma las PAE estando embarazada, no perjudican su embarazo.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a clienta debiera regresar si su siguiente período se retrasa más de una sema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0" y="11606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005800">
            <a:off x="3935520" y="43448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238000">
            <a:off x="4065480" y="50846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21360"/>
            <a:ext cx="9909000" cy="836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6084720"/>
            <a:ext cx="4228920" cy="736920"/>
          </a:xfrm>
          <a:prstGeom prst="downArrowCallout">
            <a:avLst>
              <a:gd name="adj1" fmla="val 573917"/>
              <a:gd name="adj2" fmla="val 28693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la cliente decide usar las PA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trégueselas y vaya a l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49720" y="6089760"/>
            <a:ext cx="4210200" cy="726840"/>
          </a:xfrm>
          <a:prstGeom prst="downArrowCallout">
            <a:avLst>
              <a:gd name="adj1" fmla="val 579301"/>
              <a:gd name="adj2" fmla="val 28962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información acerca del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U de cobre para anticoncepción de emergenci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aya a la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ágina AE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21240" y="5394240"/>
            <a:ext cx="5232240" cy="546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Hable acerca de: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PAE no evitan el embarazo en actos sexuales futuros.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Vea la página siguiente para obtener información sobre protección continu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PAE son menos eficaces que la mayoría de los métodos más comu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1136520"/>
            <a:ext cx="3504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62000"/>
          </a:bodyPr>
          <a:p>
            <a:pPr marL="106200" indent="-1062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be tomarlas lo antes posible después de haber tenido relaciones sexuales sin prot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8520" y="450864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79000"/>
          </a:bodyPr>
          <a:p>
            <a:pPr marL="135360" indent="-13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evitan el embarazo la próxima vez que tenga relacione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5360" indent="-1353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0160" y="5373720"/>
            <a:ext cx="422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son para usarse regular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8520" y="3645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70000"/>
          </a:bodyPr>
          <a:p>
            <a:pPr marL="119880" indent="-119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n ocasionar náuseas, vómito, manchado o san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8520" y="3398760"/>
            <a:ext cx="4788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provocan un abor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21240" y="3917880"/>
            <a:ext cx="5232240" cy="43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Las PAE evitan el embarazo y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no provocan un aborto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”.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 función principal es impedir la ovulación (ver los Apéndices 4 y 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21240" y="4424400"/>
            <a:ext cx="5232240" cy="901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la clienta toma píldoras combinadas de estrógeno y progestágeno, también puede tomar medicamentos para evitar las náuseas (clorhidrato de meclizin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vomita en las dos horas posteriores a haber tomado las PAE, debe regresar por otra dosis lo antes posib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posible que tenga manchado o sangrado unos días después de tomar las píldora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E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49400">
            <a:off x="3936600" y="3701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113760" y="5437080"/>
            <a:ext cx="576000" cy="468360"/>
            <a:chOff x="9113760" y="5437080"/>
            <a:chExt cx="576000" cy="468360"/>
          </a:xfrm>
        </p:grpSpPr>
        <p:sp>
          <p:nvSpPr>
            <p:cNvPr id="111" name=""/>
            <p:cNvSpPr/>
            <p:nvPr/>
          </p:nvSpPr>
          <p:spPr>
            <a:xfrm>
              <a:off x="9113760" y="54370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9253440" y="55627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4098960" y="54133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8520" y="44280"/>
            <a:ext cx="1368360" cy="752760"/>
            <a:chOff x="128520" y="44280"/>
            <a:chExt cx="1368360" cy="752760"/>
          </a:xfrm>
        </p:grpSpPr>
        <p:sp>
          <p:nvSpPr>
            <p:cNvPr id="115" name=""/>
            <p:cNvSpPr/>
            <p:nvPr/>
          </p:nvSpPr>
          <p:spPr>
            <a:xfrm>
              <a:off x="128520" y="44280"/>
              <a:ext cx="1368360" cy="7527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8520" y="44280"/>
              <a:ext cx="13683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concepción</a:t>
              </a:r>
              <a:br>
                <a:rPr sz="1200"/>
              </a:b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emerg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257040" y="5719680"/>
            <a:ext cx="1852920" cy="3081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21240" y="2570040"/>
            <a:ext cx="5232240" cy="1289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PAE de Levonorgestrel sol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n más efectivas y ocasionan menos náuseas y vómito que los anticonceptivos combinados de estrógeno y progestáge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Dosis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Tome una sola dosis de 1.5 mg de levonorgestr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PAE combinadas de estrógeno-progestágen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Úselas si no dispone de las píldoras de levonorgestrel so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Dosis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me dos dosis de 100 mcg de etinil estradiol más 0,5 mg de levonorgestrel, con 12 horas de diferencia entre toma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3240"/>
            <a:ext cx="9907560" cy="6797520"/>
            <a:chOff x="0" y="3240"/>
            <a:chExt cx="9907560" cy="6797520"/>
          </a:xfrm>
        </p:grpSpPr>
        <p:sp>
          <p:nvSpPr>
            <p:cNvPr id="122" name=""/>
            <p:cNvSpPr/>
            <p:nvPr/>
          </p:nvSpPr>
          <p:spPr>
            <a:xfrm rot="19867800">
              <a:off x="5638680" y="1752120"/>
              <a:ext cx="3657600" cy="27432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3240"/>
              <a:ext cx="9907560" cy="101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¿</a:t>
              </a: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Necesita protección continua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0120" y="1981080"/>
              <a:ext cx="445788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rmAutofit/>
            </a:bodyPr>
            <a:p>
              <a:pPr marL="177840" indent="-177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" y="1052640"/>
              <a:ext cx="6056280" cy="43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pPr marL="187200" indent="-187200">
                <a:lnSpc>
                  <a:spcPct val="100000"/>
                </a:lnSpc>
                <a:spcBef>
                  <a:spcPts val="1100"/>
                </a:spcBef>
                <a:spcAft>
                  <a:spcPts val="5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ff3300"/>
                  </a:solidFill>
                  <a:latin typeface="Arial"/>
                </a:rPr>
                <a:t>Por favor consider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100"/>
                </a:spcBef>
                <a:spcAft>
                  <a:spcPts val="550"/>
                </a:spcAft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¿Podría tener otra vez relaciones sexuales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  sin protección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100"/>
                </a:spcBef>
                <a:spcAft>
                  <a:spcPts val="550"/>
                </a:spcAft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¿Necesita doble protección para el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  embarazo y las ITS/VIH/SIDA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100"/>
                </a:spcBef>
                <a:spcAft>
                  <a:spcPts val="550"/>
                </a:spcAft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¿Puede usted siempre decidir cuándo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  tener relaciones sexuales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100"/>
                </a:spcBef>
                <a:spcAft>
                  <a:spcPts val="550"/>
                </a:spcAft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¿Tiene un método que usa regularmente? ¿Le satisface ese método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378480" y="1752480"/>
              <a:ext cx="252900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057400" y="5346720"/>
              <a:ext cx="4876920" cy="1193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Desea saber cuáles son sus opciones de planificación familiar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1828800" y="5676840"/>
              <a:ext cx="144792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867280"/>
            <a:ext cx="99090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32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Necesita protección contin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0120" y="1981080"/>
            <a:ext cx="4457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1460520"/>
            <a:ext cx="426708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Aft>
                <a:spcPts val="2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vite a la clienta a que le cuente su situ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Aft>
                <a:spcPts val="2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su relato sugiere que estuvo expuesta a las ITS,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fiérala para que reciba tratamiento. Si es apropiado,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nalice el uso de los condo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535120"/>
            <a:ext cx="4267080" cy="55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la clienta corre riesgo de contraer ITS, hable acerca de la doble protección para el embarazo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las ITS/VIH/SIDA. Vaya a la pestaña Doble Prot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429000"/>
            <a:ext cx="4267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se el Apéndice 9 para hablar sobre la comunicación entre la parej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el relato indica que hubo coacción o violencia,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fiérala para que reciba más ayuda si es posible. 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Vea el Apéndice 1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1360" y="1022400"/>
            <a:ext cx="4496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or favor consid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4491000"/>
            <a:ext cx="4267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6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a clienta puede comenzar otro método inmediatamente,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cluidas las píldor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la clienta decide por ahora no usar un método con regularidad, ofrézcale las PAE y condones junto con instrucciones para su us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46680" y="1638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46680" y="35910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46680" y="2673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46680" y="46720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97400" y="6000840"/>
            <a:ext cx="3962520" cy="815760"/>
          </a:xfrm>
          <a:prstGeom prst="downArrowCallout">
            <a:avLst>
              <a:gd name="adj1" fmla="val 485790"/>
              <a:gd name="adj2" fmla="val 24287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obtener información sobre el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U de cobre para anticoncepción de emergenci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vaya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9240" y="5985000"/>
            <a:ext cx="397692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 elige la anticoncepción continua, vaya a la pestaña Elección 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045720" y="1611360"/>
            <a:ext cx="527040" cy="450720"/>
            <a:chOff x="9045720" y="1611360"/>
            <a:chExt cx="527040" cy="450720"/>
          </a:xfrm>
        </p:grpSpPr>
        <p:sp>
          <p:nvSpPr>
            <p:cNvPr id="144" name=""/>
            <p:cNvSpPr/>
            <p:nvPr/>
          </p:nvSpPr>
          <p:spPr>
            <a:xfrm>
              <a:off x="9045720" y="1611360"/>
              <a:ext cx="527040" cy="45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9182160" y="1657080"/>
              <a:ext cx="263880" cy="36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414360" y="2676600"/>
            <a:ext cx="4495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ecesita doble protección para el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mbarazo y las ITS/VIH/SI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4360" y="3500280"/>
            <a:ext cx="4495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Puede usted decidir siempre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cuándo tener relaciones sexua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8120" y="4543560"/>
            <a:ext cx="4495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 un método que usa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regularmente? Le satisface ese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méto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9680" y="1574640"/>
            <a:ext cx="4495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ría tener otra vez relacione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sexuales sin protecc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050040" y="3720960"/>
            <a:ext cx="635040" cy="468360"/>
            <a:chOff x="9050040" y="3720960"/>
            <a:chExt cx="635040" cy="468360"/>
          </a:xfrm>
        </p:grpSpPr>
        <p:sp>
          <p:nvSpPr>
            <p:cNvPr id="153" name=""/>
            <p:cNvSpPr/>
            <p:nvPr/>
          </p:nvSpPr>
          <p:spPr>
            <a:xfrm flipH="1">
              <a:off x="9049680" y="3720960"/>
              <a:ext cx="61308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9065520" y="3729240"/>
              <a:ext cx="61956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128520" y="44280"/>
            <a:ext cx="1368360" cy="752760"/>
            <a:chOff x="128520" y="44280"/>
            <a:chExt cx="1368360" cy="752760"/>
          </a:xfrm>
        </p:grpSpPr>
        <p:sp>
          <p:nvSpPr>
            <p:cNvPr id="156" name=""/>
            <p:cNvSpPr/>
            <p:nvPr/>
          </p:nvSpPr>
          <p:spPr>
            <a:xfrm>
              <a:off x="128520" y="44280"/>
              <a:ext cx="1368360" cy="7527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8520" y="44280"/>
              <a:ext cx="13683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concepción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emerg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271440" y="5573880"/>
            <a:ext cx="1852560" cy="307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6480"/>
            <a:ext cx="9907560" cy="12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U de cobre par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nticoncepción de emerg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9760" y="1509840"/>
            <a:ext cx="5079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rmAutofit fontScale="98000"/>
          </a:bodyPr>
          <a:p>
            <a:pPr marL="174240" indent="-17424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uede usarlo si tuvo relaciones sexuales sin la protección de un método anticonceptivo en los últimos 5 dí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na/un doctor o enfermera pueden insertar el DIU en la matriz. Puede ocasionar dolores abdominal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l DIU puede retirarse posteriormente o dejarse en su sitio como un método de anticoncepción continu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742000" y="999720"/>
            <a:ext cx="4158720" cy="4685040"/>
            <a:chOff x="5742000" y="999720"/>
            <a:chExt cx="4158720" cy="468504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742000" y="2815920"/>
              <a:ext cx="3200400" cy="28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flipH="1">
              <a:off x="7341840" y="2676240"/>
              <a:ext cx="12193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3342000">
              <a:off x="7812000" y="1514160"/>
              <a:ext cx="1958760" cy="13492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8161200" y="1468440"/>
              <a:ext cx="1138320" cy="163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72520" y="1385640"/>
            <a:ext cx="49150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rmAutofit/>
          </a:bodyPr>
          <a:p>
            <a:pPr marL="177840" indent="-177840">
              <a:lnSpc>
                <a:spcPct val="105000"/>
              </a:lnSpc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usarlo si tuvo relacione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xuales sin la protección de un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étodo anticonceptivo en los último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 d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/un doctor o enfermera pueden insertar el DIU en la matriz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ocasionar dolores abdomin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DIU puede retirarse posteriormente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puede dejarse en su sitio com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étodo de anticoncepción continu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852640"/>
            <a:ext cx="475308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/>
          </a:bodyPr>
          <a:p>
            <a:pPr marL="177840" indent="-177840">
              <a:lnSpc>
                <a:spcPct val="95000"/>
              </a:lnSpc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680"/>
            <a:ext cx="99075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U de cobre par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nticoncepción de emerg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878440"/>
            <a:ext cx="99090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57240" y="6039000"/>
            <a:ext cx="6577200" cy="63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la clienta decide usar el DIU de cobre para anticoncepción de emergencia, vaya a la pestaña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U de Cobr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ra verificar la elegibilidad médica para su uso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ágina DIU2) y para obtener información acerca de su inser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38880" y="3213000"/>
            <a:ext cx="4267080" cy="1497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lienta puede continuar usándolo como un método anticonceptivo a largo plazo, siempre y cuando cumpla con los criterios médicos de elegibilidad necesarios; o bien, se le puede retirar en cualquier momen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se mantiene en su sitio, el DIU puede seguir funcionando hasta por 10 añ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l DIU de emergencia no logra evitar el embarazo, el dispositivo deberá retirar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29040" y="40006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19680" y="1857240"/>
            <a:ext cx="361800" cy="304920"/>
          </a:xfrm>
          <a:prstGeom prst="rightArrow">
            <a:avLst>
              <a:gd name="adj1" fmla="val 44444"/>
              <a:gd name="adj2" fmla="val 4614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38880" y="1557360"/>
            <a:ext cx="4257720" cy="149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uy efectivo; más efectivo que las PA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puede calcular el momento de la ovulación de la clienta, también puede insertarle el DIU más de 5 días después de que ella haya tenido relaciones sexuales sin protección; siempre que la inserción no se haga más de 5 días después de la ovula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No se ha hecho investigación sobre el mecanismo de acción del DIU cuando se usa para la anticoncepción de emergenc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E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8520" y="44280"/>
            <a:ext cx="1368360" cy="752760"/>
            <a:chOff x="128520" y="44280"/>
            <a:chExt cx="1368360" cy="752760"/>
          </a:xfrm>
        </p:grpSpPr>
        <p:sp>
          <p:nvSpPr>
            <p:cNvPr id="179" name=""/>
            <p:cNvSpPr/>
            <p:nvPr/>
          </p:nvSpPr>
          <p:spPr>
            <a:xfrm>
              <a:off x="128520" y="44280"/>
              <a:ext cx="1368360" cy="7527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8520" y="44280"/>
              <a:ext cx="13683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concepción</a:t>
              </a:r>
              <a:br>
                <a:rPr sz="1200"/>
              </a:b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emerg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257040" y="5573880"/>
            <a:ext cx="1852920" cy="307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-3240"/>
            <a:ext cx="10177200" cy="6861240"/>
            <a:chOff x="0" y="-3240"/>
            <a:chExt cx="10177200" cy="6861240"/>
          </a:xfrm>
        </p:grpSpPr>
        <p:sp>
          <p:nvSpPr>
            <p:cNvPr id="185" name=""/>
            <p:cNvSpPr/>
            <p:nvPr/>
          </p:nvSpPr>
          <p:spPr>
            <a:xfrm>
              <a:off x="0" y="-3240"/>
              <a:ext cx="9910800" cy="1011240"/>
            </a:xfrm>
            <a:prstGeom prst="rect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800" spc="-1" strike="noStrike">
                  <a:solidFill>
                    <a:srgbClr val="000000"/>
                  </a:solidFill>
                  <a:latin typeface="Arial"/>
                </a:rPr>
                <a:t>DIU de cobr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3342000">
              <a:off x="7998480" y="1464120"/>
              <a:ext cx="2057400" cy="1379520"/>
            </a:xfrm>
            <a:prstGeom prst="ellipse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9320" y="5334120"/>
              <a:ext cx="5333760" cy="1269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f3300"/>
                  </a:solidFill>
                  <a:latin typeface="Arial"/>
                </a:rPr>
                <a:t>¿</a:t>
              </a:r>
              <a:r>
                <a:rPr b="1" i="1" lang="es-CR" sz="1800" spc="-1" strike="noStrike">
                  <a:solidFill>
                    <a:srgbClr val="ff0000"/>
                  </a:solidFill>
                  <a:latin typeface="Arial"/>
                </a:rPr>
                <a:t>Desea saber más acerca del DIU o preferiría hablar de otro método</a:t>
              </a:r>
              <a:r>
                <a:rPr b="1" i="1" lang="es-CR" sz="18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992160" y="5734080"/>
              <a:ext cx="144792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6032520" y="2997360"/>
              <a:ext cx="3200400" cy="28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 flipH="1">
              <a:off x="7635960" y="2868480"/>
              <a:ext cx="121896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8337600" y="1414440"/>
              <a:ext cx="1138320" cy="16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74600" y="979560"/>
              <a:ext cx="845028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Dispositivo pequeño que cabe en la matriz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Es muy efectiv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Es efectivo hasta por 10 años, según el tipo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de dispositivo que se us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Se lo podemos retirar cuando usted así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lo dese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Es muy seguro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Puede aumentar el sangrado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o el dolor menstru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No ofrece protección contra las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ITS o el VIH/SI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3:04:27Z</dcterms:created>
  <dc:creator>bpeterson</dc:creator>
  <dc:description/>
  <dc:language>en-US</dc:language>
  <cp:lastModifiedBy>hamillc</cp:lastModifiedBy>
  <cp:lastPrinted>2002-06-14T07:08:54Z</cp:lastPrinted>
  <dcterms:modified xsi:type="dcterms:W3CDTF">2006-10-20T13:41:26Z</dcterms:modified>
  <cp:revision>201</cp:revision>
  <dc:subject/>
  <dc:title>Emergency contraceptive pills</dc:title>
</cp:coreProperties>
</file>