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2117E-AE83-42EE-93AC-0E73A017A7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insert local names of common oil-based and water-based lubrica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842080"/>
            <a:ext cx="9906120" cy="102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¿Desea saber más acerca del condón masculino o preferiría hablar acerca d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1920" y="6143760"/>
            <a:ext cx="3645000" cy="684000"/>
          </a:xfrm>
          <a:prstGeom prst="downArrowCallout">
            <a:avLst>
              <a:gd name="adj1" fmla="val 532943"/>
              <a:gd name="adj2" fmla="val 266447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/l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cliente desea saber más acerca del condón masculin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3200" y="1760400"/>
            <a:ext cx="3954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ge contra el embarazo Y las ITS incluido el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0440" y="1846440"/>
            <a:ext cx="4905360" cy="71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La/el cliente necesita usar condones cuan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esté segura/o si él/ella o su pareja tiene una ITS incluyendo el VIH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/el cliente tenga otras parejas sexuales o no tenga seguridad si su pareja actual ha tenido otras pareja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9800" y="2660760"/>
            <a:ext cx="4896000" cy="60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condones son muy efectivos en la prevención del embarazo, el VIH y otras ITS cuando se usa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ctamente en todas las relaciones sexual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mejor que se usen durante TODO el contacto sexu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9800" y="4278240"/>
            <a:ext cx="4896000" cy="70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vende en muchas tiend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 un poco de experiencia su uso se vuelve muy fáci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mayoría de las parejas descubren que también disfrutan de la relación sexual con los cond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680" y="5541840"/>
            <a:ext cx="17827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6120" cy="83808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condón mascul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87680" y="19144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87680" y="27176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7680" y="44816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800" y="5078520"/>
            <a:ext cx="4896000" cy="70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su pareja no desea usar condones,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Podemos hablar al respecto y practicar lo que usted puede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decirle a su pareja”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actique con la/el cliente cómo debe hablar con su pareja. Use el Apéndice 9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9800" y="3363840"/>
            <a:ext cx="4896000" cy="81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usar otro método de planificación familiar junto con los condones a modo de protección adicional del embarazo (excepto el condón femenin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bién se usan como método de respaldo para otros métodos de planificación familiar (por ejemplo: cuando la mujer se olvida de tomar la píldora o se retrasa con los inyectables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87680" y="35560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" y="2438280"/>
            <a:ext cx="37386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método muy efectivo cuando se usa CADA VEZ que se tiene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200" y="3375000"/>
            <a:ext cx="4572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puede usar como único método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con otro método de planificación famil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200" y="4440240"/>
            <a:ext cx="3949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ácil de conseguir y de u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200" y="4940280"/>
            <a:ext cx="4572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general las parejas necesitan hablar al re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M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778360"/>
            <a:ext cx="85572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79360" y="5911920"/>
            <a:ext cx="1219320" cy="946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55520" y="19440"/>
            <a:ext cx="1143000" cy="762840"/>
            <a:chOff x="155520" y="19440"/>
            <a:chExt cx="1143000" cy="762840"/>
          </a:xfrm>
        </p:grpSpPr>
        <p:sp>
          <p:nvSpPr>
            <p:cNvPr id="66" name=""/>
            <p:cNvSpPr/>
            <p:nvPr/>
          </p:nvSpPr>
          <p:spPr>
            <a:xfrm>
              <a:off x="155520" y="648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7280" y="19440"/>
              <a:ext cx="10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d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1520" y="262080"/>
            <a:ext cx="685800" cy="5140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9170640" y="5097600"/>
            <a:ext cx="597240" cy="468000"/>
            <a:chOff x="9170640" y="5097600"/>
            <a:chExt cx="597240" cy="468000"/>
          </a:xfrm>
        </p:grpSpPr>
        <p:sp>
          <p:nvSpPr>
            <p:cNvPr id="70" name=""/>
            <p:cNvSpPr/>
            <p:nvPr/>
          </p:nvSpPr>
          <p:spPr>
            <a:xfrm flipH="1">
              <a:off x="9170280" y="5097600"/>
              <a:ext cx="576360" cy="46800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9185400" y="5105520"/>
              <a:ext cx="582480" cy="44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4875120" y="884160"/>
            <a:ext cx="4896000" cy="865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Acerca del condón masculin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una funda de goma que recubre el pene durante el acto sex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si todos los hombres pueden usar condones masculinos, aún aquellos con penes de gran tamaño. Sólo los hombres que tienen alergia aguda al látex no pueden usar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1160" y="51912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9360" y="6143760"/>
            <a:ext cx="434196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pestaña de otro método o a la pestaña Elecció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19240" y="6858000"/>
            <a:ext cx="1354320" cy="438120"/>
          </a:xfrm>
          <a:prstGeom prst="rect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dones mascul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1440"/>
            <a:ext cx="9910800" cy="6610320"/>
            <a:chOff x="0" y="1440"/>
            <a:chExt cx="9910800" cy="6610320"/>
          </a:xfrm>
        </p:grpSpPr>
        <p:sp>
          <p:nvSpPr>
            <p:cNvPr id="77" name=""/>
            <p:cNvSpPr/>
            <p:nvPr/>
          </p:nvSpPr>
          <p:spPr>
            <a:xfrm>
              <a:off x="0" y="1440"/>
              <a:ext cx="9910800" cy="1011240"/>
            </a:xfrm>
            <a:prstGeom prst="rect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ómo se usa el condó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1440" y="3425760"/>
              <a:ext cx="1728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un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ón nuevo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ara cada acto sex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55880" y="3425760"/>
              <a:ext cx="2173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oque el condón en la cabeza del pene </a:t>
              </a:r>
              <a:br>
                <a:rPr sz="1600"/>
              </a:b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 el borde enrollado en dirección contraria 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 cuer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48280" y="3425760"/>
              <a:ext cx="1539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enrolle el condón totalmente 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ta la base del p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30920" y="3425760"/>
              <a:ext cx="226692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pués de la eyaculación, 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stenga el borde del condón para que no se deslice y retire el pene de la vagina mientras que todavía esté erec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0440" y="3425760"/>
              <a:ext cx="15242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eche debidamente el condón us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5320" y="5170320"/>
              <a:ext cx="4262400" cy="1162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¿Está preparada/o para elegir este métod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74560" y="5537160"/>
              <a:ext cx="13716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52280" y="5519880"/>
              <a:ext cx="866880" cy="109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"/>
            <p:cNvGrpSpPr/>
            <p:nvPr/>
          </p:nvGrpSpPr>
          <p:grpSpPr>
            <a:xfrm>
              <a:off x="336600" y="1395360"/>
              <a:ext cx="1446120" cy="1962360"/>
              <a:chOff x="336600" y="1395360"/>
              <a:chExt cx="1446120" cy="1962360"/>
            </a:xfrm>
          </p:grpSpPr>
          <p:pic>
            <p:nvPicPr>
              <p:cNvPr id="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4600" y="1484280"/>
                <a:ext cx="1338120" cy="1873440"/>
              </a:xfrm>
              <a:prstGeom prst="rect">
                <a:avLst/>
              </a:prstGeom>
              <a:ln w="9360">
                <a:solidFill>
                  <a:srgbClr val="00cc99"/>
                </a:solidFill>
                <a:miter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36600" y="1395360"/>
                <a:ext cx="56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cc99"/>
                    </a:solidFill>
                    <a:latin typeface="Wingdings"/>
                    <a:ea typeface="Wingdings"/>
                  </a:rPr>
                  <a:t>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273400" y="1355760"/>
              <a:ext cx="1459800" cy="2014560"/>
              <a:chOff x="2273400" y="1355760"/>
              <a:chExt cx="1459800" cy="201456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2352600" y="1465560"/>
                <a:ext cx="1380600" cy="1904760"/>
                <a:chOff x="2352600" y="1465560"/>
                <a:chExt cx="1380600" cy="19047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352600" y="1465560"/>
                  <a:ext cx="1372680" cy="190476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28920" y="1513080"/>
                  <a:ext cx="130428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3" name=""/>
              <p:cNvSpPr/>
              <p:nvPr/>
            </p:nvSpPr>
            <p:spPr>
              <a:xfrm>
                <a:off x="2273400" y="1355760"/>
                <a:ext cx="59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cc99"/>
                    </a:solidFill>
                    <a:latin typeface="Wingdings"/>
                    <a:ea typeface="Wingdings"/>
                  </a:rPr>
                  <a:t>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202280" y="1355760"/>
              <a:ext cx="1454040" cy="2014560"/>
              <a:chOff x="4202280" y="1355760"/>
              <a:chExt cx="1454040" cy="201456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4284720" y="1465560"/>
                <a:ext cx="1371600" cy="1904760"/>
                <a:chOff x="4284720" y="1465560"/>
                <a:chExt cx="1371600" cy="1904760"/>
              </a:xfrm>
            </p:grpSpPr>
            <p:pic>
              <p:nvPicPr>
                <p:cNvPr id="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360680" y="1465560"/>
                  <a:ext cx="1295640" cy="1904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>
                  <a:off x="4284720" y="1465560"/>
                  <a:ext cx="1371600" cy="190476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4202280" y="1355760"/>
                <a:ext cx="59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cc99"/>
                    </a:solidFill>
                    <a:latin typeface="Wingdings"/>
                    <a:ea typeface="Wingdings"/>
                  </a:rPr>
                  <a:t>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76880" y="1370160"/>
              <a:ext cx="1426680" cy="1981080"/>
              <a:chOff x="6176880" y="1370160"/>
              <a:chExt cx="1426680" cy="19810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230880" y="1465560"/>
                <a:ext cx="1372680" cy="1885680"/>
                <a:chOff x="6230880" y="1465560"/>
                <a:chExt cx="1372680" cy="1885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230880" y="1465560"/>
                  <a:ext cx="1372680" cy="1885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07200" y="1508040"/>
                  <a:ext cx="1296360" cy="1828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3" name=""/>
              <p:cNvSpPr/>
              <p:nvPr/>
            </p:nvSpPr>
            <p:spPr>
              <a:xfrm>
                <a:off x="6176880" y="1370160"/>
                <a:ext cx="59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cc99"/>
                    </a:solidFill>
                    <a:latin typeface="Wingdings"/>
                    <a:ea typeface="Wingdings"/>
                  </a:rPr>
                  <a:t>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8139240" y="1374840"/>
              <a:ext cx="1353960" cy="1995480"/>
              <a:chOff x="8139240" y="1374840"/>
              <a:chExt cx="1353960" cy="1995480"/>
            </a:xfrm>
          </p:grpSpPr>
          <p:pic>
            <p:nvPicPr>
              <p:cNvPr id="10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31400" y="1465560"/>
                <a:ext cx="1261800" cy="1904760"/>
              </a:xfrm>
              <a:prstGeom prst="rect">
                <a:avLst/>
              </a:prstGeom>
              <a:ln w="9360">
                <a:solidFill>
                  <a:srgbClr val="00cc99"/>
                </a:solidFill>
                <a:miter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8139240" y="1374840"/>
                <a:ext cx="59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cc99"/>
                    </a:solidFill>
                    <a:latin typeface="Wingdings"/>
                    <a:ea typeface="Wingdings"/>
                  </a:rPr>
                  <a:t>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440"/>
            <a:ext cx="991080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Cómo se usa el cond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43760" y="2446200"/>
            <a:ext cx="1876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pués de la eyaculación,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osteng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borde del condón para que no se deslice y retire el pene de la vagina mientras que todavía está er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7080" y="244620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un condón nuev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para cada acto sex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7080" y="3573360"/>
            <a:ext cx="1992240" cy="150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spcAft>
                <a:spcPts val="2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Abra el paquete cuidadosamen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2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Verifique la fecha  de vencimiento o de fabrica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2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SimSun"/>
              </a:rPr>
              <a:t>Los condones no deben usarse después de 3 años de su fecha de fabricació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817200" y="3179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68960" y="4832280"/>
            <a:ext cx="1841400" cy="763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Aléjese de su pareja primer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No derrame semen en la abertura de la vagin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6792480" y="4303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2880" y="244620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enrolle el condón totalment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hasta la base del p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73680" y="3853080"/>
            <a:ext cx="2101680" cy="176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Si el condón no se desenrolla fácilmente, puede que esté colocado al revés o que sea muy viejo.  Si es viejo, deséchelo y use un condón nuevo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Pueden usarse lubricantes (a base de agua y no a base de aceite) y deben usarse durante el sexo an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696920" y="3423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67680" y="2446200"/>
            <a:ext cx="134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eche debid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condón us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56520" y="3852720"/>
            <a:ext cx="1542960" cy="763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Deséchelo siempre en una papelera o basurero según sea apropia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8651880" y="33530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79560" y="2446200"/>
            <a:ext cx="2239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que el condón e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cabeza del pene 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 el borde enrollado en dirección contrari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 cuer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12920" y="4129200"/>
            <a:ext cx="1658880" cy="113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Aft>
                <a:spcPts val="2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Póngase el condón antes de que el pene toque la vagin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2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Si no está circuncidado, tire del prepucio para atrá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2831760" y="36925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715000"/>
            <a:ext cx="99090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¿La/el cliente entiende cómo se usan los condones? ¿Se encuentra preparada/o para usar este método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6095880"/>
            <a:ext cx="3811680" cy="685800"/>
          </a:xfrm>
          <a:prstGeom prst="downArrowCallout">
            <a:avLst>
              <a:gd name="adj1" fmla="val 555851"/>
              <a:gd name="adj2" fmla="val 277900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es así,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pase 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1880" y="6095880"/>
            <a:ext cx="364644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no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able más acerca del condón o considere el uso d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38520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5778360"/>
            <a:ext cx="855720" cy="10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1440" y="5911920"/>
            <a:ext cx="1219320" cy="9460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55520" y="21240"/>
            <a:ext cx="1143000" cy="762840"/>
            <a:chOff x="155520" y="21240"/>
            <a:chExt cx="1143000" cy="762840"/>
          </a:xfrm>
        </p:grpSpPr>
        <p:grpSp>
          <p:nvGrpSpPr>
            <p:cNvPr id="130" name=""/>
            <p:cNvGrpSpPr/>
            <p:nvPr/>
          </p:nvGrpSpPr>
          <p:grpSpPr>
            <a:xfrm>
              <a:off x="155520" y="21240"/>
              <a:ext cx="1143000" cy="762840"/>
              <a:chOff x="155520" y="21240"/>
              <a:chExt cx="1143000" cy="762840"/>
            </a:xfrm>
          </p:grpSpPr>
          <p:sp>
            <p:nvSpPr>
              <p:cNvPr id="131" name=""/>
              <p:cNvSpPr/>
              <p:nvPr/>
            </p:nvSpPr>
            <p:spPr>
              <a:xfrm>
                <a:off x="155520" y="6660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7280" y="21240"/>
                <a:ext cx="104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do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371520" y="263520"/>
              <a:ext cx="685800" cy="5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308800" y="992160"/>
            <a:ext cx="1009800" cy="1447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08800" y="992160"/>
            <a:ext cx="1067040" cy="1447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29600" y="9129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99"/>
                </a:solidFill>
                <a:latin typeface="Wingdings"/>
                <a:ea typeface="Wingdings"/>
              </a:rPr>
              <a:t>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497640" y="992160"/>
            <a:ext cx="1135080" cy="1447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497640" y="992160"/>
            <a:ext cx="1144440" cy="1447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26360" y="9129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99"/>
                </a:solidFill>
                <a:latin typeface="Wingdings"/>
                <a:ea typeface="Wingdings"/>
              </a:rPr>
              <a:t>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311720" y="992160"/>
            <a:ext cx="1087200" cy="1447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311720" y="992160"/>
            <a:ext cx="1066680" cy="1447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27480" y="91764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99"/>
                </a:solidFill>
                <a:latin typeface="Wingdings"/>
                <a:ea typeface="Wingdings"/>
              </a:rPr>
              <a:t>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2470320" y="992160"/>
            <a:ext cx="1033200" cy="1447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5400" y="992160"/>
            <a:ext cx="1068120" cy="1447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54400" y="91764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99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992160"/>
            <a:ext cx="1066680" cy="1447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542880" y="992160"/>
            <a:ext cx="981000" cy="1447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880" y="917640"/>
            <a:ext cx="5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99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10680" y="5330880"/>
            <a:ext cx="576000" cy="468360"/>
            <a:chOff x="8410680" y="5330880"/>
            <a:chExt cx="576000" cy="468360"/>
          </a:xfrm>
        </p:grpSpPr>
        <p:sp>
          <p:nvSpPr>
            <p:cNvPr id="150" name=""/>
            <p:cNvSpPr/>
            <p:nvPr/>
          </p:nvSpPr>
          <p:spPr>
            <a:xfrm>
              <a:off x="8410680" y="5330880"/>
              <a:ext cx="57600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9"/>
            <a:stretch/>
          </p:blipFill>
          <p:spPr>
            <a:xfrm>
              <a:off x="8607240" y="5427720"/>
              <a:ext cx="190080" cy="2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9058320" y="5330880"/>
            <a:ext cx="576000" cy="468360"/>
            <a:chOff x="9058320" y="5330880"/>
            <a:chExt cx="576000" cy="468360"/>
          </a:xfrm>
        </p:grpSpPr>
        <p:sp>
          <p:nvSpPr>
            <p:cNvPr id="153" name=""/>
            <p:cNvSpPr/>
            <p:nvPr/>
          </p:nvSpPr>
          <p:spPr>
            <a:xfrm>
              <a:off x="9058320" y="53308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0"/>
            <a:stretch/>
          </p:blipFill>
          <p:spPr>
            <a:xfrm>
              <a:off x="9198000" y="54565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571680" y="5435640"/>
            <a:ext cx="17827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534520" y="1549440"/>
            <a:ext cx="1268280" cy="9208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55920"/>
            <a:ext cx="32767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2750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se un condón CADA VEZ que tenga relaciones sexu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750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segúrese de tener siempre u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uministro suficiente de cond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750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i el condó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 rompe,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onsidere usar la anticoncepción de emergencia lo antes po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1337200">
            <a:off x="2057400" y="4140360"/>
            <a:ext cx="1219320" cy="9903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1337200">
            <a:off x="3200400" y="2971800"/>
            <a:ext cx="1676520" cy="91440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1337200">
            <a:off x="3798720" y="4220640"/>
            <a:ext cx="1981440" cy="91440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337200">
            <a:off x="3295440" y="1557360"/>
            <a:ext cx="2209680" cy="12193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06720" y="1484280"/>
            <a:ext cx="2235240" cy="1368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00400" y="2971800"/>
            <a:ext cx="1863720" cy="944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871800" y="4221000"/>
            <a:ext cx="2057400" cy="1043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8191440" y="3301920"/>
            <a:ext cx="1208160" cy="1447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724360" y="1438200"/>
            <a:ext cx="245448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3438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se lubricantes a base de agua sol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4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lmacene los condones lejos de la luz directa del sol y del ca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2575080" y="4221000"/>
            <a:ext cx="900000" cy="1043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38360" y="450864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43880" y="2065320"/>
            <a:ext cx="1268280" cy="9208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7805880" y="2060640"/>
            <a:ext cx="896760" cy="1173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8717040" y="1511280"/>
            <a:ext cx="944640" cy="1197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567400" y="5468760"/>
            <a:ext cx="411624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3160" y="2666880"/>
            <a:ext cx="46479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 el condón se rompe, considere usar la anticoncepción de emergencia lo antes po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3160" y="1036800"/>
            <a:ext cx="46479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se un condón CADA VEZ que tenga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95800" y="909720"/>
            <a:ext cx="46576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Necesitará usar un condón CADA VEZ que tenga una relación sexual, para protegerse efectivamente del embarazo y de las ITS”.</a:t>
            </a:r>
            <a:r>
              <a:rPr b="1" lang="es-ES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Los condones no se pueden reutilizar.</a:t>
            </a:r>
            <a:r>
              <a:rPr b="1" lang="es-E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be usar un condón nuevo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para cada acto sex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no puede usar un condón cada vez, 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idere usar también otro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método de planificación familia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95800" y="2397240"/>
            <a:ext cx="4657680" cy="200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condones rara vez se rompen cuando se usan correctam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os condones se le rompen a menudo, asegúrese de que no estén dañados o sean viejos. Revise las instrucciones para su uso correcto. Pruebe también los condones lubricados; o bien, use agua o lubricantes a base de agua en la parte exterior del cond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los use si un paquete sin abrir está roto o gotea o si el condón está rese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frezca píldoras anticonceptivas de emergenci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a las mujeres para que lleven a casa en caso de que un condón se rompa o se despla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y los clientes que hayan estado expuestos al VIH o ITS también pueden necesitar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filaxis post-exposición (PPE) al VIH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o tratamiento de una presunta I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3160" y="5084640"/>
            <a:ext cx="39859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macene los condones lejos de la luz directa del sol y del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5240" y="1065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89640" y="2978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035760"/>
            <a:ext cx="9909000" cy="83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51080" y="6093000"/>
            <a:ext cx="7157880" cy="69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Se siente satisfecha/o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con la elección de este método?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Desea que le explique o repita algo? ¡Por favor regrese cuando así lo desee!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Último y más importante mensaje: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Use un condón cada vez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7920" y="5749920"/>
            <a:ext cx="1820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95800" y="5646600"/>
            <a:ext cx="4657680" cy="34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uz directa del sol y el calor pueden debilitar los condones y éstos pueden romper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753200">
            <a:off x="4593960" y="5513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160" y="1930320"/>
            <a:ext cx="46479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egúrese de tener siempre un suministro suficiente de cond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95800" y="2031840"/>
            <a:ext cx="46576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Obtenga más condones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de que se le termine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3160" y="4460760"/>
            <a:ext cx="46479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se lubricantes a base de agua sol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95800" y="4452840"/>
            <a:ext cx="4657680" cy="113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aceites debilitan los condones y por lo tanto pueden romperse. Evite usar materiales a base de aceites tales como el aceite de cocinar, aceite de bebé, aceite de coco, sustancias a base de petróleo, mantequill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materiales a base de agua son adecuados. Entre ellos se encuentran la glicerina, ciertos lubricantes comerciales o agua limp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orme a la/el cliente si los condones que le está ofreciendo son lubricados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 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5240" y="20606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5240" y="45036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M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55520" y="14760"/>
            <a:ext cx="1143000" cy="762840"/>
            <a:chOff x="155520" y="14760"/>
            <a:chExt cx="1143000" cy="762840"/>
          </a:xfrm>
        </p:grpSpPr>
        <p:grpSp>
          <p:nvGrpSpPr>
            <p:cNvPr id="195" name=""/>
            <p:cNvGrpSpPr/>
            <p:nvPr/>
          </p:nvGrpSpPr>
          <p:grpSpPr>
            <a:xfrm>
              <a:off x="155520" y="14760"/>
              <a:ext cx="1143000" cy="762840"/>
              <a:chOff x="155520" y="14760"/>
              <a:chExt cx="1143000" cy="762840"/>
            </a:xfrm>
          </p:grpSpPr>
          <p:sp>
            <p:nvSpPr>
              <p:cNvPr id="196" name=""/>
              <p:cNvSpPr/>
              <p:nvPr/>
            </p:nvSpPr>
            <p:spPr>
              <a:xfrm>
                <a:off x="155520" y="6012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7280" y="14760"/>
                <a:ext cx="104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ndo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371520" y="257040"/>
              <a:ext cx="68580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7746840" y="6216480"/>
            <a:ext cx="576000" cy="468360"/>
            <a:chOff x="7746840" y="6216480"/>
            <a:chExt cx="576000" cy="468360"/>
          </a:xfrm>
        </p:grpSpPr>
        <p:sp>
          <p:nvSpPr>
            <p:cNvPr id="200" name=""/>
            <p:cNvSpPr/>
            <p:nvPr/>
          </p:nvSpPr>
          <p:spPr>
            <a:xfrm>
              <a:off x="7746840" y="62164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7886520" y="63421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1440"/>
            <a:ext cx="9907560" cy="6816600"/>
            <a:chOff x="0" y="1440"/>
            <a:chExt cx="9907560" cy="6816600"/>
          </a:xfrm>
        </p:grpSpPr>
        <p:sp>
          <p:nvSpPr>
            <p:cNvPr id="203" name=""/>
            <p:cNvSpPr/>
            <p:nvPr/>
          </p:nvSpPr>
          <p:spPr>
            <a:xfrm rot="21337200">
              <a:off x="7423200" y="2133360"/>
              <a:ext cx="1873080" cy="205740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El condón femenin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280" y="1095480"/>
              <a:ext cx="5334120" cy="57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marL="290520" indent="-290520">
                <a:lnSpc>
                  <a:spcPct val="100000"/>
                </a:lnSpc>
                <a:spcBef>
                  <a:spcPts val="16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Ayuda a proteger contra el embarazo y las ITS/VIH/S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0520" indent="-290520">
                <a:lnSpc>
                  <a:spcPct val="100000"/>
                </a:lnSpc>
                <a:spcBef>
                  <a:spcPts val="16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Es un método efectivo cuando se usa CADA VEZ que se tiene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relaciones sexu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0520" indent="-290520">
                <a:lnSpc>
                  <a:spcPct val="100000"/>
                </a:lnSpc>
                <a:spcBef>
                  <a:spcPts val="16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Puede usarse único método o con otros métodos de planificación familia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0520" indent="-290520">
                <a:lnSpc>
                  <a:spcPct val="90000"/>
                </a:lnSpc>
                <a:spcBef>
                  <a:spcPts val="16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Puede ser car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0520" indent="-290520">
                <a:lnSpc>
                  <a:spcPct val="90000"/>
                </a:lnSpc>
                <a:spcBef>
                  <a:spcPts val="16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o inserta la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mujer pero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usualmente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necesita hablar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al respecto con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su parej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13520" y="2300400"/>
              <a:ext cx="889200" cy="236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"/>
            <p:cNvGrpSpPr/>
            <p:nvPr/>
          </p:nvGrpSpPr>
          <p:grpSpPr>
            <a:xfrm>
              <a:off x="2552400" y="4678200"/>
              <a:ext cx="1384920" cy="1600200"/>
              <a:chOff x="2552400" y="4678200"/>
              <a:chExt cx="1384920" cy="1600200"/>
            </a:xfrm>
          </p:grpSpPr>
          <p:sp>
            <p:nvSpPr>
              <p:cNvPr id="208" name=""/>
              <p:cNvSpPr/>
              <p:nvPr/>
            </p:nvSpPr>
            <p:spPr>
              <a:xfrm rot="21337200">
                <a:off x="2597040" y="4749480"/>
                <a:ext cx="1295280" cy="1219320"/>
              </a:xfrm>
              <a:prstGeom prst="ellipse">
                <a:avLst/>
              </a:prstGeom>
              <a:solidFill>
                <a:srgbClr val="f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1400" y="4678200"/>
                <a:ext cx="103824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"/>
            <p:cNvGrpSpPr/>
            <p:nvPr/>
          </p:nvGrpSpPr>
          <p:grpSpPr>
            <a:xfrm>
              <a:off x="4905360" y="2413080"/>
              <a:ext cx="1885680" cy="1253880"/>
              <a:chOff x="4905360" y="2413080"/>
              <a:chExt cx="1885680" cy="1253880"/>
            </a:xfrm>
          </p:grpSpPr>
          <p:sp>
            <p:nvSpPr>
              <p:cNvPr id="211" name=""/>
              <p:cNvSpPr/>
              <p:nvPr/>
            </p:nvSpPr>
            <p:spPr>
              <a:xfrm rot="21337200">
                <a:off x="4976640" y="2479320"/>
                <a:ext cx="1779480" cy="977760"/>
              </a:xfrm>
              <a:prstGeom prst="ellipse">
                <a:avLst/>
              </a:prstGeom>
              <a:solidFill>
                <a:srgbClr val="f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905360" y="2552760"/>
                <a:ext cx="182088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3" name=""/>
            <p:cNvSpPr/>
            <p:nvPr/>
          </p:nvSpPr>
          <p:spPr>
            <a:xfrm>
              <a:off x="4762440" y="4971960"/>
              <a:ext cx="4899240" cy="1479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Desea saber más acerca del condón femenino o preferiría hablar acerca de otro método</a:t>
              </a:r>
              <a:r>
                <a:rPr b="1" i="1" lang="en-GB" sz="18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>
              <a:off x="4495680" y="5524560"/>
              <a:ext cx="144792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15:18:44Z</dcterms:created>
  <dc:creator>Church</dc:creator>
  <dc:description/>
  <dc:language>en-US</dc:language>
  <cp:lastModifiedBy>hamillc</cp:lastModifiedBy>
  <cp:lastPrinted>2003-07-13T11:19:50Z</cp:lastPrinted>
  <dcterms:modified xsi:type="dcterms:W3CDTF">2006-10-20T09:48:19Z</dcterms:modified>
  <cp:revision>159</cp:revision>
  <dc:subject/>
  <dc:title>No Slide Title</dc:title>
</cp:coreProperties>
</file>