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1360" y="744120"/>
            <a:ext cx="5378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64CAA2-BFCB-4A25-B1BD-03DCE8BC67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vasectomy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“No-Scalpel Vasectomy” is commonly available, adapt guidance in this sectio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common terminology in the country for female sterilization? If wording is changed here, the terminology used in other sections of the tool will need to be chang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referral from the family planning service to other facilities is necessary, relevan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tion can be added 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age on the right shows a “No-Scapel” puncture. Can adapt guidance and images to commonly-used procedu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uidance can be adapted to local context. For example, if procedure is always done in hospital; or if stitches are commonly used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vasectomy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vasectomy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sectomía para los homb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280" y="939960"/>
            <a:ext cx="4038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procedimiento quirúrgico senc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2338560"/>
            <a:ext cx="4876560" cy="12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n general no es rever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or favor piénselo detenidamente. ¿Es posible que quiera tener más hijos en el futuro? ¿Qué pasaría si no pudiera tener más hijo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gunte al cliente acerca de las preferencias o inquietudes de su parej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considerar la esterilización femenina. Sin embargo, la vasectomía es un procedimiento más simple y seguro, y es un poco más efecti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602160"/>
            <a:ext cx="487656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o de los métodos de planificación familiar más efectiv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o su efectividad no es inmediata. El cliente debe usar condones o la pareja debe usar un método efectivo por 3 meses después del procedimiento.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¿Le sería esto difícil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5386320"/>
            <a:ext cx="4876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0000"/>
                </a:solidFill>
                <a:latin typeface="Arial"/>
              </a:rPr>
              <a:t>Para protegerse contra las ITS/VIH/SIDA,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Desea saber más acerca de la vasectomía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l cliente desea saber más acerca de la vasectomía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549900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0040" y="1031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0040" y="3583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0040" y="2332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06800">
            <a:off x="4251240" y="46051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94400">
            <a:off x="4280040" y="4175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876920" y="4392720"/>
            <a:ext cx="4876560" cy="928440"/>
            <a:chOff x="4876920" y="4392720"/>
            <a:chExt cx="4876560" cy="928440"/>
          </a:xfrm>
        </p:grpSpPr>
        <p:sp>
          <p:nvSpPr>
            <p:cNvPr id="58" name=""/>
            <p:cNvSpPr/>
            <p:nvPr/>
          </p:nvSpPr>
          <p:spPr>
            <a:xfrm>
              <a:off x="4876920" y="4392720"/>
              <a:ext cx="4876560" cy="92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Averigüe si tiene inquietudes o ha oído rumores:</a:t>
              </a:r>
              <a:br>
                <a:rPr sz="1000"/>
              </a:br>
              <a:r>
                <a:rPr b="0" i="1" lang="es-ES" sz="1000" spc="-1" strike="noStrike">
                  <a:solidFill>
                    <a:srgbClr val="000000"/>
                  </a:solidFill>
                  <a:latin typeface="Arial"/>
                </a:rPr>
                <a:t>“¿Qué ha oído acerca de la vasectomía?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Explique los mitos más comune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 una castración. Después puede tener erecciones y eyaculacione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afecta la masculinidad. NO hace a los hombres más femenin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9055080" y="4451400"/>
              <a:ext cx="576360" cy="468360"/>
              <a:chOff x="9055080" y="4451400"/>
              <a:chExt cx="576360" cy="468360"/>
            </a:xfrm>
          </p:grpSpPr>
          <p:sp>
            <p:nvSpPr>
              <p:cNvPr id="60" name=""/>
              <p:cNvSpPr/>
              <p:nvPr/>
            </p:nvSpPr>
            <p:spPr>
              <a:xfrm>
                <a:off x="9055080" y="4451400"/>
                <a:ext cx="576360" cy="468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204480" y="4498920"/>
                <a:ext cx="288720" cy="384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6280" y="2197080"/>
            <a:ext cx="40388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ermanente. Es para hombres que no desean tener más hi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280" y="335916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muy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6280" y="3887640"/>
            <a:ext cx="2008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muy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360" y="4494240"/>
            <a:ext cx="3665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afecta la capacidad sex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60" y="4954680"/>
            <a:ext cx="4038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frece protección contra las ITS 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9800" y="995400"/>
            <a:ext cx="487692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cerca de la vasectomí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nciona impidiendo que los espermatozoides pasen al semen. Los conductos que los transportan son cort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hombre permanece despierto durante el procedimiento y recibe una inyección para el dolor (anestésico local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general, el hombre puede regresar a casa en unas hor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posible que duela por unos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6880" y="18000"/>
            <a:ext cx="1171440" cy="766080"/>
            <a:chOff x="146880" y="18000"/>
            <a:chExt cx="1171440" cy="766080"/>
          </a:xfrm>
        </p:grpSpPr>
        <p:sp>
          <p:nvSpPr>
            <p:cNvPr id="7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88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5045040" y="6143760"/>
            <a:ext cx="4256280" cy="60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Métod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872400"/>
            <a:ext cx="1353960" cy="4381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asectom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06800">
            <a:off x="4251240" y="51717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4931640" y="1927440"/>
            <a:ext cx="5197320" cy="3888720"/>
            <a:chOff x="4931640" y="1927440"/>
            <a:chExt cx="5197320" cy="3888720"/>
          </a:xfrm>
        </p:grpSpPr>
        <p:sp>
          <p:nvSpPr>
            <p:cNvPr id="216" name=""/>
            <p:cNvSpPr/>
            <p:nvPr/>
          </p:nvSpPr>
          <p:spPr>
            <a:xfrm rot="20988600">
              <a:off x="5168520" y="2320560"/>
              <a:ext cx="4722840" cy="31021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5791320" y="2259000"/>
              <a:ext cx="3697200" cy="333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Esterilización femen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920" y="1028880"/>
            <a:ext cx="5759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 procedimiento quirúr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 extrae el útero. Seguirá teniendo la menstru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permanente. Es para mujeres que no desean tener más h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muy ef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 método muy segu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tiene efectos secundarios a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ofrece protección contra las IT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 el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51800" y="1168920"/>
            <a:ext cx="28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Las trompas se cortan aquí o se bloqu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183080" y="2057400"/>
            <a:ext cx="1655640" cy="1371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119800" y="2057400"/>
            <a:ext cx="718920" cy="1371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37840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Desea saber más acerca de la esterilización femenina o preferiría hablar sobre otro método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33520" y="5657760"/>
            <a:ext cx="1447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21522600">
            <a:off x="3466800" y="135216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176200">
            <a:off x="5257440" y="4289400"/>
            <a:ext cx="2593800" cy="1882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ándo puede realizarse la vasect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505320"/>
            <a:ext cx="5456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Pero necesitarán esperar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ienen problemas en los genitales, tales como infección, hinchazón, lesiones, nódulos en el pene o en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escro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gún otro problema grave o infe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417680"/>
            <a:ext cx="3276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En la mayoría de los hombres se puede hacer</a:t>
            </a: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 una vasectomía en cualquier mo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90800" y="1504800"/>
            <a:ext cx="4553280" cy="2152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6920" y="4076640"/>
            <a:ext cx="1136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1440"/>
            <a:ext cx="990756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uando puede realizarse la vasectomí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2895480"/>
            <a:ext cx="4114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0840" y="1341360"/>
            <a:ext cx="480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la mayoría de los hombres se puede hacer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 una vasectomía en cualquier m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409840"/>
            <a:ext cx="4267440" cy="121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Aplace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(hasta que se resuelva el problema) si el cliente presenta una ITS; inflamación en la cabeza del pene, los conductos espermáticos o los testículos; infección de la piel del escroto o nódulos en el escroto. Refiera al cliente para que reciba tratamiento para estos problem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Refiera o tenga precaución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 cualquier otro problema en área geni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444680"/>
            <a:ext cx="4267440" cy="69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No existen condiciones que descarten la vasectomía, pero puede ser que algunos problemas la demoren, que se necesite referir al cliente o tomar precauciones especi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29200" y="3428640"/>
            <a:ext cx="2286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781440"/>
            <a:ext cx="4267440" cy="159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Aplace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(hasta que se resuelva el problema) si el cliente presenta una infección sistémica grave o gastroenteritis agu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Refiera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presenta una enfermedad relacionada con el SIDA o un problema de coagulación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procedimiento debe realizarlo un cirujano con experiencia en clínicas bien equipad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Tenga precaución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padece de diabetes.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procedimiento puede realizarse, pero después debe vigilarse con cuidado la aparición de infecciones en la heri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7080" y="2666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7080" y="390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84520" y="6019920"/>
            <a:ext cx="4735800" cy="62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no se puede hacer la vasectomía ahora o en este servicio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fiéralo a otro servicio según sea neces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19920"/>
            <a:ext cx="3718080" cy="825480"/>
          </a:xfrm>
          <a:prstGeom prst="downArrowCallout">
            <a:avLst>
              <a:gd name="adj1" fmla="val 450456"/>
              <a:gd name="adj2" fmla="val 22520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se puede hacer la vasectomía en este cliente,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40" y="2251080"/>
            <a:ext cx="4800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ero necesitarán esperar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2637000"/>
            <a:ext cx="48006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n problemas en los genitales,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les como infección, hinchazón, lesiones, nódulos en el pene o escr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840" y="3675240"/>
            <a:ext cx="4800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ún otro problema grave o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5440" y="18000"/>
            <a:ext cx="1171440" cy="766080"/>
            <a:chOff x="145440" y="18000"/>
            <a:chExt cx="1171440" cy="766080"/>
          </a:xfrm>
        </p:grpSpPr>
        <p:sp>
          <p:nvSpPr>
            <p:cNvPr id="10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544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27080" y="560376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Antes de tomar una decis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833480"/>
            <a:ext cx="51051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Hablemos so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étodos temporales que también están dispon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vasectomía es un procedimiento quirúr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iene riesgos y benef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mpide tener más h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permanente—debe pensar muy bien su dec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uede cambiar su decisión en cualquier momento antes de la cirugí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2600" y="4924440"/>
            <a:ext cx="4846680" cy="1689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Está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 preparado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para elegir este método? ¿Desea saber más sobre el procedi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1522000">
            <a:off x="5407200" y="1909800"/>
            <a:ext cx="4189320" cy="2281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67200" y="5305320"/>
            <a:ext cx="110340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43720" y="2205000"/>
            <a:ext cx="39621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tomar una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" y="90792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ablemos sob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99000" y="898560"/>
            <a:ext cx="42642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xplique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manera que el cliente entie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bre el método tanto como sea neces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segúres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el cliente ha entendido cada punto tra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9000" y="2644920"/>
            <a:ext cx="4264200" cy="1647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omplicaciones quirúrgicas son poco comunes. Entre ellas se encuentran el sangrado o la inf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número reducido de hombres informan tener dolor en el escroto que dura por meses o añ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Benefic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trata de un procedimiento único y rápido que provee planificación familiar segura y efectiva de por vi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se sabe de ningún riesgo de salud a largo pla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9000" y="4941720"/>
            <a:ext cx="42642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iente no perderá los derechos a otros beneficios o servicios médicos, de salud o de otro tip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99000" y="2262240"/>
            <a:ext cx="4264200" cy="28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a la página siguiente para obtener más detalles.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4368960"/>
            <a:ext cx="4264200" cy="47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iente debe estar muy seguro de que no desea tener más hij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no ser el método más indicado para clientes jóve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38680"/>
            <a:ext cx="990612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segúrese de qu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cliente entiende todos los temas tratados y luego pregúntele qué ha decidid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985000"/>
            <a:ext cx="5191200" cy="841320"/>
          </a:xfrm>
          <a:prstGeom prst="downArrowCallout">
            <a:avLst>
              <a:gd name="adj1" fmla="val 617087"/>
              <a:gd name="adj2" fmla="val 30851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l cliente entiende lo que es la vasectomía y es el método que desea,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xplíquele el formulario de consentimient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si lo hay) y pídale que lo firme.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10360" y="5985000"/>
            <a:ext cx="308592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l cliente decide que no desea una vasectomía, ayúdele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7080" y="3129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746000">
            <a:off x="4800240" y="3947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7080" y="4898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8120" y="159084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s temporales que también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án dispon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8120" y="2201760"/>
            <a:ext cx="473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vasectomía es un procedimiento quirúr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8120" y="280980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riesgos y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120" y="3803760"/>
            <a:ext cx="4114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ide tener más h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5240" y="4122720"/>
            <a:ext cx="479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8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ermanente — debe pensar muy bien su dec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695840"/>
            <a:ext cx="454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8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cambiar de decisión en cualquier momento antes de la ciru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7080" y="2260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457400">
            <a:off x="4806720" y="4406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212400" y="5475240"/>
            <a:ext cx="576000" cy="468360"/>
            <a:chOff x="9212400" y="5475240"/>
            <a:chExt cx="576000" cy="468360"/>
          </a:xfrm>
        </p:grpSpPr>
        <p:sp>
          <p:nvSpPr>
            <p:cNvPr id="133" name=""/>
            <p:cNvSpPr/>
            <p:nvPr/>
          </p:nvSpPr>
          <p:spPr>
            <a:xfrm>
              <a:off x="9212400" y="5475240"/>
              <a:ext cx="57600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9408960" y="5572080"/>
              <a:ext cx="19008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85572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8589960" y="5473800"/>
            <a:ext cx="576000" cy="468360"/>
            <a:chOff x="8589960" y="5473800"/>
            <a:chExt cx="576000" cy="468360"/>
          </a:xfrm>
        </p:grpSpPr>
        <p:sp>
          <p:nvSpPr>
            <p:cNvPr id="138" name=""/>
            <p:cNvSpPr/>
            <p:nvPr/>
          </p:nvSpPr>
          <p:spPr>
            <a:xfrm>
              <a:off x="8589960" y="54738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8729640" y="55994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9128160" y="930240"/>
            <a:ext cx="576000" cy="468360"/>
            <a:chOff x="9128160" y="930240"/>
            <a:chExt cx="576000" cy="468360"/>
          </a:xfrm>
        </p:grpSpPr>
        <p:sp>
          <p:nvSpPr>
            <p:cNvPr id="141" name=""/>
            <p:cNvSpPr/>
            <p:nvPr/>
          </p:nvSpPr>
          <p:spPr>
            <a:xfrm>
              <a:off x="9128160" y="9302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267840" y="10558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145440" y="18000"/>
            <a:ext cx="1171440" cy="766080"/>
            <a:chOff x="145440" y="18000"/>
            <a:chExt cx="1171440" cy="766080"/>
          </a:xfrm>
        </p:grpSpPr>
        <p:sp>
          <p:nvSpPr>
            <p:cNvPr id="144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544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504040" y="1782720"/>
            <a:ext cx="4271760" cy="370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ncione los condones y otros métodos disponibles para la muj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7080" y="18003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080" y="534672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48240" y="1646280"/>
            <a:ext cx="3362400" cy="2550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46720" y="5638680"/>
            <a:ext cx="159372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143000"/>
            <a:ext cx="5790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ted permanecerá despierto y se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e administrará medicamentos para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d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hace una pequeña abertura en el escroto — no doloro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Los conductos que transportan los espermatozoides se cortan y a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cierra la a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Se reposa de 15 a 30 minu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546084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¿Tiene pregun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81880" y="4950720"/>
            <a:ext cx="1812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ó 1 abertura aq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145760"/>
            <a:ext cx="16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 hará 2 aberturas  aq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3047760"/>
            <a:ext cx="304920" cy="114300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010280" y="3047760"/>
            <a:ext cx="609840" cy="114300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381880" y="3580920"/>
            <a:ext cx="76320" cy="129564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610160"/>
            <a:ext cx="5562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be descansar por 2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vitar trabajos pesados por unos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3300"/>
                </a:solidFill>
                <a:latin typeface="Arial"/>
              </a:rPr>
              <a:t>¡Importante!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e condones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urante los próximos 3 m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3520" y="5724360"/>
            <a:ext cx="19620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cliente entiende el procedimiento quirúrgico y tiene plena confianza de seguir adela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2406600"/>
            <a:ext cx="4267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plique el anestésico local que se usará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puede administrar más medicamento para el dolor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es necesari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plique la incisión o la punción sin bisturí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va a ser necesario suturar, menciónel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160" y="950760"/>
            <a:ext cx="51148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ted permanecerá despierto y se le administrará medicamentos para el d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Se hace una pequeña abertura en el escroto — no dolor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conductos que transportan los espermatozoides se cortan y a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cierra la a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Se reposa de 15 a 30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65800">
            <a:off x="4849560" y="2463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915400" y="2529000"/>
            <a:ext cx="576360" cy="468360"/>
            <a:chOff x="8915400" y="2529000"/>
            <a:chExt cx="576360" cy="468360"/>
          </a:xfrm>
        </p:grpSpPr>
        <p:sp>
          <p:nvSpPr>
            <p:cNvPr id="169" name=""/>
            <p:cNvSpPr/>
            <p:nvPr/>
          </p:nvSpPr>
          <p:spPr>
            <a:xfrm>
              <a:off x="8915400" y="252900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9112320" y="262584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74600" y="5956200"/>
            <a:ext cx="4227480" cy="878040"/>
          </a:xfrm>
          <a:prstGeom prst="downArrowCallout">
            <a:avLst>
              <a:gd name="adj1" fmla="val 481512"/>
              <a:gd name="adj2" fmla="val 24073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 el procedimiento se va a realizar ahora, pase  a la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ágina siguiente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sesorar al cliente sobre lo que debe recordar después de la cirug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3600" y="5943600"/>
            <a:ext cx="4818240" cy="70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 ha programado el procedimiento para otro día, fije una fecha y hora convenientes para que el cliente regrese. Ofrézcale condones para que use mientras ta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3154200">
            <a:off x="4830480" y="1684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160" y="3535200"/>
            <a:ext cx="4647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 descansar por 2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ite trabajos pesados por unos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¡Importante!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e condones por los próximos 3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221000"/>
            <a:ext cx="4267080" cy="108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a que el semen permanecerá en los conductos espermáticos por un tiempo, el cliente debe usar condones, o su pareja debe usar otro método de planificación familiar eficaz durante los siguientes 3 me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cliente debe continuar las relaciones sexuales de manera usual durante este período para eliminar el semen de los conduc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21120" y="47386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072720" y="5415120"/>
            <a:ext cx="576000" cy="468000"/>
            <a:chOff x="9072720" y="5415120"/>
            <a:chExt cx="576000" cy="468000"/>
          </a:xfrm>
        </p:grpSpPr>
        <p:sp>
          <p:nvSpPr>
            <p:cNvPr id="179" name=""/>
            <p:cNvSpPr/>
            <p:nvPr/>
          </p:nvSpPr>
          <p:spPr>
            <a:xfrm>
              <a:off x="9072720" y="541512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212400" y="554040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126360" y="-1080"/>
            <a:ext cx="1171440" cy="761400"/>
            <a:chOff x="126360" y="-1080"/>
            <a:chExt cx="1171440" cy="761400"/>
          </a:xfrm>
        </p:grpSpPr>
        <p:sp>
          <p:nvSpPr>
            <p:cNvPr id="182" name=""/>
            <p:cNvSpPr/>
            <p:nvPr/>
          </p:nvSpPr>
          <p:spPr>
            <a:xfrm>
              <a:off x="150840" y="3960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6360" y="-108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438120" y="22248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27080" y="536580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95760" y="895320"/>
            <a:ext cx="4267440" cy="132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vasectomía puede efectuarse en una clínica o consultorio siguiend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procedimientos adecuados para la prevención de infecciones.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siempre se realiza en un hospi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bitualmente el procedimiento completo puede durar menos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30 minu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78480" y="92232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ff3300"/>
                </a:solidFill>
                <a:latin typeface="Arial"/>
              </a:rPr>
              <a:t>Describa los pasos a seguir en el procedimiento de la vasectomía. Expliqu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287000">
            <a:off x="4890600" y="30114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1440"/>
            <a:ext cx="9907560" cy="5819760"/>
            <a:chOff x="0" y="1440"/>
            <a:chExt cx="9907560" cy="5819760"/>
          </a:xfrm>
        </p:grpSpPr>
        <p:sp>
          <p:nvSpPr>
            <p:cNvPr id="190" name=""/>
            <p:cNvSpPr/>
            <p:nvPr/>
          </p:nvSpPr>
          <p:spPr>
            <a:xfrm rot="20647800">
              <a:off x="7566120" y="3664080"/>
              <a:ext cx="2057400" cy="18619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866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Razones médicas por las que debe regres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895480"/>
              <a:ext cx="41148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4360" y="1989000"/>
              <a:ext cx="5029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3300"/>
                  </a:solidFill>
                  <a:latin typeface="Arial"/>
                </a:rPr>
                <a:t>Regrese de inmediato si tien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Hinchazón en las primeras horas después de la cirugí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Fiebre en los primeros 3 día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s o sangrado en la her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olor, calor o enrojecimiento en la her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238880" y="3911760"/>
              <a:ext cx="22860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176200">
              <a:off x="5167080" y="1697040"/>
              <a:ext cx="2593800" cy="18828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784840" y="1484280"/>
              <a:ext cx="1308240" cy="29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azones médicas por las que debe regres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720880"/>
            <a:ext cx="4114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27800" y="2174760"/>
            <a:ext cx="4114800" cy="105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de  38°C de fiebre en las primeras 4 semanas  (y especialmente en los primeros 3 día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fiebre se presenta en las primeras horas después de la cirugía, puede ser grave. Puede necesitarse drenar la herida quirúrgica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18080" y="3387600"/>
            <a:ext cx="4114800" cy="532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La condición empeora o no desaparece? Éstos son signos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inf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0520" y="1197000"/>
            <a:ext cx="4572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egrese de inmediato si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nchazón en las primeras horas después de la ciru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ebre en los primeros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s o sangrad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, calor o enrojecimient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040" y="5853240"/>
            <a:ext cx="84610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Está satisfecho con su elección de este método?¿Desea que le explique o repita alg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</a:rPr>
              <a:t>¡Acuérdese de ofrecerle condones para la doble protección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condones u otro método en los 3 meses después del procedimiento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760" y="5464080"/>
            <a:ext cx="184788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3449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0440" y="253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421840" y="6200640"/>
            <a:ext cx="576000" cy="468360"/>
            <a:chOff x="8421840" y="6200640"/>
            <a:chExt cx="576000" cy="468360"/>
          </a:xfrm>
        </p:grpSpPr>
        <p:sp>
          <p:nvSpPr>
            <p:cNvPr id="209" name=""/>
            <p:cNvSpPr/>
            <p:nvPr/>
          </p:nvSpPr>
          <p:spPr>
            <a:xfrm>
              <a:off x="8421840" y="6200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8561520" y="6326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145440" y="18000"/>
            <a:ext cx="1171440" cy="766080"/>
            <a:chOff x="145440" y="18000"/>
            <a:chExt cx="1171440" cy="766080"/>
          </a:xfrm>
        </p:grpSpPr>
        <p:sp>
          <p:nvSpPr>
            <p:cNvPr id="212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44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meynentc</cp:lastModifiedBy>
  <cp:lastPrinted>2002-06-07T13:50:25Z</cp:lastPrinted>
  <dcterms:modified xsi:type="dcterms:W3CDTF">2007-07-30T09:22:57Z</dcterms:modified>
  <cp:revision>950</cp:revision>
  <dc:subject/>
  <dc:title>No Slide Title</dc:title>
</cp:coreProperties>
</file>