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902825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4984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BD0602-A1D7-40A0-BB07-B82F45B414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production of the tool the “Tab markers” on each new section can be removed (so long as tabs will be used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78440" cy="4468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page can be copied and included in a “kit” for providers, as “take-home” information for client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78440" cy="4468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78440" cy="4468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page can be copied and included in a “kit” for providers, as “take-home” information for client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78440" cy="4468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either spermicides or diaphragms are not available, can remove reference to them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0080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108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90080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42108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28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spcBef>
                <a:spcPts val="400"/>
              </a:spcBef>
              <a:buClr>
                <a:srgbClr val="000000"/>
              </a:buClr>
              <a:buFont typeface="Wingdings 3" charset="2"/>
              <a:buChar char="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3440" y="2593800"/>
            <a:ext cx="47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 un método muy efectivo cuando se usa CADA VEZ que se tiene relaciones sexu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3440" y="487512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 inserta la mujer pero generalmente necesita hablar al respecto con su parej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3440" y="3679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uede usarse único método o con otros métodos de planificación famili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3440" y="4400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uede ser ca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ondón femeni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80040" y="1762200"/>
            <a:ext cx="4606920" cy="752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La/el cliente necesita usar condones siempre que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o esté segura/o si el/ella o su pareja tiene una ITS incluyendo el VI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/el cliente tenga otras parejas sexuales o no tenga seguridad si su pareja actual ha tenido otras parejas sexual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80040" y="2560680"/>
            <a:ext cx="4606920" cy="96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s condones son efectivos para la prevención del embarazo cuando se usan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correctamente en todas las relaciones sexuales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condón femenino puede ser menos efectivo que el condón masculino en la prevención del embarazo, el VIH u otras I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 mejor insertarlo antes de tener cualquier contacto sexual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80040" y="3575160"/>
            <a:ext cx="4606920" cy="958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uede ser más efectivo para la prevención del embarazo cuando se usa en combinación con otro método, pero no puede usarse con el condón masculin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ambién puede usarse como método de respaldo con cualquier otro método de planificación familiar (por ejemplo, cuando la mujer se olvida de tomar la píldora o se retrasa con los inyectables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80040" y="4576680"/>
            <a:ext cx="4606920" cy="417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 más caro que el condón masculino y es posible que no sea tan fácil de consegui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440" y="1735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yuda a proteger contra el embarazo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las ITS/VIH/S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5834160"/>
            <a:ext cx="9906120" cy="1028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¿Desea saber más acerca del condón femenino o preferiría hablar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sobre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 otro método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6146640"/>
            <a:ext cx="3733920" cy="684360"/>
          </a:xfrm>
          <a:prstGeom prst="downArrowCallout">
            <a:avLst>
              <a:gd name="adj1" fmla="val 545658"/>
              <a:gd name="adj2" fmla="val 272803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i la clienta desea saber más acerca del condón femenino,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pase a la página siguie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7080" y="5516640"/>
            <a:ext cx="1800000" cy="3380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64160" y="26384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189200">
            <a:off x="4635360" y="453384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04760" y="57240"/>
            <a:ext cx="1222560" cy="717480"/>
            <a:chOff x="104760" y="57240"/>
            <a:chExt cx="1222560" cy="717480"/>
          </a:xfrm>
        </p:grpSpPr>
        <p:sp>
          <p:nvSpPr>
            <p:cNvPr id="60" name=""/>
            <p:cNvSpPr/>
            <p:nvPr/>
          </p:nvSpPr>
          <p:spPr>
            <a:xfrm>
              <a:off x="155520" y="57240"/>
              <a:ext cx="1171800" cy="717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04760" y="163800"/>
              <a:ext cx="97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ndón </a:t>
              </a:r>
              <a:br>
                <a:rPr sz="1400"/>
              </a:b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femeni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1019160" y="85680"/>
              <a:ext cx="250920" cy="66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-12708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180040" y="5037120"/>
            <a:ext cx="4606920" cy="765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Si su pareja no quiere usar los condones,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“Podemos hablar al respecto y practicar lo que usted puede </a:t>
            </a:r>
            <a:br>
              <a:rPr sz="1000"/>
            </a:b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decirle a su pareja”.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actique con la clienta cómo debe hablar con su pareja. Use el Apéndice 9.</a:t>
            </a:r>
            <a:r>
              <a:rPr b="0" lang="es-ES" sz="10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62360" y="371304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62360" y="178596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ffb3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F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9140400" y="5086440"/>
            <a:ext cx="597240" cy="468360"/>
            <a:chOff x="9140400" y="5086440"/>
            <a:chExt cx="597240" cy="468360"/>
          </a:xfrm>
        </p:grpSpPr>
        <p:sp>
          <p:nvSpPr>
            <p:cNvPr id="69" name=""/>
            <p:cNvSpPr/>
            <p:nvPr/>
          </p:nvSpPr>
          <p:spPr>
            <a:xfrm flipH="1">
              <a:off x="9140040" y="5086440"/>
              <a:ext cx="576360" cy="468360"/>
            </a:xfrm>
            <a:prstGeom prst="rect">
              <a:avLst/>
            </a:prstGeom>
            <a:solidFill>
              <a:srgbClr val="83e3a8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3"/>
            <a:stretch/>
          </p:blipFill>
          <p:spPr>
            <a:xfrm>
              <a:off x="9155160" y="5094720"/>
              <a:ext cx="582480" cy="44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"/>
          <p:cNvSpPr/>
          <p:nvPr/>
        </p:nvSpPr>
        <p:spPr>
          <a:xfrm rot="1587600">
            <a:off x="4649400" y="49561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80040" y="893880"/>
            <a:ext cx="4608360" cy="820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Acerca del condón femenino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siste en una vaina de plástico holgada que se inserta en la vagina antes de tener relaciones sexual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o existen condiciones médicas que limiten su uso (No está hecho de látex).  No causa reacciones alérgic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33800" y="6143760"/>
            <a:ext cx="4265640" cy="52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ara hablar sobre otro método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vaya a la pestaña de otro método o a la pestaña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ección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 Méto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46720" y="6858000"/>
            <a:ext cx="1353960" cy="438120"/>
          </a:xfrm>
          <a:prstGeom prst="rect">
            <a:avLst/>
          </a:prstGeom>
          <a:solidFill>
            <a:srgbClr val="ffb3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ndones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femen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Cómo usar el condón femenin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320" y="3422520"/>
            <a:ext cx="16272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5000"/>
              </a:lnSpc>
              <a:spcBef>
                <a:spcPts val="23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Abra el paquete cuidadosament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3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Asegúrese de que el condón esté bien lubricado por dentr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3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38440" y="3422520"/>
            <a:ext cx="256860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5000"/>
              </a:lnSpc>
              <a:spcBef>
                <a:spcPts val="23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Elija una posición cómoda – póngase en cuclillas, levante una pierna, o acuéste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3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3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32480" y="5602320"/>
            <a:ext cx="24066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5000"/>
              </a:lnSpc>
              <a:spcBef>
                <a:spcPts val="23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Para remover el condón, tuerza el aro externo y tire del mismo con suavida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3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Deseche el condón debidamen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65760" y="2879640"/>
            <a:ext cx="2909880" cy="26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5000"/>
              </a:lnSpc>
              <a:spcBef>
                <a:spcPts val="23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Introduzca el aro interno suavemente en la vagin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3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Coloque el dedo índice dentro del condón y empuje el aro interno hacia arriba tan adentro como pued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3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Asegúrese de que el aro externo esté fuera de la vagina y el condón no esté enrollad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3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Asegúrese de que el pene penetra en el condón y se mantiene dentro durante la relación sexu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5880" y="5051520"/>
            <a:ext cx="2952720" cy="1187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3300"/>
                </a:solidFill>
                <a:latin typeface="Arial"/>
              </a:rPr>
              <a:t>¿Está preparada para elegir este métod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17640" y="5400720"/>
            <a:ext cx="1447920" cy="1123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494240" y="3422520"/>
            <a:ext cx="2057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5000"/>
              </a:lnSpc>
              <a:spcBef>
                <a:spcPts val="23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Apriete el aro interno en el extremo cerra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6320" y="1189080"/>
            <a:ext cx="1473120" cy="2133720"/>
            <a:chOff x="76320" y="1189080"/>
            <a:chExt cx="1473120" cy="2133720"/>
          </a:xfrm>
        </p:grpSpPr>
        <p:sp>
          <p:nvSpPr>
            <p:cNvPr id="84" name=""/>
            <p:cNvSpPr/>
            <p:nvPr/>
          </p:nvSpPr>
          <p:spPr>
            <a:xfrm>
              <a:off x="552600" y="3021120"/>
              <a:ext cx="99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Aro intern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563400" y="1341360"/>
              <a:ext cx="6303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76320" y="1476360"/>
              <a:ext cx="653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Aro extern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6000" y="14860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flipV="1">
              <a:off x="1098720" y="2881440"/>
              <a:ext cx="13320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1520" y="1189080"/>
              <a:ext cx="1447920" cy="2133720"/>
            </a:xfrm>
            <a:prstGeom prst="rect">
              <a:avLst/>
            </a:prstGeom>
            <a:noFill/>
            <a:ln w="19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2680" y="1214280"/>
              <a:ext cx="24120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b3d9"/>
                  </a:solidFill>
                  <a:latin typeface="Wingdings"/>
                  <a:ea typeface="Wingdings"/>
                </a:rPr>
                <a:t>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4299120" y="1125360"/>
            <a:ext cx="2128680" cy="2197080"/>
            <a:chOff x="4299120" y="1125360"/>
            <a:chExt cx="2128680" cy="2197080"/>
          </a:xfrm>
        </p:grpSpPr>
        <p:grpSp>
          <p:nvGrpSpPr>
            <p:cNvPr id="92" name=""/>
            <p:cNvGrpSpPr/>
            <p:nvPr/>
          </p:nvGrpSpPr>
          <p:grpSpPr>
            <a:xfrm>
              <a:off x="4370400" y="1188720"/>
              <a:ext cx="2057400" cy="2133720"/>
              <a:chOff x="4370400" y="1188720"/>
              <a:chExt cx="2057400" cy="2133720"/>
            </a:xfrm>
          </p:grpSpPr>
          <p:pic>
            <p:nvPicPr>
              <p:cNvPr id="9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91000" y="1545840"/>
                <a:ext cx="182880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"/>
              <p:cNvSpPr/>
              <p:nvPr/>
            </p:nvSpPr>
            <p:spPr>
              <a:xfrm>
                <a:off x="4370400" y="1188720"/>
                <a:ext cx="2057400" cy="2133720"/>
              </a:xfrm>
              <a:prstGeom prst="rect">
                <a:avLst/>
              </a:prstGeom>
              <a:noFill/>
              <a:ln w="1908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4299120" y="1125360"/>
              <a:ext cx="452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b3d9"/>
                  </a:solidFill>
                  <a:latin typeface="Wingdings"/>
                  <a:ea typeface="Wingdings"/>
                </a:rPr>
                <a:t>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303800" y="4941720"/>
            <a:ext cx="2073240" cy="1697040"/>
            <a:chOff x="4303800" y="4941720"/>
            <a:chExt cx="2073240" cy="1697040"/>
          </a:xfrm>
        </p:grpSpPr>
        <p:grpSp>
          <p:nvGrpSpPr>
            <p:cNvPr id="97" name=""/>
            <p:cNvGrpSpPr/>
            <p:nvPr/>
          </p:nvGrpSpPr>
          <p:grpSpPr>
            <a:xfrm>
              <a:off x="4375080" y="5013360"/>
              <a:ext cx="2001960" cy="1625400"/>
              <a:chOff x="4375080" y="5013360"/>
              <a:chExt cx="2001960" cy="1625400"/>
            </a:xfrm>
          </p:grpSpPr>
          <p:pic>
            <p:nvPicPr>
              <p:cNvPr id="9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413240" y="5209920"/>
                <a:ext cx="1778040" cy="139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>
                <a:off x="4375080" y="5013360"/>
                <a:ext cx="2001960" cy="1625400"/>
              </a:xfrm>
              <a:prstGeom prst="rect">
                <a:avLst/>
              </a:prstGeom>
              <a:noFill/>
              <a:ln w="1908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4303800" y="4941720"/>
              <a:ext cx="453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b3d9"/>
                  </a:solidFill>
                  <a:latin typeface="Wingdings"/>
                  <a:ea typeface="Wingdings"/>
                </a:rPr>
                <a:t>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6818400" y="1185840"/>
            <a:ext cx="2743200" cy="1479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513480" y="1185840"/>
            <a:ext cx="3125880" cy="1523880"/>
          </a:xfrm>
          <a:prstGeom prst="rect">
            <a:avLst/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27720" y="1695600"/>
            <a:ext cx="71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ro</a:t>
            </a:r>
            <a:br>
              <a:rPr sz="1000"/>
            </a:b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inte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7540560" y="1574280"/>
            <a:ext cx="108000" cy="2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73680" y="2236680"/>
            <a:ext cx="8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Extremo abier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086600" y="1986120"/>
            <a:ext cx="76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64160" y="1125360"/>
            <a:ext cx="378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b3d9"/>
                </a:solidFill>
                <a:latin typeface="Wingdings"/>
                <a:ea typeface="Wingdings"/>
              </a:rPr>
              <a:t>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6720" y="1128600"/>
            <a:ext cx="45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b3d9"/>
                </a:solidFill>
                <a:latin typeface="Wingdings"/>
                <a:ea typeface="Wingdings"/>
              </a:rPr>
              <a:t>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1189080"/>
            <a:ext cx="2590560" cy="2133720"/>
          </a:xfrm>
          <a:prstGeom prst="rect">
            <a:avLst/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1882800" y="1225440"/>
            <a:ext cx="223344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724040" y="2247840"/>
            <a:ext cx="181764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5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Elija una posición cómoda</a:t>
            </a:r>
            <a:r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 – póngase en cuclillas, levante una pierna, siéntese o acuéste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ómo usar el condón femeni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3500280"/>
            <a:ext cx="5027760" cy="1944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38240" indent="-13824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s parejas deben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usar un condón nuevo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cada vez que tienen relaciones sexual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38240" indent="-13824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condón debe insertarse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antes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de que el pene toque la vagin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38240" indent="-13824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condón puede insertarse hasta 8 horas antes de las relaciones sexual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38240" indent="-13824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condón viene lubricado pero puede necesitar lubricación adicional por dentro para que no se mueva durante el acto sexual. Se puede añadir lubricante dentro del condón o directamente al pen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38240" indent="-13824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l terminar la eyaculación, la mujer debe alejarse de su pareja y cuidar de no derramar el semen en la abertura de la vagina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38240" indent="-13824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condón debe desecharse debidamente en una papelera o cesto de basura según sea apropiad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247840"/>
            <a:ext cx="18399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95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Abra el paquete cuidadosament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95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Asegúrese de que el condón esté bien lubricado por dentr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32840" y="2286000"/>
            <a:ext cx="155556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5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Para remover el condón, tuerza el aro externo y tire del mismo con suavida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Deseche el condón debidamen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35720" y="2247840"/>
            <a:ext cx="257004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95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Introduzca el aro interno suavemente en la vagina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95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Coloque el dedo índice dentro del condón y empuje el aro interno hacia arriba tan adentro como pued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95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Asegúrese de que el extremo externo esté fuera de la vagina y el condón no esté enrollado</a:t>
            </a: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95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Asegúrese de que el pene penetra en el condón y se mantiene dentro del mismo durante la relación sexu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5805360"/>
            <a:ext cx="9906120" cy="1049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¿La clienta entiende cómo usar el condón femenino? ¿Está preparada para usar este método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6146640"/>
            <a:ext cx="4267080" cy="685800"/>
          </a:xfrm>
          <a:prstGeom prst="downArrowCallout">
            <a:avLst>
              <a:gd name="adj1" fmla="val 622262"/>
              <a:gd name="adj2" fmla="val 311102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i es así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se a la página siguie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73800" y="6146640"/>
            <a:ext cx="3886200" cy="533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i no es así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hable más sobre el condón femenino o considere el uso de otro méto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2556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ffb3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F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48240" y="2247840"/>
            <a:ext cx="1981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5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Apriete el aro interno en el extremo cerra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1670040"/>
            <a:ext cx="56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ro inter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8520" y="907920"/>
            <a:ext cx="1447920" cy="1295280"/>
            <a:chOff x="128520" y="907920"/>
            <a:chExt cx="1447920" cy="1295280"/>
          </a:xfrm>
        </p:grpSpPr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738360" y="1060200"/>
              <a:ext cx="315720" cy="8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128520" y="127296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Aro exter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4840" y="1238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1118880" y="16700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8520" y="907920"/>
              <a:ext cx="1447920" cy="1295280"/>
            </a:xfrm>
            <a:prstGeom prst="rect">
              <a:avLst/>
            </a:prstGeom>
            <a:noFill/>
            <a:ln w="19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27080" y="922320"/>
            <a:ext cx="2412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b3d9"/>
                </a:solidFill>
                <a:latin typeface="Wingdings"/>
                <a:ea typeface="Wingdings"/>
              </a:rPr>
              <a:t>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670200" y="879480"/>
            <a:ext cx="1789200" cy="1371240"/>
            <a:chOff x="3670200" y="879480"/>
            <a:chExt cx="1789200" cy="1371240"/>
          </a:xfrm>
        </p:grpSpPr>
        <p:grpSp>
          <p:nvGrpSpPr>
            <p:cNvPr id="132" name=""/>
            <p:cNvGrpSpPr/>
            <p:nvPr/>
          </p:nvGrpSpPr>
          <p:grpSpPr>
            <a:xfrm>
              <a:off x="3782880" y="955440"/>
              <a:ext cx="1676520" cy="1295280"/>
              <a:chOff x="3782880" y="955440"/>
              <a:chExt cx="1676520" cy="1295280"/>
            </a:xfrm>
          </p:grpSpPr>
          <p:pic>
            <p:nvPicPr>
              <p:cNvPr id="13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902040" y="1014120"/>
                <a:ext cx="1460520" cy="108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" name=""/>
              <p:cNvSpPr/>
              <p:nvPr/>
            </p:nvSpPr>
            <p:spPr>
              <a:xfrm>
                <a:off x="3782880" y="955440"/>
                <a:ext cx="1676520" cy="1295280"/>
              </a:xfrm>
              <a:prstGeom prst="rect">
                <a:avLst/>
              </a:prstGeom>
              <a:noFill/>
              <a:ln w="1908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3670200" y="879480"/>
              <a:ext cx="452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b3d9"/>
                  </a:solidFill>
                  <a:latin typeface="Wingdings"/>
                  <a:ea typeface="Wingdings"/>
                </a:rPr>
                <a:t>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8163000" y="879480"/>
            <a:ext cx="1549440" cy="1371240"/>
            <a:chOff x="8163000" y="879480"/>
            <a:chExt cx="1549440" cy="1371240"/>
          </a:xfrm>
        </p:grpSpPr>
        <p:grpSp>
          <p:nvGrpSpPr>
            <p:cNvPr id="137" name=""/>
            <p:cNvGrpSpPr/>
            <p:nvPr/>
          </p:nvGrpSpPr>
          <p:grpSpPr>
            <a:xfrm>
              <a:off x="8264520" y="955440"/>
              <a:ext cx="1447920" cy="1295280"/>
              <a:chOff x="8264520" y="955440"/>
              <a:chExt cx="1447920" cy="1295280"/>
            </a:xfrm>
          </p:grpSpPr>
          <p:pic>
            <p:nvPicPr>
              <p:cNvPr id="13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361360" y="1096560"/>
                <a:ext cx="1263600" cy="98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>
                <a:off x="8264520" y="955440"/>
                <a:ext cx="1447920" cy="1295280"/>
              </a:xfrm>
              <a:prstGeom prst="rect">
                <a:avLst/>
              </a:prstGeom>
              <a:noFill/>
              <a:ln w="1908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8163000" y="879480"/>
              <a:ext cx="453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b3d9"/>
                  </a:solidFill>
                  <a:latin typeface="Wingdings"/>
                  <a:ea typeface="Wingdings"/>
                </a:rPr>
                <a:t>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5964120" y="969840"/>
            <a:ext cx="1979640" cy="10670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842160" y="1000080"/>
            <a:ext cx="64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ro inter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396120" y="1116000"/>
            <a:ext cx="50472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78360" y="19162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Extremo abier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964120" y="1725120"/>
            <a:ext cx="1144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64320" y="955800"/>
            <a:ext cx="2284200" cy="1295280"/>
          </a:xfrm>
          <a:prstGeom prst="rect">
            <a:avLst/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00600" y="879480"/>
            <a:ext cx="378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b3d9"/>
                </a:solidFill>
                <a:latin typeface="Wingdings"/>
                <a:ea typeface="Wingdings"/>
              </a:rPr>
              <a:t>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9132840" y="5373720"/>
            <a:ext cx="576360" cy="468360"/>
            <a:chOff x="9132840" y="5373720"/>
            <a:chExt cx="576360" cy="468360"/>
          </a:xfrm>
        </p:grpSpPr>
        <p:sp>
          <p:nvSpPr>
            <p:cNvPr id="149" name=""/>
            <p:cNvSpPr/>
            <p:nvPr/>
          </p:nvSpPr>
          <p:spPr>
            <a:xfrm>
              <a:off x="9132840" y="5373720"/>
              <a:ext cx="576360" cy="468360"/>
            </a:xfrm>
            <a:prstGeom prst="rect">
              <a:avLst/>
            </a:prstGeom>
            <a:solidFill>
              <a:srgbClr val="a4acf4"/>
            </a:soli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6"/>
            <a:stretch/>
          </p:blipFill>
          <p:spPr>
            <a:xfrm>
              <a:off x="9329760" y="5470560"/>
              <a:ext cx="190440" cy="25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1" name=""/>
          <p:cNvGrpSpPr/>
          <p:nvPr/>
        </p:nvGrpSpPr>
        <p:grpSpPr>
          <a:xfrm>
            <a:off x="8480520" y="5373720"/>
            <a:ext cx="576000" cy="468360"/>
            <a:chOff x="8480520" y="5373720"/>
            <a:chExt cx="576000" cy="468360"/>
          </a:xfrm>
        </p:grpSpPr>
        <p:sp>
          <p:nvSpPr>
            <p:cNvPr id="152" name=""/>
            <p:cNvSpPr/>
            <p:nvPr/>
          </p:nvSpPr>
          <p:spPr>
            <a:xfrm>
              <a:off x="8480520" y="537372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7"/>
            <a:stretch/>
          </p:blipFill>
          <p:spPr>
            <a:xfrm>
              <a:off x="8620200" y="549936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"/>
          <p:cNvGrpSpPr/>
          <p:nvPr/>
        </p:nvGrpSpPr>
        <p:grpSpPr>
          <a:xfrm>
            <a:off x="1711440" y="879480"/>
            <a:ext cx="1792080" cy="1371600"/>
            <a:chOff x="1711440" y="879480"/>
            <a:chExt cx="1792080" cy="1371600"/>
          </a:xfrm>
        </p:grpSpPr>
        <p:sp>
          <p:nvSpPr>
            <p:cNvPr id="155" name=""/>
            <p:cNvSpPr/>
            <p:nvPr/>
          </p:nvSpPr>
          <p:spPr>
            <a:xfrm>
              <a:off x="1828800" y="955800"/>
              <a:ext cx="1674720" cy="1295280"/>
            </a:xfrm>
            <a:prstGeom prst="rect">
              <a:avLst/>
            </a:prstGeom>
            <a:noFill/>
            <a:ln w="19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11440" y="879480"/>
              <a:ext cx="455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b3d9"/>
                  </a:solidFill>
                  <a:latin typeface="Wingdings"/>
                  <a:ea typeface="Wingdings"/>
                </a:rPr>
                <a:t>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8"/>
            <a:stretch/>
          </p:blipFill>
          <p:spPr>
            <a:xfrm>
              <a:off x="2013120" y="992160"/>
              <a:ext cx="1296720" cy="121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"/>
          <p:cNvSpPr/>
          <p:nvPr/>
        </p:nvSpPr>
        <p:spPr>
          <a:xfrm>
            <a:off x="127080" y="5483160"/>
            <a:ext cx="1800000" cy="3380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04760" y="57240"/>
            <a:ext cx="1222560" cy="717480"/>
            <a:chOff x="104760" y="57240"/>
            <a:chExt cx="1222560" cy="717480"/>
          </a:xfrm>
        </p:grpSpPr>
        <p:sp>
          <p:nvSpPr>
            <p:cNvPr id="160" name=""/>
            <p:cNvSpPr/>
            <p:nvPr/>
          </p:nvSpPr>
          <p:spPr>
            <a:xfrm>
              <a:off x="155520" y="57240"/>
              <a:ext cx="1171800" cy="717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4760" y="163800"/>
              <a:ext cx="97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ndón </a:t>
              </a:r>
              <a:br>
                <a:rPr sz="1400"/>
              </a:b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femeni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2" name="" descr=""/>
            <p:cNvPicPr/>
            <p:nvPr/>
          </p:nvPicPr>
          <p:blipFill>
            <a:blip r:embed="rId9"/>
            <a:stretch/>
          </p:blipFill>
          <p:spPr>
            <a:xfrm>
              <a:off x="1019160" y="85680"/>
              <a:ext cx="25092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98360" y="1484280"/>
            <a:ext cx="7012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7840" indent="-177840">
              <a:lnSpc>
                <a:spcPct val="90000"/>
              </a:lnSpc>
              <a:spcBef>
                <a:spcPts val="3713"/>
              </a:spcBef>
              <a:spcAft>
                <a:spcPts val="550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Use un condón CADA VEZ que tenga relaciones sexu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3713"/>
              </a:spcBef>
              <a:spcAft>
                <a:spcPts val="550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Asegúrese de tener siempre suficiente suministro de cond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3713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i no usó el condón correctamente, considere el uso de anticoncepción de emergencia lo antes posi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3713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i es necesario, puede usar </a:t>
            </a:r>
            <a:br>
              <a:rPr sz="2200"/>
            </a:b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más lubric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Qué debe record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040520" y="1076040"/>
            <a:ext cx="2318040" cy="1398960"/>
            <a:chOff x="7040520" y="1076040"/>
            <a:chExt cx="2318040" cy="1398960"/>
          </a:xfrm>
        </p:grpSpPr>
        <p:sp>
          <p:nvSpPr>
            <p:cNvPr id="166" name=""/>
            <p:cNvSpPr/>
            <p:nvPr/>
          </p:nvSpPr>
          <p:spPr>
            <a:xfrm rot="21337200">
              <a:off x="7104960" y="1158840"/>
              <a:ext cx="2210040" cy="1218960"/>
            </a:xfrm>
            <a:prstGeom prst="ellipse">
              <a:avLst/>
            </a:prstGeom>
            <a:solidFill>
              <a:srgbClr val="ffb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7040520" y="1106640"/>
              <a:ext cx="2234880" cy="136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" name=""/>
          <p:cNvGrpSpPr/>
          <p:nvPr/>
        </p:nvGrpSpPr>
        <p:grpSpPr>
          <a:xfrm>
            <a:off x="6994800" y="3677040"/>
            <a:ext cx="2096640" cy="1233000"/>
            <a:chOff x="6994800" y="3677040"/>
            <a:chExt cx="2096640" cy="1233000"/>
          </a:xfrm>
        </p:grpSpPr>
        <p:sp>
          <p:nvSpPr>
            <p:cNvPr id="169" name=""/>
            <p:cNvSpPr/>
            <p:nvPr/>
          </p:nvSpPr>
          <p:spPr>
            <a:xfrm rot="21337200">
              <a:off x="7031160" y="3752640"/>
              <a:ext cx="2023920" cy="1028520"/>
            </a:xfrm>
            <a:prstGeom prst="ellipse">
              <a:avLst/>
            </a:prstGeom>
            <a:solidFill>
              <a:srgbClr val="ffb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2"/>
            <a:stretch/>
          </p:blipFill>
          <p:spPr>
            <a:xfrm>
              <a:off x="7100640" y="3944880"/>
              <a:ext cx="1904760" cy="9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"/>
          <p:cNvGrpSpPr/>
          <p:nvPr/>
        </p:nvGrpSpPr>
        <p:grpSpPr>
          <a:xfrm>
            <a:off x="3862080" y="5182920"/>
            <a:ext cx="1516680" cy="1503720"/>
            <a:chOff x="3862080" y="5182920"/>
            <a:chExt cx="1516680" cy="1503720"/>
          </a:xfrm>
        </p:grpSpPr>
        <p:sp>
          <p:nvSpPr>
            <p:cNvPr id="172" name=""/>
            <p:cNvSpPr/>
            <p:nvPr/>
          </p:nvSpPr>
          <p:spPr>
            <a:xfrm rot="21337200">
              <a:off x="3906720" y="5235480"/>
              <a:ext cx="1427040" cy="1225440"/>
            </a:xfrm>
            <a:prstGeom prst="ellipse">
              <a:avLst/>
            </a:prstGeom>
            <a:solidFill>
              <a:srgbClr val="ffb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4130640" y="5315040"/>
              <a:ext cx="104940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"/>
          <p:cNvSpPr/>
          <p:nvPr/>
        </p:nvSpPr>
        <p:spPr>
          <a:xfrm rot="21337200">
            <a:off x="7128000" y="2549160"/>
            <a:ext cx="1752480" cy="990720"/>
          </a:xfrm>
          <a:prstGeom prst="ellipse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7174080" y="2492280"/>
            <a:ext cx="1752480" cy="1096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533520" y="120600"/>
            <a:ext cx="1447560" cy="11224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575320" y="5410080"/>
            <a:ext cx="4116240" cy="1295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¿</a:t>
            </a:r>
            <a:r>
              <a:rPr b="1" i="1" lang="es-DO" sz="1800" spc="-1" strike="noStrike">
                <a:solidFill>
                  <a:srgbClr val="ff3300"/>
                </a:solidFill>
                <a:latin typeface="Arial"/>
                <a:ea typeface="Arial"/>
              </a:rPr>
              <a:t>Necesita que repita o </a:t>
            </a:r>
            <a:br>
              <a:rPr sz="1800"/>
            </a:br>
            <a:r>
              <a:rPr b="1" i="1" lang="es-DO" sz="1800" spc="-1" strike="noStrike">
                <a:solidFill>
                  <a:srgbClr val="ff3300"/>
                </a:solidFill>
                <a:latin typeface="Arial"/>
                <a:ea typeface="Arial"/>
              </a:rPr>
              <a:t>le explique algo más? </a:t>
            </a:r>
            <a:br>
              <a:rPr sz="1800"/>
            </a:br>
            <a:r>
              <a:rPr b="1" i="1" lang="es-DO" sz="1800" spc="-1" strike="noStrike">
                <a:solidFill>
                  <a:srgbClr val="ff3300"/>
                </a:solidFill>
                <a:latin typeface="Arial"/>
                <a:ea typeface="Arial"/>
              </a:rPr>
              <a:t>¿Tiene alguna otra pregun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58760" y="2736720"/>
            <a:ext cx="46483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spcAft>
                <a:spcPts val="45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 no usó el condón correctamente, considere el uso de anticoncepción de emergencia lo antes po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Qué debe record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8760" y="1181160"/>
            <a:ext cx="47926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spcAft>
                <a:spcPts val="45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se un condón CADA VEZ que tenga relaciones sexu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86400" y="1125360"/>
            <a:ext cx="4267080" cy="855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Necesita usar un condón CADA VEZ que tenga relaciones sexuales</a:t>
            </a:r>
            <a:br>
              <a:rPr sz="1000"/>
            </a:b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para protegerse completamente contra el embarazo y las ITS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s-ES" sz="1000" spc="-1" strike="noStrike">
                <a:solidFill>
                  <a:srgbClr val="ff3300"/>
                </a:solidFill>
                <a:latin typeface="Arial"/>
              </a:rPr>
              <a:t>Si no puede usar un condón cada vez,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sidere usar también otro</a:t>
            </a:r>
            <a:br>
              <a:rPr sz="1000"/>
            </a:b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método de planificación familiar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84960" y="2698920"/>
            <a:ext cx="4267080" cy="1365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el condón femenino se desplaza o es empujado dentro de la vagina, la anticoncepción de emergencia puede ayudarle a evitar un embaraz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o use el condón si el paquete sellado está roto o gotea o, si el condón está resec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s y los clientes que hayan estado expuestos al VIH o ITS también pueden necesitar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 profilaxis post-exposición (PPE) al VIH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o tratamiento de presunta ITS.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17960" y="122400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17960" y="273996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5950080"/>
            <a:ext cx="9909000" cy="903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81160" y="6021360"/>
            <a:ext cx="7543800" cy="76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82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¿Está satisfecha de haber elegido este método?</a:t>
            </a:r>
            <a:r>
              <a:rPr b="1" i="1" lang="es-ES" sz="12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200"/>
            </a:b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¿Hay algo que pueda repetir o explicar? ¡Por favor regrese cuando lo desee!”</a:t>
            </a: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Último y más importante mensaje: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“Use un condón cada vez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1760" y="5646600"/>
            <a:ext cx="198108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Últimos paso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8760" y="2114640"/>
            <a:ext cx="46483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spcAft>
                <a:spcPts val="45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segúrese de tener siempre suficiente suministro de cond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86400" y="2173320"/>
            <a:ext cx="42670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Obtenga más de condones </a:t>
            </a:r>
            <a:r>
              <a:rPr b="1" i="1" lang="es-ES" sz="1000" spc="-1" strike="noStrike">
                <a:solidFill>
                  <a:srgbClr val="000000"/>
                </a:solidFill>
                <a:latin typeface="Arial"/>
              </a:rPr>
              <a:t>antes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 de que se le terminen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8760" y="4406760"/>
            <a:ext cx="46483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spcAft>
                <a:spcPts val="45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 es necesario puede usar más lubric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17960" y="217008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17960" y="444960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4365720"/>
            <a:ext cx="4267080" cy="1224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odos los condones femeninos vienen lubricados, lo cual puede hacer que se sientan resbaladizos al principi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uede usar más lubricante por dentro según sea necesario. Esto puede reducir el ruido durante las relaciones sexuales y ayudar a que éstas procedan con mayor suavida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uede usarse cualquier tipo de lubricante con el condón femenin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ambién puede reducir la picazó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ffb3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8039160" y="6175440"/>
            <a:ext cx="576000" cy="468360"/>
            <a:chOff x="8039160" y="6175440"/>
            <a:chExt cx="576000" cy="468360"/>
          </a:xfrm>
        </p:grpSpPr>
        <p:sp>
          <p:nvSpPr>
            <p:cNvPr id="196" name=""/>
            <p:cNvSpPr/>
            <p:nvPr/>
          </p:nvSpPr>
          <p:spPr>
            <a:xfrm>
              <a:off x="8039160" y="617544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7" name="" descr=""/>
            <p:cNvPicPr/>
            <p:nvPr/>
          </p:nvPicPr>
          <p:blipFill>
            <a:blip r:embed="rId1"/>
            <a:stretch/>
          </p:blipFill>
          <p:spPr>
            <a:xfrm>
              <a:off x="8178840" y="630108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"/>
          <p:cNvGrpSpPr/>
          <p:nvPr/>
        </p:nvGrpSpPr>
        <p:grpSpPr>
          <a:xfrm>
            <a:off x="104760" y="57240"/>
            <a:ext cx="1222560" cy="717480"/>
            <a:chOff x="104760" y="57240"/>
            <a:chExt cx="1222560" cy="717480"/>
          </a:xfrm>
        </p:grpSpPr>
        <p:sp>
          <p:nvSpPr>
            <p:cNvPr id="199" name=""/>
            <p:cNvSpPr/>
            <p:nvPr/>
          </p:nvSpPr>
          <p:spPr>
            <a:xfrm>
              <a:off x="155520" y="57240"/>
              <a:ext cx="1171800" cy="717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4760" y="163800"/>
              <a:ext cx="97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ndón </a:t>
              </a:r>
              <a:br>
                <a:rPr sz="1400"/>
              </a:b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femeni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2"/>
            <a:stretch/>
          </p:blipFill>
          <p:spPr>
            <a:xfrm>
              <a:off x="1019160" y="85680"/>
              <a:ext cx="25092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2280" y="1154160"/>
            <a:ext cx="7315200" cy="54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18576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ncluyen a los espermicidas y el diafrag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18576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ben colocarse en la vagina cada vez antes 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 tener relaciones sex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18576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lgunas/os usuarios sienten efectos 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cundari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18576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ueden provocar una sensación de sucied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30000"/>
              </a:lnSpc>
              <a:spcBef>
                <a:spcPts val="249"/>
              </a:spcBef>
              <a:tabLst>
                <a:tab algn="l" pos="0"/>
                <a:tab algn="l" pos="18576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576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Espermicid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18576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on menos efectivos que otros méto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18576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o ofrecen protección contra las ITS o el VIH/S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576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Diafrag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18576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uede ser un método efectivo si se 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sa correctamente cada ve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18576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ecesita someterse a un examen pélvico 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ara determinar el tamaño apropi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18576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 posible que ofrezca protección contra 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lgunas 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81480" y="1752480"/>
            <a:ext cx="41911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290520" indent="-290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1440"/>
            <a:ext cx="990612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Métodos vagina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286240" y="4440240"/>
            <a:ext cx="4446720" cy="2017800"/>
            <a:chOff x="5286240" y="4440240"/>
            <a:chExt cx="4446720" cy="2017800"/>
          </a:xfrm>
        </p:grpSpPr>
        <p:sp>
          <p:nvSpPr>
            <p:cNvPr id="206" name=""/>
            <p:cNvSpPr/>
            <p:nvPr/>
          </p:nvSpPr>
          <p:spPr>
            <a:xfrm>
              <a:off x="5502240" y="4440240"/>
              <a:ext cx="4230720" cy="1758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3300"/>
                  </a:solidFill>
                  <a:latin typeface="Arial"/>
                </a:rPr>
                <a:t>¿Desea saber más acerca de estos métodos o preferiría hablar sobre otro método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5286240" y="5334120"/>
              <a:ext cx="1447920" cy="112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8" name=""/>
          <p:cNvSpPr/>
          <p:nvPr/>
        </p:nvSpPr>
        <p:spPr>
          <a:xfrm rot="21337200">
            <a:off x="6117840" y="1066320"/>
            <a:ext cx="3632400" cy="200664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6797520" y="1549440"/>
            <a:ext cx="3105360" cy="14587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6189840" y="1131840"/>
            <a:ext cx="212076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09:29:07Z</dcterms:created>
  <dc:creator>JohnsonS</dc:creator>
  <dc:description/>
  <dc:language>en-US</dc:language>
  <cp:lastModifiedBy>hamillc</cp:lastModifiedBy>
  <cp:lastPrinted>2002-06-06T14:57:22Z</cp:lastPrinted>
  <dcterms:modified xsi:type="dcterms:W3CDTF">2006-10-20T09:50:46Z</dcterms:modified>
  <cp:revision>413</cp:revision>
  <dc:subject/>
  <dc:title>No Slide Title</dc:title>
</cp:coreProperties>
</file>