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711000" y="742680"/>
            <a:ext cx="538164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4800" cy="498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5"/>
          </p:nvPr>
        </p:nvSpPr>
        <p:spPr>
          <a:xfrm>
            <a:off x="3849840" y="9433080"/>
            <a:ext cx="2944800" cy="498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BDCDEC1-6E63-44BC-A39E-80C025A7A2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implants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Some programmes may prefer not to request a 4 year follow-up visit. Please consult </a:t>
            </a:r>
            <a:r>
              <a:rPr b="0" i="1" lang="en-GB" sz="1200" spc="-1" strike="noStrike">
                <a:solidFill>
                  <a:srgbClr val="ff00ff"/>
                </a:solidFill>
                <a:latin typeface="Arial"/>
              </a:rPr>
              <a:t>Selected Practice Recommendations for Contraceptive Use,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 WHO, 2004, for the evidence-based recommendatio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Some programmes may prefer not to request a 4 year follow-up visit. This guidance is a simplification of WHO’s evidence-based recommendation contained in </a:t>
            </a:r>
            <a:r>
              <a:rPr b="0" i="1" lang="en-GB" sz="1200" spc="-1" strike="noStrike">
                <a:solidFill>
                  <a:srgbClr val="ff00ff"/>
                </a:solidFill>
                <a:latin typeface="Arial"/>
              </a:rPr>
              <a:t>Selected Practice Recommendations for Contraceptive Use,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 WHO, 2004 (question 8). Please consult the full text for more informatio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insert local/country-specific pain relief drug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ngth of use varies for different types of implants. The </a:t>
            </a:r>
            <a:r>
              <a:rPr b="0" lang="en-GB" sz="1200" spc="-1" strike="noStrike">
                <a:solidFill>
                  <a:srgbClr val="ff66cc"/>
                </a:solidFill>
                <a:latin typeface="Arial"/>
              </a:rPr>
              <a:t>adaptation CD R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alternate files for both Jadelle and Implanon impla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ther methods mentioned on this page are not to be included in the tool, can remove reference to them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A348-2D1B-41DC-B995-CE5C1475DD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4EE3-744F-4B34-A271-C2814690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9011-CF76-4569-9E8B-9764B0AB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962B-C7FA-4924-955B-0BADE65E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17BC-0E32-484A-94BA-66C82EB8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8F2D-D1A1-4730-A164-E436D535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CC1D-BE22-46A1-A88E-F65C25C2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CF65-D22A-4C10-BA53-7F0EA677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3890-5525-41A1-A679-5D0FA48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23E4-F65E-46C2-B870-F19F0E8C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EE9D-3AA7-4241-8232-9CACDD3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F410-21E9-4C17-9823-2800DA2276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76957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FFE6-A036-450C-A44E-DD414A259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259240" y="2667240"/>
            <a:ext cx="4116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7560" y="2405160"/>
            <a:ext cx="5205240" cy="42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Muy eficaz sin tener que recordar nada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obre al método hasta por 7 años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¿Está buscando un método que sea fácil de usar de manera efectiva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99000" y="5141880"/>
            <a:ext cx="5205240" cy="30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fectos secundarios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vaya a la página IMP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99000" y="5502240"/>
            <a:ext cx="5205240" cy="316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Para protegerse contra las ITS o el VIH/SIDA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Implantes Nor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" y="116856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6 pequeños tubos de plástic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e se implantan debajo de l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el de la parte superior del b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97560" y="2881440"/>
            <a:ext cx="5205240" cy="87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posible que se necesite retirar este implante a las mujeres de mayor peso corporal después de  4 ó 5 años (vaya a la página IM4). Si la clienta desea continuar usando este método se le puede insertar otro juego de cápsula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mujer fértil puede quedar embarazada muy pronto después de la extracción de Norplant, si así lo des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8816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acerca de los implantes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desea saber más acerca de los implantes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557676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89240" y="11923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24462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4003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2994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" y="2367000"/>
            <a:ext cx="322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muy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3840" y="2914560"/>
            <a:ext cx="410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ura hasta por 7 años, dependiendo del peso de la usu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840" y="3946680"/>
            <a:ext cx="2505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muy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520" y="4365720"/>
            <a:ext cx="4064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r lo general cambia el sangrado menstr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3840" y="4941720"/>
            <a:ext cx="42670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 protección contra l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TS o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1080" y="14760"/>
            <a:ext cx="1143000" cy="762840"/>
            <a:chOff x="181080" y="14760"/>
            <a:chExt cx="1143000" cy="762840"/>
          </a:xfrm>
        </p:grpSpPr>
        <p:sp>
          <p:nvSpPr>
            <p:cNvPr id="141" name=""/>
            <p:cNvSpPr/>
            <p:nvPr/>
          </p:nvSpPr>
          <p:spPr>
            <a:xfrm>
              <a:off x="181080" y="331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7600" y="1476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93920" y="2286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1270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2243400">
            <a:off x="4067280" y="4788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97560" y="3822840"/>
            <a:ext cx="5203800" cy="12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os implantes no son dañinos para la salud. No son molestos para la usuaria ni afectan su fortaleza. Tampoco afectan la calidad de la leche materna en aquellas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es que están amamantan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verigüe si tiene inquietudes o ha oído rumores:</a:t>
            </a:r>
            <a:r>
              <a:rPr b="0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¿Qué ha oído acerca de los implantes?”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xplique los mitos más comunes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s cápsulas no se rompen dentro del cuerpo, son flexibles. (Vea también el Apéndice 10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92520" y="923760"/>
            <a:ext cx="5203800" cy="1425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os implantes Norpla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tienen un progestágeno pero no estróg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Funcionan principalmente espesando el moco cervical (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cual bloquea el paso de los espermatozoides)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y suprimiendo la ovulación (vea Apéndices 4 y 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sisten en cápsulas flexibles que son apenas visibles debajo de la piel. No dejan  una cicatriz notoria si se insertan y retiran correctamen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inserción y extracción la realiza personal capacitado en procedimientos quirúrgicos simp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129600" y="4148280"/>
            <a:ext cx="576360" cy="468000"/>
            <a:chOff x="9129600" y="4148280"/>
            <a:chExt cx="576360" cy="468000"/>
          </a:xfrm>
        </p:grpSpPr>
        <p:sp>
          <p:nvSpPr>
            <p:cNvPr id="150" name=""/>
            <p:cNvSpPr/>
            <p:nvPr/>
          </p:nvSpPr>
          <p:spPr>
            <a:xfrm>
              <a:off x="9129600" y="4148280"/>
              <a:ext cx="576360" cy="46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9279000" y="4195440"/>
              <a:ext cx="288720" cy="38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4692600" y="6143760"/>
            <a:ext cx="4608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la pestañ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7400" y="6864480"/>
            <a:ext cx="135432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243400">
            <a:off x="4092480" y="5308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523880"/>
            <a:ext cx="487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grese cuando sea momento de extraer los impl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57960" y="1401840"/>
            <a:ext cx="4295520" cy="526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onsulte con una/un médico o enfermera s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831080" y="5982480"/>
            <a:ext cx="1746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Tiene la piel u ojos amarill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80360" y="2328120"/>
            <a:ext cx="162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ree que puede estar embarazada, especialmente si tiene dolor o molestia en el vi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77040" y="5279040"/>
            <a:ext cx="16002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ene sangrado menstrual abundante fuera de l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676840" y="4869000"/>
            <a:ext cx="719280" cy="153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731000" y="282240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977240" y="4030920"/>
            <a:ext cx="17002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Tiene infección o dolor constante en el lugar de la inse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4080" y="2666880"/>
            <a:ext cx="504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Regrese si le molest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3924360"/>
            <a:ext cx="4648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Regrese en cualquier momento en que tenga algún problema o desee que se le extraigan los impl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6665760" y="3932280"/>
            <a:ext cx="1354320" cy="1122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8394840" y="5143680"/>
            <a:ext cx="644400" cy="863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600880" y="2381040"/>
            <a:ext cx="120456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 una luz brillante antes de  dolores fuertes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cabeza (migraña con aura)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6740640" y="2171880"/>
            <a:ext cx="857160" cy="1339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52280" y="5511960"/>
            <a:ext cx="4116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00160" y="969840"/>
            <a:ext cx="466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Aft>
                <a:spcPts val="638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Regrese cuando sea momento de que se le extraigan los impla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907560" cy="83808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57960" y="981000"/>
            <a:ext cx="4248000" cy="1495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 que pesa menos de 70 kg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Regrese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7 año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 Si una mujer sube bastante de peso, debiera regresar más pro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 que pesa entre 70 y 79 kg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Regrese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5 año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 que pesa  80 kg o má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Regrese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4 año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ese momento se le podrán reemplazar los implantes o elegir un método nue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 posible, entregue a la clienta una tarjeta duradera que indique la fecha de inserción (incluido el mes) y cuando debe regresar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57294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9560" y="5853240"/>
            <a:ext cx="86104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Tiene plena confianza de que puede usar este método satisfactoriamente? ¿Desea que repita o le explique o algo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  <a:ea typeface="Arial"/>
              </a:rPr>
              <a:t>¡Acuérdese de ofrecerle condones para la doble protección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Por favor regrese cuando tenga preguntas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 desee que se le extraigan los implante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4760" y="5435640"/>
            <a:ext cx="182880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1800" y="34434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2880" y="981000"/>
            <a:ext cx="464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2720" y="10065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326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1800" y="4320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190440" y="3290760"/>
            <a:ext cx="4778280" cy="198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Consulte con una/un médico o enfermera si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e una luz brillante antes de dolores fuertes de cabeza      (migraña con au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ree que puede estar embarazada, especialmente si tien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olor o molestia en el vi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iene infección o dolor constante en el lugar de la inser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iene sangrado menstrual profuso y abundante fuera de lo comú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iene la piel u ojos amarill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57960" y="3459240"/>
            <a:ext cx="4260600" cy="106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Signos por los que debe regresa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En muchos de los casos estos signos no están relacionadas con los implantes, pero debe consultar con una/un médico o enfermera para que pueda determinar si se presenta un problema grave y si puede continuar usando los implantes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Quiero que sepa cuáles son los signos y que los recuerd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73800" y="5157720"/>
            <a:ext cx="4232160" cy="41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otro personal médico le pregunta acerca de sus medicamentos, ella debe mencionar que está usando los impla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520120" y="6203880"/>
            <a:ext cx="576000" cy="468360"/>
            <a:chOff x="8520120" y="6203880"/>
            <a:chExt cx="576000" cy="468360"/>
          </a:xfrm>
        </p:grpSpPr>
        <p:sp>
          <p:nvSpPr>
            <p:cNvPr id="334" name=""/>
            <p:cNvSpPr/>
            <p:nvPr/>
          </p:nvSpPr>
          <p:spPr>
            <a:xfrm>
              <a:off x="8520120" y="62038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8659800" y="63295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5460840" y="4664160"/>
            <a:ext cx="4245120" cy="31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sangrado dura más de 8 días o es el doble de lo us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5800" y="1484280"/>
            <a:ext cx="4176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45040" y="2678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57960" y="2630520"/>
            <a:ext cx="424800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Recuerde a la clienta que se le puede extraer los implantes en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ualquier moment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que así lo dese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0160" y="1684440"/>
            <a:ext cx="504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 Regrese si le molesta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0160" y="2351160"/>
            <a:ext cx="4592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Regrese en cualquier momento que tenga un problema o desea que se le extraigan los impla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41800" y="46512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 rot="20498400">
            <a:off x="5168880" y="2053800"/>
            <a:ext cx="4722840" cy="31021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0160" y="1025640"/>
            <a:ext cx="5832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un procedimiento quirúrgico senci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permanente. Es para hombres que no desean tener más h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muy efec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muy segu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afecta la capacidad sex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ofrece protección contra las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TS o VIH/S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Vasectomía para los homb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523872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Desea saber más acerca de la vasectomía o preferiría hablar sobre otro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33520" y="5467320"/>
            <a:ext cx="1103040" cy="1390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799240" y="1900080"/>
            <a:ext cx="3676680" cy="3760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H="1" flipV="1">
            <a:off x="7400880" y="4292280"/>
            <a:ext cx="1873440" cy="1152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02400" y="5679000"/>
            <a:ext cx="23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Los conductos se cortan aqu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2997360"/>
            <a:ext cx="9372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414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Pero, en general, una mujer no podrá usar los implantes si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40"/>
            <a:ext cx="9907560" cy="113832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én puede y quién no pue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usar los impl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6120" y="1928880"/>
            <a:ext cx="3581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La mayoría de las mujeres pueden usar los implantes en forma seg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5678280"/>
            <a:ext cx="27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á amamantando por 6 semanas o m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5000" y="5663520"/>
            <a:ext cx="19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2480" y="5607000"/>
            <a:ext cx="2451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766000">
            <a:off x="3784320" y="3987720"/>
            <a:ext cx="1523880" cy="11145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48280" y="4064040"/>
            <a:ext cx="855360" cy="1481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21522600">
            <a:off x="4757400" y="1333440"/>
            <a:ext cx="4324320" cy="18669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766000">
            <a:off x="6540120" y="4236840"/>
            <a:ext cx="1676520" cy="1130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225400">
            <a:off x="819360" y="3835080"/>
            <a:ext cx="1280880" cy="1535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14400" y="4013280"/>
            <a:ext cx="1085760" cy="1625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875640" y="4351320"/>
            <a:ext cx="942840" cy="118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162400" y="1496880"/>
            <a:ext cx="33339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8520" y="2282760"/>
            <a:ext cx="4035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á amamantando por 6 semanas o m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16520" y="1371600"/>
            <a:ext cx="4727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Podemos determinar si puede usar los implantes de Norplant sin riesgos. Por lo general, las mujeres que presentan cualquiera de estas condiciones médicas de salud deben usar otro métod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907560" cy="118260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Quién puede y quién no puede u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os impl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6520" y="2313000"/>
            <a:ext cx="4727520" cy="44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ídale que regrese cuando el bebé tenga 6 semanas de nacido.  Exhórtela a que continúe amamantan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62680"/>
            <a:ext cx="9906120" cy="9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2120" y="6108840"/>
            <a:ext cx="43722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la clienta no puede usar los implantes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" y="6103800"/>
            <a:ext cx="3886200" cy="725760"/>
          </a:xfrm>
          <a:prstGeom prst="downArrowCallout">
            <a:avLst>
              <a:gd name="adj1" fmla="val 535516"/>
              <a:gd name="adj2" fmla="val 26773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la clienta puede usar los implantes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aya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6560" y="3089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46560" y="2382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4080" y="40320"/>
            <a:ext cx="1143000" cy="762840"/>
            <a:chOff x="154080" y="40320"/>
            <a:chExt cx="1143000" cy="762840"/>
          </a:xfrm>
        </p:grpSpPr>
        <p:sp>
          <p:nvSpPr>
            <p:cNvPr id="179" name=""/>
            <p:cNvSpPr/>
            <p:nvPr/>
          </p:nvSpPr>
          <p:spPr>
            <a:xfrm>
              <a:off x="154080" y="5868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0600" y="4032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66920" y="25416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9440" y="1438200"/>
            <a:ext cx="46101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La mayoría de las mujeres pueden usar los implantes con toda seguridad. Pero, en general, una mujer no podrá usar los implantes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81960" y="6491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520" y="358128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6520" y="4046400"/>
            <a:ext cx="4726080" cy="180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iene coágulos de sangre en los pulmones o coágulo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fundos en las piernas. Las mujeres con coágulos superficiales (incluidas las varices) sí PUEDEN usar los impla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ha tenido alguna vez cáncer de ma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iene sangrado vaginal inexplicable: Si el sangrado sugiere la presencia de una condición grave, ayúdele a elegir un método no hormonal para que use hasta que pueda evaluarse la causa del sangr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iene una enfermedad hepática grave o ictericia (piel u ojos amarillento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4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oma medicamentos para la tuberculosis (TB), para infecciones fúngicas o para la epilepsia (convulsiones o ataqu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46560" y="4089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8520" y="3003480"/>
            <a:ext cx="4267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920" y="568008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" y="4141800"/>
            <a:ext cx="4170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r lo general, no debe usar los implantes si presenta cualquiera de estas condiciones médicas serias (si tiene dudas, verifique el manual o refiérala a otro centro asisten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6520" y="3002040"/>
            <a:ext cx="474516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dudas, use la lista de verificación del embarazo en el Apéndice 1 ó haga una prueba de embaraz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1440"/>
            <a:ext cx="9917280" cy="6496200"/>
            <a:chOff x="0" y="1440"/>
            <a:chExt cx="9917280" cy="6496200"/>
          </a:xfrm>
        </p:grpSpPr>
        <p:sp>
          <p:nvSpPr>
            <p:cNvPr id="192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Arial"/>
                </a:rPr>
                <a:t>Efectos secundarios posibl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766000">
              <a:off x="5505480" y="2249280"/>
              <a:ext cx="1447920" cy="106668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313240" y="2492280"/>
              <a:ext cx="194940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28600" y="2138400"/>
              <a:ext cx="4000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7200" indent="-187200">
                <a:lnSpc>
                  <a:spcPct val="95000"/>
                </a:lnSpc>
                <a:spcBef>
                  <a:spcPts val="689"/>
                </a:spcBef>
                <a:spcAft>
                  <a:spcPts val="1375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3300"/>
                  </a:solidFill>
                  <a:latin typeface="Arial"/>
                </a:rPr>
                <a:t>Muy común: </a:t>
              </a:r>
              <a:br>
                <a:rPr sz="2200"/>
              </a:b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Manchado o sangrado lev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3281400"/>
              <a:ext cx="5638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7200" indent="-187200">
                <a:lnSpc>
                  <a:spcPct val="95000"/>
                </a:lnSpc>
                <a:spcBef>
                  <a:spcPts val="689"/>
                </a:spcBef>
                <a:spcAft>
                  <a:spcPts val="1375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3300"/>
                  </a:solidFill>
                  <a:latin typeface="Arial"/>
                </a:rPr>
                <a:t>Común:</a:t>
              </a: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Sangrado irregular, ausencia de menstruacion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4043520"/>
              <a:ext cx="5638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7200" indent="-187200">
                <a:lnSpc>
                  <a:spcPct val="95000"/>
                </a:lnSpc>
                <a:spcBef>
                  <a:spcPts val="689"/>
                </a:spcBef>
                <a:spcAft>
                  <a:spcPts val="1375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3300"/>
                  </a:solidFill>
                  <a:latin typeface="Arial"/>
                </a:rPr>
                <a:t>Menos común:</a:t>
              </a: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algunos otr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45160" y="4869000"/>
              <a:ext cx="3081600" cy="1301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Cómo se sentiría si tuviera estos efectos secundario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6105600" y="5373720"/>
              <a:ext cx="14475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2760" y="1211400"/>
              <a:ext cx="970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200" spc="-1" strike="noStrike">
                  <a:solidFill>
                    <a:srgbClr val="ff3300"/>
                  </a:solidFill>
                  <a:latin typeface="Arial"/>
                </a:rPr>
                <a:t>Si elige este método, es posible que sienta algunos efectos </a:t>
              </a:r>
              <a:br>
                <a:rPr sz="2200"/>
              </a:br>
              <a:r>
                <a:rPr b="1" i="1" lang="es-ES_tradnl" sz="2200" spc="-1" strike="noStrike">
                  <a:solidFill>
                    <a:srgbClr val="ff3300"/>
                  </a:solidFill>
                  <a:latin typeface="Arial"/>
                </a:rPr>
                <a:t>secundarios. En general, no son signos de una enfermedad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05240" y="2590920"/>
            <a:ext cx="5475240" cy="86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s importante explicar los cambios en la menstruación: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os cambios son comunes y por lo  tanto son de esperar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menorrea (ausencia de menstruaciones)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No afecta la fecundidad de manera permanente. Rara vez es un signo de embarazo. Explique que la sangre no se acumula en el cuerp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fectos secundarios pos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ntiende los efectos secundarios? 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614376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614376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ble más respecto a los implantes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00440" y="1962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8520" y="-1080"/>
            <a:ext cx="1143000" cy="762840"/>
            <a:chOff x="128520" y="-1080"/>
            <a:chExt cx="1143000" cy="762840"/>
          </a:xfrm>
        </p:grpSpPr>
        <p:sp>
          <p:nvSpPr>
            <p:cNvPr id="208" name=""/>
            <p:cNvSpPr/>
            <p:nvPr/>
          </p:nvSpPr>
          <p:spPr>
            <a:xfrm>
              <a:off x="128520" y="1728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5040" y="-108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441360" y="21276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597560" y="129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05240" y="936720"/>
            <a:ext cx="547524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uede pasar un tiempo antes de que su cuerpo se adapt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reacciones a los métodos varían de una mujer a otra.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 acerca d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Si usted tuviera estos efectos secundarios,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 ¿Qué le parecería o cómo se sentiría al respecto?”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¿Qué implicarían para usted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¿Qué harí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ble acerca de cualquier rumor o inquietud. Vea el Apéndice 10 acerca de los mi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05240" y="3559320"/>
            <a:ext cx="5475240" cy="122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fectos secundarios menos comun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lores de cabeza, dolor en el abdomen bajo, mareos, sensibilidad al tacto en los senos, malestar estomacal (náuseas), nerviosism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los dolores de cabeza puede tomar paracetamol o ibuprof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fectos secundarios poco comun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né o erupción cutánea, cambios en el apetito, aumento de peso, pérdida del cabello o más vello en la ca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62560" y="1693800"/>
            <a:ext cx="597240" cy="468360"/>
            <a:chOff x="8962560" y="1693800"/>
            <a:chExt cx="597240" cy="468360"/>
          </a:xfrm>
        </p:grpSpPr>
        <p:sp>
          <p:nvSpPr>
            <p:cNvPr id="217" name=""/>
            <p:cNvSpPr/>
            <p:nvPr/>
          </p:nvSpPr>
          <p:spPr>
            <a:xfrm flipH="1">
              <a:off x="8962200" y="169380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8977320" y="170208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4303800" y="4869000"/>
            <a:ext cx="5475240" cy="8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ite a la clienta a regresar en cualquier momento que necesite ayu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Es aceptable cambiar de método cuando así lo desee. Por favor regrese si desea que se le retiren los implantes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tratar el tema de los efectos secundarios, vaya a la pestaña Usuaria/o de un anticoncep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8520" y="2060640"/>
            <a:ext cx="4419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Muy común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chado o sangrado l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2728800"/>
            <a:ext cx="4464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ú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ngrado irre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sencia de la menstr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3160" y="3959280"/>
            <a:ext cx="4419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Menos comun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gunos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964720" y="1166760"/>
            <a:ext cx="596520" cy="468360"/>
            <a:chOff x="8964720" y="1166760"/>
            <a:chExt cx="596520" cy="468360"/>
          </a:xfrm>
        </p:grpSpPr>
        <p:sp>
          <p:nvSpPr>
            <p:cNvPr id="224" name=""/>
            <p:cNvSpPr/>
            <p:nvPr/>
          </p:nvSpPr>
          <p:spPr>
            <a:xfrm>
              <a:off x="8964720" y="1166760"/>
              <a:ext cx="59652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9119160" y="1214280"/>
              <a:ext cx="2988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 rot="1882200">
            <a:off x="3732120" y="25347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28880" y="39736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624880" y="5672160"/>
            <a:ext cx="504720" cy="409680"/>
            <a:chOff x="8624880" y="5672160"/>
            <a:chExt cx="504720" cy="409680"/>
          </a:xfrm>
        </p:grpSpPr>
        <p:sp>
          <p:nvSpPr>
            <p:cNvPr id="229" name=""/>
            <p:cNvSpPr/>
            <p:nvPr/>
          </p:nvSpPr>
          <p:spPr>
            <a:xfrm>
              <a:off x="8624880" y="5672160"/>
              <a:ext cx="504720" cy="40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8747280" y="5781960"/>
              <a:ext cx="293040" cy="21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3728880" y="3054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0160" y="836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Si elige este método, es posible que sienta algunos efectos secundarios. En general, no son signos de una enferm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5492880"/>
            <a:ext cx="1754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1440"/>
            <a:ext cx="9907560" cy="6307200"/>
            <a:chOff x="0" y="1440"/>
            <a:chExt cx="9907560" cy="6307200"/>
          </a:xfrm>
        </p:grpSpPr>
        <p:sp>
          <p:nvSpPr>
            <p:cNvPr id="235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"/>
                </a:rPr>
                <a:t>Inserción y extracción del implant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920" y="1468440"/>
              <a:ext cx="4991040" cy="46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 inserción y extracción debe ser rápida y fáci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 inyección suprime el dol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/el proveedor implanta 6 cápsulas debajo de la piel de la parte superior interna del braz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/el proveedor coloca un vendaje en la incisión de la piel y lo envuelve alrededor del brazo.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No hay necesidad de sutura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eben extraerse después de 4 a 7 años, según el peso de la clien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806800" y="1118520"/>
              <a:ext cx="3832200" cy="2853000"/>
              <a:chOff x="5806800" y="1118520"/>
              <a:chExt cx="3832200" cy="2853000"/>
            </a:xfrm>
          </p:grpSpPr>
          <p:sp>
            <p:nvSpPr>
              <p:cNvPr id="238" name=""/>
              <p:cNvSpPr/>
              <p:nvPr/>
            </p:nvSpPr>
            <p:spPr>
              <a:xfrm rot="21209400">
                <a:off x="5905080" y="1317240"/>
                <a:ext cx="3623760" cy="194544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75640" y="1358280"/>
                <a:ext cx="3663360" cy="261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" name=""/>
            <p:cNvGrpSpPr/>
            <p:nvPr/>
          </p:nvGrpSpPr>
          <p:grpSpPr>
            <a:xfrm>
              <a:off x="5259240" y="3995640"/>
              <a:ext cx="1189080" cy="1809720"/>
              <a:chOff x="5259240" y="3995640"/>
              <a:chExt cx="1189080" cy="1809720"/>
            </a:xfrm>
          </p:grpSpPr>
          <p:sp>
            <p:nvSpPr>
              <p:cNvPr id="241" name=""/>
              <p:cNvSpPr/>
              <p:nvPr/>
            </p:nvSpPr>
            <p:spPr>
              <a:xfrm>
                <a:off x="5330880" y="3995640"/>
                <a:ext cx="1117440" cy="172872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9240" y="4066920"/>
                <a:ext cx="1028880" cy="173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"/>
            <p:cNvSpPr/>
            <p:nvPr/>
          </p:nvSpPr>
          <p:spPr>
            <a:xfrm>
              <a:off x="6591240" y="4807080"/>
              <a:ext cx="3103560" cy="1501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Está preparada para usar este método? ¿Tiene pregunta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6081840" y="5362560"/>
              <a:ext cx="121896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919840"/>
            <a:ext cx="9909000" cy="94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La clienta entiende el procedimiento de inserción y extracción de los implantes? ¿Está preparada para usar el méto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erción y extracción de los impl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06920" y="874800"/>
            <a:ext cx="5186520" cy="820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xplique que una/un profesional con capacitación especializada efectuará el proced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or lo general la inserción lleva de 5 a 10 minu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Usualmente la extracción lleva alrededor de 15 minutos y, a veces, un poco má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06920" y="1755720"/>
            <a:ext cx="5186520" cy="4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mita que la clienta examine una cápsula de muest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 posible, enséñele una foto de las cápsulas debajo de la pi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06920" y="2763720"/>
            <a:ext cx="5192640" cy="11383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inserción y extracción se hacen con mucho cuid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e realiza simplemente una abertura pequeña en la piel. Es posible que tenga un dolor leve, hinchazón o hematoma por unos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antenga el área seca por 5 días. El vendaje se puede retirar</a:t>
            </a:r>
            <a:r>
              <a:rPr b="1" lang="es-ES" sz="12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a los 5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or favor regrese si el brazo le duele por más de 5 días o si se pone rojo o tiene un líquido amarillent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9160" y="1023840"/>
            <a:ext cx="3776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serción y la extracción debe ser rápida y fá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8006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59360" y="2330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9656600">
            <a:off x="4059360" y="3584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255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800" y="4320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4603680" y="2279520"/>
            <a:ext cx="51944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Un anestésico local suprime el dolor durante la inserción. La clienta permanece despier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9360" y="1049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3963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99000" y="3954600"/>
            <a:ext cx="5199120" cy="189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¿Cuándo se extraen o reemplazan los implante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os implantes Norplant deben extraerse o reemplazarse de 4 a 7 años después de su inserción, según el peso de la clienta, ya que el método se vuelve menos eficaz en las mujeres de mayor peso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-856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pesa menos de 70 Kg.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clienta puede tener los implantes en su lugar hasta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por 7 años, a menos que su peso aumente a 70 Kg. o má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-856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pesa entre 70 y 79 Kg.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clienta debe regresar después de 5 años para que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se le extraigan los implantes, a menos que su peso aumente a 80 Kg. o má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-856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pesa 80 Kg. o má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clienta debe regresar después de 4 años para que se le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extraigan los impla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espués de la extracción, la mujer puede recibir nuevos implantes o cambiar de méto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8520" y="2306520"/>
            <a:ext cx="3781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yección suprime el d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9160" y="2651040"/>
            <a:ext cx="44434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/el proveedor implanta 6 cápsulas debajo de la piel en la parte superior interna del b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9160" y="3456000"/>
            <a:ext cx="40305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/el proveedor pone un vendaje sobre la incisión y lo envuelve alrededor del brazo. No hay necesidad de sutu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8520" y="4673520"/>
            <a:ext cx="3652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cesitan extraerse después de 4 a 7 años, según el peso de la cli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59360" y="4616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59360" y="31910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769240" y="6208560"/>
            <a:ext cx="576000" cy="468360"/>
            <a:chOff x="8769240" y="6208560"/>
            <a:chExt cx="576000" cy="468360"/>
          </a:xfrm>
        </p:grpSpPr>
        <p:sp>
          <p:nvSpPr>
            <p:cNvPr id="269" name=""/>
            <p:cNvSpPr/>
            <p:nvPr/>
          </p:nvSpPr>
          <p:spPr>
            <a:xfrm>
              <a:off x="8769240" y="62085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8908920" y="63342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990720" y="6216480"/>
            <a:ext cx="3962160" cy="597240"/>
          </a:xfrm>
          <a:prstGeom prst="downArrowCallout">
            <a:avLst>
              <a:gd name="adj1" fmla="val 663472"/>
              <a:gd name="adj2" fmla="val 3317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ha decidido usar el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9240" y="6216480"/>
            <a:ext cx="343872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able más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erc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Norplant o consider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2920" y="560700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1440"/>
            <a:ext cx="9907560" cy="6323040"/>
            <a:chOff x="0" y="1440"/>
            <a:chExt cx="9907560" cy="6323040"/>
          </a:xfrm>
        </p:grpSpPr>
        <p:sp>
          <p:nvSpPr>
            <p:cNvPr id="275" name=""/>
            <p:cNvSpPr/>
            <p:nvPr/>
          </p:nvSpPr>
          <p:spPr>
            <a:xfrm rot="34800">
              <a:off x="6238440" y="1884240"/>
              <a:ext cx="2789280" cy="207972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000000"/>
                  </a:solidFill>
                  <a:latin typeface="Arial"/>
                </a:rPr>
                <a:t>Es posible que pueda empezar ho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537240" y="1990800"/>
              <a:ext cx="2486160" cy="41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04920" y="2171880"/>
              <a:ext cx="47242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uede empezar cualquier día del ciclo menstrual si podemos estar seguras/os de que no está embaraz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880" y="4978440"/>
              <a:ext cx="5181840" cy="99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Le gustaría empezar ahor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228600" y="520056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Es posible que pueda empezar ho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27880" y="42480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79132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stá preparada para empezar ahor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1157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520" y="43200"/>
            <a:ext cx="1143000" cy="762840"/>
            <a:chOff x="182520" y="43200"/>
            <a:chExt cx="1143000" cy="762840"/>
          </a:xfrm>
        </p:grpSpPr>
        <p:sp>
          <p:nvSpPr>
            <p:cNvPr id="286" name=""/>
            <p:cNvSpPr/>
            <p:nvPr/>
          </p:nvSpPr>
          <p:spPr>
            <a:xfrm>
              <a:off x="18252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9040" y="4320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495360" y="25668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792000" y="6040440"/>
            <a:ext cx="3726000" cy="743040"/>
          </a:xfrm>
          <a:prstGeom prst="downArrowCallout">
            <a:avLst>
              <a:gd name="adj1" fmla="val 501499"/>
              <a:gd name="adj2" fmla="val 25072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00cc"/>
                </a:solidFill>
                <a:latin typeface="Arial"/>
              </a:rPr>
              <a:t>Si es así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e los implantes o haga preparativos para realizar la inserción lo más pronto po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18080" y="6039000"/>
            <a:ext cx="4716360" cy="72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programe otra consulta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durante la siguiente menstruación sería el mejor momento)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Entréguele condon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ra que los use hasta entonces. Explíquele cómo se us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80" y="1103400"/>
            <a:ext cx="2865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empezar cualquier día del ciclo menstrual si podem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r seguras/os de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no está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98920" y="865080"/>
            <a:ext cx="6192720" cy="150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la menstruación le comenzó en los últimos 7 día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a usar los implantes sin necesidad de protección adicion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la menstruación le comenzó hace más de 7 días o si tiene amenorrea (ausencia de la menstruación)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si usted está razonablemente segura/o de que no está embarazada (use l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sta de comprobación del Apéndice 1).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hace falta que espere hasta la siguiente menstru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recibir los implan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deb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vitar tener relaciones sexuales o debe usar condones por 7 día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spués de la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inserció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8920" y="4681440"/>
            <a:ext cx="619272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está cambiando de méto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las píldoras, ahora es el momento más indicado para comenz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los inyectables, debería empezar en el momento en que hubiera recibido la siguiente iny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usando el DIU, y la menstruación le comenzó hace más de 7 días, puede empezar ahora pero debe dejar el DIU en su lugar hasta la siguiente menstru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8920" y="2446200"/>
            <a:ext cx="619272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 y si está amamant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stá amamantando en forma exclusiva (o casi exclusiv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puede empezar a las 6 semanas de haber dado a luz. No necesitará protección adicional si se encuentra entre las 6 semanas y 6 meses de haber dado a luz y todavía no le ha vuelto la menstr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ólo está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mamantando parcialmente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es mejor empezar a las 6 semanas de haber dado a luz. Si espera más tiempo corre el riesgo de quedar embaraz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 y si NO está amamant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inmediatamente después de dar a luz sin necesidad de protección adicional. Si se encuentra en las primeras 4 semanas de haber dado a luz, no necesita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98920" y="4030560"/>
            <a:ext cx="6192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 un aborto espontáneo o induci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comenzar inmediatamente después de un aborto. Si se encuentra en los primeros 7 días después de un aborto, no necesita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2920" y="5484960"/>
            <a:ext cx="1754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3-07-18T11:23:00Z</cp:lastPrinted>
  <dcterms:modified xsi:type="dcterms:W3CDTF">2006-10-20T13:47:39Z</dcterms:modified>
  <cp:revision>985</cp:revision>
  <dc:subject/>
  <dc:title>No Slide Title</dc:title>
</cp:coreProperties>
</file>