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2825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711360" y="744120"/>
            <a:ext cx="537840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49840" y="9435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F81CBE4-1D65-41F3-A436-A941B04770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dd important local myths about vasectomy to this pag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“No-Scalpel Vasectomy” is commonly available, adapt guidance in this sectio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the common terminology in the country for female sterilization? If wording is changed here, the terminology used in other sections of the tool will need to be chang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referral from the family planning service to other facilities is necessary, relevant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ormation can be added he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age on the right shows a “No-Scapel” puncture. Can adapt guidance and images to commonly-used procedur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uidance can be adapted to local context. For example, if procedure is always done in hospital; or if stitches are commonly used.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If vasectomy procedure is not performed by the family planning providers/counsellors, this page could be remo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ff"/>
                </a:solidFill>
                <a:latin typeface="Arial"/>
              </a:rPr>
              <a:t>If vasectomy procedure is not performed by the family planning providers/counsellors, this page could be remov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080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080" y="137160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080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080" y="3561120"/>
            <a:ext cx="1447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4520" y="356112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4520" y="1371600"/>
            <a:ext cx="21938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60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6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Vasectomía para los homb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6280" y="939960"/>
            <a:ext cx="40388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un procedimiento quirúrgico senc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2338560"/>
            <a:ext cx="4876560" cy="1214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</a:rPr>
              <a:t>En general no es reversib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Por favor piénselo detenidamente. ¿Es posible que quiera tener más hijos en el futuro? ¿Qué pasaría si no pudiera tener más hijos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gunte al cliente acerca de las preferencias o inquietudes de su parej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bién puede considerar la esterilización femenina. Sin embargo, la vasectomía es un procedimiento más simple y seguro, y es un poco más efectiv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76920" y="3602160"/>
            <a:ext cx="4876560" cy="695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uno de los métodos de planificación familiar más efectiv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o su efectividad no es inmediata. El cliente debe usar condones o la pareja debe usar un método efectivo por 3 meses después del procedimiento.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¿Le sería esto difícil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6920" y="5386320"/>
            <a:ext cx="487656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0000"/>
                </a:solidFill>
                <a:latin typeface="Arial"/>
              </a:rPr>
              <a:t>Para protegerse contra las ITS/VIH/SIDA,</a:t>
            </a: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 use también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Desea saber más acerca de la vasectomía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el cliente desea saber más acerca de la vasectomía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7080" y="5499000"/>
            <a:ext cx="1847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80040" y="1031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80040" y="35830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80040" y="23320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06800">
            <a:off x="4251240" y="46051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094400">
            <a:off x="4280040" y="417528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876920" y="4392720"/>
            <a:ext cx="4876560" cy="928440"/>
            <a:chOff x="4876920" y="4392720"/>
            <a:chExt cx="4876560" cy="928440"/>
          </a:xfrm>
        </p:grpSpPr>
        <p:sp>
          <p:nvSpPr>
            <p:cNvPr id="58" name=""/>
            <p:cNvSpPr/>
            <p:nvPr/>
          </p:nvSpPr>
          <p:spPr>
            <a:xfrm>
              <a:off x="4876920" y="4392720"/>
              <a:ext cx="4876560" cy="928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14480" indent="-114480">
                <a:lnSpc>
                  <a:spcPct val="9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</a:rPr>
                <a:t>Averigüe si tiene inquietudes o ha oído rumores:</a:t>
              </a:r>
              <a:br>
                <a:rPr sz="1000"/>
              </a:br>
              <a:r>
                <a:rPr b="0" i="1" lang="es-ES" sz="1000" spc="-1" strike="noStrike">
                  <a:solidFill>
                    <a:srgbClr val="000000"/>
                  </a:solidFill>
                  <a:latin typeface="Arial"/>
                </a:rPr>
                <a:t>“¿Qué ha oído acerca de la vasectomía?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3300"/>
                  </a:solidFill>
                  <a:latin typeface="Arial"/>
                </a:rPr>
                <a:t>Explique los mitos más comunes: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 una castración. Después puede tener erecciones y eyaculaciones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14480" indent="-114480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O afecta la masculinidad. NO hace a los hombres más femenino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9055080" y="4451400"/>
              <a:ext cx="576360" cy="468360"/>
              <a:chOff x="9055080" y="4451400"/>
              <a:chExt cx="576360" cy="468360"/>
            </a:xfrm>
          </p:grpSpPr>
          <p:sp>
            <p:nvSpPr>
              <p:cNvPr id="60" name=""/>
              <p:cNvSpPr/>
              <p:nvPr/>
            </p:nvSpPr>
            <p:spPr>
              <a:xfrm>
                <a:off x="9055080" y="4451400"/>
                <a:ext cx="576360" cy="4683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9204480" y="4498920"/>
                <a:ext cx="288720" cy="384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5778360"/>
            <a:ext cx="855720" cy="1079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6280" y="2197080"/>
            <a:ext cx="40388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ermanente. Es para hombres que no desean tener más hij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6280" y="3359160"/>
            <a:ext cx="4038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muy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6280" y="3887640"/>
            <a:ext cx="20084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muy seg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360" y="4494240"/>
            <a:ext cx="3665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afecta la capacidad sex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360" y="4954680"/>
            <a:ext cx="4038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frece protección contra las ITS o el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9800" y="995400"/>
            <a:ext cx="487692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cerca de la vasectomí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unciona impidiendo que los espermatozoides pasen al semen. Los conductos que los transportan son corta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hombre permanece despierto durante el procedimiento y recibe una inyección para el dolor (anestésico local)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 general, el hombre puede regresar a casa en unas hor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 posible que duela por unos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46880" y="18000"/>
            <a:ext cx="1171440" cy="766080"/>
            <a:chOff x="146880" y="18000"/>
            <a:chExt cx="1171440" cy="766080"/>
          </a:xfrm>
        </p:grpSpPr>
        <p:sp>
          <p:nvSpPr>
            <p:cNvPr id="71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6880" y="18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"/>
          <p:cNvSpPr/>
          <p:nvPr/>
        </p:nvSpPr>
        <p:spPr>
          <a:xfrm>
            <a:off x="5045040" y="6143760"/>
            <a:ext cx="4256280" cy="600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vaya a la pestaña de otro método o a la pestañ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Método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872400"/>
            <a:ext cx="1353960" cy="4381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asectom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06800">
            <a:off x="4251240" y="51717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4931640" y="1927440"/>
            <a:ext cx="5197320" cy="3888720"/>
            <a:chOff x="4931640" y="1927440"/>
            <a:chExt cx="5197320" cy="3888720"/>
          </a:xfrm>
        </p:grpSpPr>
        <p:sp>
          <p:nvSpPr>
            <p:cNvPr id="216" name=""/>
            <p:cNvSpPr/>
            <p:nvPr/>
          </p:nvSpPr>
          <p:spPr>
            <a:xfrm rot="20988600">
              <a:off x="5168520" y="2320560"/>
              <a:ext cx="4722840" cy="310212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5791320" y="2259000"/>
              <a:ext cx="3697200" cy="333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"/>
          <p:cNvSpPr/>
          <p:nvPr/>
        </p:nvSpPr>
        <p:spPr>
          <a:xfrm>
            <a:off x="0" y="1440"/>
            <a:ext cx="9904320" cy="101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Esterilización femen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920" y="1028880"/>
            <a:ext cx="5759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1840" indent="-23184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 procedimiento quirúr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se extrae el útero. Seguirá teniendo la menstru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permanente. Es para mujeres que no desean tener más hi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muy efec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 método muy segu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tiene efectos secundarios a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No ofrece protección contra las ITS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 el VIH/S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51800" y="1168920"/>
            <a:ext cx="28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Las trompas se cortan aquí o se bloqu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183080" y="2057400"/>
            <a:ext cx="1655640" cy="1371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119800" y="2057400"/>
            <a:ext cx="718920" cy="13716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5378400"/>
            <a:ext cx="533376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Desea saber más acerca de la esterilización femenina o preferiría hablar sobre otro método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33520" y="5657760"/>
            <a:ext cx="1447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 rot="21522600">
            <a:off x="3466800" y="1352160"/>
            <a:ext cx="5143320" cy="19335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0176200">
            <a:off x="5257440" y="4289400"/>
            <a:ext cx="2593800" cy="188280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ándo puede realizarse la vasectom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505320"/>
            <a:ext cx="5456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Pero necesitarán esperar s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ienen problemas en los genitales, tales como infección, hinchazón, lesiones, nódulos en el pene o en </a:t>
            </a: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escro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17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gún otro problema grave o infec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417680"/>
            <a:ext cx="32767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00"/>
                </a:solidFill>
                <a:latin typeface="Arial"/>
              </a:rPr>
              <a:t>En la mayoría de los hombres se puede hacer</a:t>
            </a: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 una vasectomía en cualquier momen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790800" y="1504800"/>
            <a:ext cx="4553280" cy="2152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046920" y="4076640"/>
            <a:ext cx="11365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-1440"/>
            <a:ext cx="9907560" cy="838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3400" spc="-1" strike="noStrike">
                <a:solidFill>
                  <a:srgbClr val="000000"/>
                </a:solidFill>
                <a:latin typeface="Arial"/>
              </a:rPr>
              <a:t>Cuando puede realizarse la vasectomí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57800" y="2895480"/>
            <a:ext cx="4114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0840" y="1341360"/>
            <a:ext cx="4800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 la mayoría de los hombres se puede hacer</a:t>
            </a: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 una vasectomía en cualquier mo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409840"/>
            <a:ext cx="4267440" cy="121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Aplace</a:t>
            </a:r>
            <a:r>
              <a:rPr b="0" lang="es-ES_tradnl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(hasta que se resuelva el problema) si el cliente presenta una ITS; inflamación en la cabeza del pene, los conductos espermáticos o los testículos; infección de la piel del escroto o nódulos en el escroto. Refiera al cliente para que reciba tratamiento para estos problem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Refiera o tenga precaución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 cualquier otro problema en área geni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444680"/>
            <a:ext cx="4267440" cy="693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No existen condiciones que descarten la vasectomía, pero puede ser que algunos problemas la demoren, que se necesite referir al cliente o tomar precauciones especial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29200" y="3428640"/>
            <a:ext cx="2286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781440"/>
            <a:ext cx="4267440" cy="159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Aplace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(hasta que se resuelva el problema) si el cliente presenta una infección sistémica grave o gastroenteritis agu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Refiera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presenta una enfermedad relacionada con el SIDA o un problema de coagulación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procedimiento debe realizarlo un cirujano con experiencia en clínicas bien equipada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ff3300"/>
                </a:solidFill>
                <a:latin typeface="Arial"/>
              </a:rPr>
              <a:t>Tenga precaución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padece de diabetes.</a:t>
            </a:r>
            <a:r>
              <a:rPr b="1" lang="es-ES_tradnl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procedimiento puede realizarse, pero después debe vigilarse con cuidado la aparición de infecciones en la heri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07080" y="2666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7080" y="390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8816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84520" y="6019920"/>
            <a:ext cx="4735800" cy="62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no se puede hacer la vasectomía ahora o en este servicio,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fiéralo a otro servicio según sea neces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19920"/>
            <a:ext cx="3718080" cy="825480"/>
          </a:xfrm>
          <a:prstGeom prst="downArrowCallout">
            <a:avLst>
              <a:gd name="adj1" fmla="val 450456"/>
              <a:gd name="adj2" fmla="val 225207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se puede hacer la vasectomía en este cliente, 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840" y="2251080"/>
            <a:ext cx="4800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Pero necesitarán esperar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7080" y="2637000"/>
            <a:ext cx="480060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n problemas en los genitales,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les como infección, hinchazón, lesiones, nódulos en el pene o escr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0840" y="3675240"/>
            <a:ext cx="4800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spcBef>
                <a:spcPts val="24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gún otro problema grave o inf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45440" y="18000"/>
            <a:ext cx="1171440" cy="766080"/>
            <a:chOff x="145440" y="18000"/>
            <a:chExt cx="1171440" cy="766080"/>
          </a:xfrm>
        </p:grpSpPr>
        <p:sp>
          <p:nvSpPr>
            <p:cNvPr id="101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5440" y="18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27080" y="5603760"/>
            <a:ext cx="1847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Antes de tomar una decis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833480"/>
            <a:ext cx="510516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Hablemos sob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étodos temporales que también están disponi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vasectomía es un procedimiento quirúrg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iene riesgos y benefi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Impide tener más hi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permanente—debe pensar muy bien su decis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uede cambiar su decisión en cualquier momento antes de la cirugía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62600" y="4924440"/>
            <a:ext cx="4846680" cy="1689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¿Está</a:t>
            </a: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 preparado 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para elegir este método? ¿Desea saber más sobre el procedi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1522000">
            <a:off x="5407200" y="1909800"/>
            <a:ext cx="4189320" cy="2281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67200" y="5305320"/>
            <a:ext cx="1103400" cy="139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43720" y="2205000"/>
            <a:ext cx="396216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ntes de tomar una deci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5520" y="90792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14480" indent="-114480">
              <a:lnSpc>
                <a:spcPct val="13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Hablemos sob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99000" y="898560"/>
            <a:ext cx="426420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xplique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manera que el cliente entien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Habl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bre el método tanto como sea necesari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Asegúres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el cliente ha entendido cada punto trat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9000" y="2644920"/>
            <a:ext cx="4264200" cy="1647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Riesg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complicaciones quirúrgicas son poco comunes. Entre ellas se encuentran el sangrado o la inf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número reducido de hombres informan tener dolor en el escroto que dura por meses o añ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Benefici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trata de un procedimiento único y rápido que provee planificación familiar segura y efectiva de por vi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se sabe de ningún riesgo de salud a largo plaz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9000" y="4941720"/>
            <a:ext cx="426420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liente no perderá los derechos a otros beneficios o servicios médicos, de salud o de otro tip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99000" y="2262240"/>
            <a:ext cx="4264200" cy="288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a la página siguiente para obtener más detalles.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99000" y="4368960"/>
            <a:ext cx="4264200" cy="47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liente debe estar muy seguro de que no desea tener más hij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no ser el método más indicado para clientes jóve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638680"/>
            <a:ext cx="990612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Asegúrese de qu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cliente entiende todos los temas tratados y luego pregúntele qué ha decidid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985000"/>
            <a:ext cx="5191200" cy="841320"/>
          </a:xfrm>
          <a:prstGeom prst="downArrowCallout">
            <a:avLst>
              <a:gd name="adj1" fmla="val 617087"/>
              <a:gd name="adj2" fmla="val 30851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l cliente entiende lo que es la vasectomía y es el método que desea,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xplíquele el formulario de consentimiento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si lo hay) y pídale que lo firme. 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10360" y="5985000"/>
            <a:ext cx="3085920" cy="653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el cliente decide que no desea una vasectomía, ayúdele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07080" y="31291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746000">
            <a:off x="4800240" y="3947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07080" y="48988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8120" y="159084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étodos temporales que también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án dispon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8120" y="2201760"/>
            <a:ext cx="473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vasectomía es un procedimiento quirúr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8120" y="280980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ene riesgos y benef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8120" y="3803760"/>
            <a:ext cx="41148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9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mpide tener más h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5240" y="4122720"/>
            <a:ext cx="4795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8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 permanente — debe pensar muy bien su dec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695840"/>
            <a:ext cx="454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4600" indent="-174600">
              <a:lnSpc>
                <a:spcPct val="85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cambiar de decisión en cualquier momento antes de la ciru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7080" y="22604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457400">
            <a:off x="4806720" y="44067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212400" y="5475240"/>
            <a:ext cx="576000" cy="468360"/>
            <a:chOff x="9212400" y="5475240"/>
            <a:chExt cx="576000" cy="468360"/>
          </a:xfrm>
        </p:grpSpPr>
        <p:sp>
          <p:nvSpPr>
            <p:cNvPr id="133" name=""/>
            <p:cNvSpPr/>
            <p:nvPr/>
          </p:nvSpPr>
          <p:spPr>
            <a:xfrm>
              <a:off x="9212400" y="5475240"/>
              <a:ext cx="57600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9408960" y="5572080"/>
              <a:ext cx="19008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85572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8589960" y="5473800"/>
            <a:ext cx="576000" cy="468360"/>
            <a:chOff x="8589960" y="5473800"/>
            <a:chExt cx="576000" cy="468360"/>
          </a:xfrm>
        </p:grpSpPr>
        <p:sp>
          <p:nvSpPr>
            <p:cNvPr id="138" name=""/>
            <p:cNvSpPr/>
            <p:nvPr/>
          </p:nvSpPr>
          <p:spPr>
            <a:xfrm>
              <a:off x="8589960" y="547380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8729640" y="559944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9128160" y="930240"/>
            <a:ext cx="576000" cy="468360"/>
            <a:chOff x="9128160" y="930240"/>
            <a:chExt cx="576000" cy="468360"/>
          </a:xfrm>
        </p:grpSpPr>
        <p:sp>
          <p:nvSpPr>
            <p:cNvPr id="141" name=""/>
            <p:cNvSpPr/>
            <p:nvPr/>
          </p:nvSpPr>
          <p:spPr>
            <a:xfrm>
              <a:off x="9128160" y="9302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267840" y="10558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145440" y="18000"/>
            <a:ext cx="1171440" cy="766080"/>
            <a:chOff x="145440" y="18000"/>
            <a:chExt cx="1171440" cy="766080"/>
          </a:xfrm>
        </p:grpSpPr>
        <p:sp>
          <p:nvSpPr>
            <p:cNvPr id="144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5440" y="18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"/>
          <p:cNvSpPr/>
          <p:nvPr/>
        </p:nvSpPr>
        <p:spPr>
          <a:xfrm>
            <a:off x="5504040" y="1782720"/>
            <a:ext cx="4271760" cy="370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ncione los condones y otros métodos disponibles para la muj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7080" y="180036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7080" y="5346720"/>
            <a:ext cx="1847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48240" y="1646280"/>
            <a:ext cx="3362400" cy="2550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46720" y="5638680"/>
            <a:ext cx="1593720" cy="10670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90756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El procedimi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2895480"/>
            <a:ext cx="41148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1143000"/>
            <a:ext cx="5790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ted permanecerá despierto y se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le administrará medicamentos para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l dol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hace una pequeña abertura en el escroto — no doloros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Los conductos que transportan los espermatozoides se cortan y at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Se cierra la abert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Se reposa de 15 a 30 minu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238880" y="5460840"/>
            <a:ext cx="2286000" cy="1219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¿Tiene pregunta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81880" y="4950720"/>
            <a:ext cx="1812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ó 1 abertura aq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4145760"/>
            <a:ext cx="163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3300"/>
                </a:solidFill>
                <a:latin typeface="Arial"/>
              </a:rPr>
              <a:t>Se hará 2 aberturas  aqu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858000" y="3047760"/>
            <a:ext cx="304920" cy="114300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010280" y="3047760"/>
            <a:ext cx="609840" cy="114300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381880" y="3580920"/>
            <a:ext cx="76320" cy="1295640"/>
          </a:xfrm>
          <a:prstGeom prst="line">
            <a:avLst/>
          </a:prstGeom>
          <a:ln cap="rnd" w="12600">
            <a:solidFill>
              <a:srgbClr val="ff33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610160"/>
            <a:ext cx="55623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Despué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ebe descansar por 2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vitar trabajos pesados por unos dí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68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3300"/>
                </a:solidFill>
                <a:latin typeface="Arial"/>
              </a:rPr>
              <a:t>¡Importante!</a:t>
            </a: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Use condones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durante los próximos 3 m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213520" y="5724360"/>
            <a:ext cx="196200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5638680"/>
            <a:ext cx="9909000" cy="1219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cliente entiende el procedimiento quirúrgico y tiene plena confianza de seguir adela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El proced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2406600"/>
            <a:ext cx="4267080" cy="1079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plique el anestésico local que se usará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e puede administrar más medicamento para el dolor, 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es necesari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plique la incisión o la punción sin bisturí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va a ser necesario suturar, menciónel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7160" y="950760"/>
            <a:ext cx="511488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sted permanecerá despierto y se le administrará medicamentos para el d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Se hace una pequeña abertura en el escroto — no doloro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conductos que transportan los espermatozoides se cortan y a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4.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cierra la a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5.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Se reposa de 15 a 30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65800">
            <a:off x="4849560" y="24634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915400" y="2529000"/>
            <a:ext cx="576360" cy="468360"/>
            <a:chOff x="8915400" y="2529000"/>
            <a:chExt cx="576360" cy="468360"/>
          </a:xfrm>
        </p:grpSpPr>
        <p:sp>
          <p:nvSpPr>
            <p:cNvPr id="169" name=""/>
            <p:cNvSpPr/>
            <p:nvPr/>
          </p:nvSpPr>
          <p:spPr>
            <a:xfrm>
              <a:off x="8915400" y="2529000"/>
              <a:ext cx="576360" cy="468360"/>
            </a:xfrm>
            <a:prstGeom prst="rect">
              <a:avLst/>
            </a:prstGeom>
            <a:solidFill>
              <a:srgbClr val="a4acf4"/>
            </a:soli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9112320" y="2625840"/>
              <a:ext cx="190440" cy="25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174600" y="5956200"/>
            <a:ext cx="4227480" cy="878040"/>
          </a:xfrm>
          <a:prstGeom prst="downArrowCallout">
            <a:avLst>
              <a:gd name="adj1" fmla="val 481512"/>
              <a:gd name="adj2" fmla="val 24073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 el procedimiento se va a realizar ahora, pase  a la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ágina siguiente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a asesorar al cliente sobre lo que debe recordar después de la cirug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3600" y="5943600"/>
            <a:ext cx="4818240" cy="7081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 ha programado el procedimiento para otro día, fije una fecha y hora convenientes para que el cliente regrese. Ofrézcale condones para que use mientras ta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3154200">
            <a:off x="4830480" y="16844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7160" y="3535200"/>
            <a:ext cx="4647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Despué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e descansar por 2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ite trabajos pesados por unos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spcBef>
                <a:spcPts val="78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¡Importante!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se condones por los próximos 3 me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221000"/>
            <a:ext cx="4267080" cy="1087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Ya que el semen permanecerá en los conductos espermáticos por un tiempo, el cliente debe usar condones, o su pareja debe usar otro método de planificación familiar eficaz durante los siguientes 3 mes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187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cliente debe continuar las relaciones sexuales de manera usual durante este período para eliminar el semen de los conduc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21120" y="473868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072720" y="5415120"/>
            <a:ext cx="576000" cy="468000"/>
            <a:chOff x="9072720" y="5415120"/>
            <a:chExt cx="576000" cy="468000"/>
          </a:xfrm>
        </p:grpSpPr>
        <p:sp>
          <p:nvSpPr>
            <p:cNvPr id="179" name=""/>
            <p:cNvSpPr/>
            <p:nvPr/>
          </p:nvSpPr>
          <p:spPr>
            <a:xfrm>
              <a:off x="9072720" y="5415120"/>
              <a:ext cx="576000" cy="4680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2"/>
            <a:stretch/>
          </p:blipFill>
          <p:spPr>
            <a:xfrm>
              <a:off x="9212400" y="5540400"/>
              <a:ext cx="334800" cy="24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" name=""/>
          <p:cNvGrpSpPr/>
          <p:nvPr/>
        </p:nvGrpSpPr>
        <p:grpSpPr>
          <a:xfrm>
            <a:off x="126360" y="-1080"/>
            <a:ext cx="1171440" cy="761400"/>
            <a:chOff x="126360" y="-1080"/>
            <a:chExt cx="1171440" cy="761400"/>
          </a:xfrm>
        </p:grpSpPr>
        <p:sp>
          <p:nvSpPr>
            <p:cNvPr id="182" name=""/>
            <p:cNvSpPr/>
            <p:nvPr/>
          </p:nvSpPr>
          <p:spPr>
            <a:xfrm>
              <a:off x="150840" y="3960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6360" y="-108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" name="" descr=""/>
            <p:cNvPicPr/>
            <p:nvPr/>
          </p:nvPicPr>
          <p:blipFill>
            <a:blip r:embed="rId3"/>
            <a:stretch/>
          </p:blipFill>
          <p:spPr>
            <a:xfrm>
              <a:off x="438120" y="22248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"/>
          <p:cNvSpPr/>
          <p:nvPr/>
        </p:nvSpPr>
        <p:spPr>
          <a:xfrm>
            <a:off x="127080" y="5365800"/>
            <a:ext cx="18478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95760" y="895320"/>
            <a:ext cx="4267440" cy="132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vasectomía puede efectuarse en una clínica o consultorio siguiendo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procedimientos adecuados para la prevención de infecciones.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siempre se realiza en un hospit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bitualmente el procedimiento completo puede durar menos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30 minut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12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78480" y="92232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100" spc="-1" strike="noStrike">
                <a:solidFill>
                  <a:srgbClr val="ff3300"/>
                </a:solidFill>
                <a:latin typeface="Arial"/>
              </a:rPr>
              <a:t>Describa los pasos a seguir en el procedimiento de la vasectomía. Expliqu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287000">
            <a:off x="4890600" y="30114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1440"/>
            <a:ext cx="9907560" cy="5819760"/>
            <a:chOff x="0" y="1440"/>
            <a:chExt cx="9907560" cy="5819760"/>
          </a:xfrm>
        </p:grpSpPr>
        <p:sp>
          <p:nvSpPr>
            <p:cNvPr id="190" name=""/>
            <p:cNvSpPr/>
            <p:nvPr/>
          </p:nvSpPr>
          <p:spPr>
            <a:xfrm rot="20647800">
              <a:off x="7566120" y="3664080"/>
              <a:ext cx="2057400" cy="186192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866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000000"/>
                  </a:solidFill>
                  <a:latin typeface="Arial"/>
                </a:rPr>
                <a:t>Razones médicas por las que debe regresa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895480"/>
              <a:ext cx="411480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1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10000"/>
                </a:lnSpc>
                <a:spcAft>
                  <a:spcPts val="75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4360" y="1989000"/>
              <a:ext cx="50292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ctr">
              <a:noAutofit/>
            </a:bodyPr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ff3300"/>
                  </a:solidFill>
                  <a:latin typeface="Arial"/>
                </a:rPr>
                <a:t>Regrese de inmediato si tien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Hinchazón en las primeras horas después de la cirugí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Fiebre en los primeros 3 día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Pus o sangrado en la her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7840" indent="-177840">
                <a:lnSpc>
                  <a:spcPct val="100000"/>
                </a:lnSpc>
                <a:spcBef>
                  <a:spcPts val="1375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Dolor, calor o enrojecimiento en la herid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7238880" y="3911760"/>
              <a:ext cx="2286000" cy="19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0176200">
              <a:off x="5167080" y="1697040"/>
              <a:ext cx="2593800" cy="1882800"/>
            </a:xfrm>
            <a:prstGeom prst="ellips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5784840" y="1484280"/>
              <a:ext cx="1308240" cy="295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57294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Razones médicas por las que debe regresa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57800" y="2720880"/>
            <a:ext cx="41148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27800" y="2174760"/>
            <a:ext cx="4114800" cy="1051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de  38°C de fiebre en las primeras 4 semanas  (y especialmente en los primeros 3 día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la fiebre se presenta en las primeras horas después de la cirugía, puede ser grave. Puede necesitarse drenar la herida quirúrgicament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18080" y="3387600"/>
            <a:ext cx="4114800" cy="532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¿La condición empeora o no desaparece? Éstos son signos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inf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0520" y="1197000"/>
            <a:ext cx="45720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Regrese de inmediato si tie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inchazón en las primeras horas después de la ciru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iebre en los primeros 3 dí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s o sangrado en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15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lor, calor o enrojecimiento en la h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24040" y="5853240"/>
            <a:ext cx="846108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¿Está satisfecho con su elección de este método?¿Desea que le explique o repita algo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</a:rPr>
              <a:t>¡Acuérdese de ofrecerle condones para la doble protección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Último y más importante mensaje: 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“Use condones u otro método en los 3 meses después del procedimiento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8760" y="5464080"/>
            <a:ext cx="1847880" cy="289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76920" y="34495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0440" y="253512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421840" y="6200640"/>
            <a:ext cx="576000" cy="468360"/>
            <a:chOff x="8421840" y="6200640"/>
            <a:chExt cx="576000" cy="468360"/>
          </a:xfrm>
        </p:grpSpPr>
        <p:sp>
          <p:nvSpPr>
            <p:cNvPr id="209" name=""/>
            <p:cNvSpPr/>
            <p:nvPr/>
          </p:nvSpPr>
          <p:spPr>
            <a:xfrm>
              <a:off x="8421840" y="620064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8561520" y="632628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"/>
          <p:cNvGrpSpPr/>
          <p:nvPr/>
        </p:nvGrpSpPr>
        <p:grpSpPr>
          <a:xfrm>
            <a:off x="145440" y="18000"/>
            <a:ext cx="1171440" cy="766080"/>
            <a:chOff x="145440" y="18000"/>
            <a:chExt cx="1171440" cy="766080"/>
          </a:xfrm>
        </p:grpSpPr>
        <p:sp>
          <p:nvSpPr>
            <p:cNvPr id="212" name=""/>
            <p:cNvSpPr/>
            <p:nvPr/>
          </p:nvSpPr>
          <p:spPr>
            <a:xfrm>
              <a:off x="169920" y="63360"/>
              <a:ext cx="1143000" cy="717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440" y="18000"/>
              <a:ext cx="11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asectom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457200" y="246240"/>
              <a:ext cx="515880" cy="53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meynentc</cp:lastModifiedBy>
  <cp:lastPrinted>2002-06-07T13:50:25Z</cp:lastPrinted>
  <dcterms:modified xsi:type="dcterms:W3CDTF">2007-07-30T09:22:57Z</dcterms:modified>
  <cp:revision>950</cp:revision>
  <dc:subject/>
  <dc:title>No Slide Title</dc:title>
</cp:coreProperties>
</file>