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07760" y="741240"/>
            <a:ext cx="538164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E6DCBAAC-B7DE-4246-9885-4344758C26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the mini-pill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recommends a an initial follow-up contact at 3 months, with yearly follow-up visit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¹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f annual pill supplies cannot be guaranteed, this recommendation may need to be adapt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¹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lected Practice Recommendations for Contraceptive Use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Health Organization, 2004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5068800" cy="35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common terminology in the country for Progestogen-only Injectable contraceptives? If wording is changed here, the terminology used in other sections of the tool will need to be chang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one of DMPA or NET-EN is available, the information here can be made more specific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708120" y="74124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6480" y="4719600"/>
            <a:ext cx="4981680" cy="4470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ther methods mentioned on this page are not to be included in the tool, can remove reference to them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recommends that programmes give up to 1 year’s supply of oral contraceptive pills to client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¹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Some programmes may need to adapt this recommendation based on local programmatic needs and prioriti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¹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lected Practice Recommendations for Contraceptive Use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ld Health Organization, 2004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59480" y="5430960"/>
            <a:ext cx="50846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ara protegerse contra las ITS/VIH/SIDA  use también condones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59480" y="3419640"/>
            <a:ext cx="5084640" cy="563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Se acordaría de tomar una mini-píldora a la misma hora todos los día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necesita hacer nada en relación con el método a la hora de tener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941400"/>
            <a:ext cx="5074920" cy="240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a mini-píldor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olo contiene progestágeno. Es una alternativa adecuada para mujeres que no pueden tomar estróg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Funciona principalmente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pesando el moco cervical (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cual bloquea el paso de los espermatozoides)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y suprimiendo la ovulación (vea los Apéndices 4 y 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muy eficaz durante la lacta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fácil discontinuar su uso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mujer fértil que deja de usar la píldora puede quedar embarazada muy pronto si así lo des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n comparación con los anticonceptivos combinados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mejor durante la lactancia. No afecta la calidad ni la cantidad de la leche mater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omar las mini-píldoras a tiempo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aún más importante. Para las mujeres que no están amantando, tomar la mini-píldora con unas horas de retraso puede aumentar el riesgo de embara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iene menos efectos secundarios, excepto por los cambios en el sangr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600" y="3124080"/>
            <a:ext cx="446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me la mini-píldora a la mism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ora todos los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14400" y="0"/>
            <a:ext cx="991080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  <a:ea typeface="Arial"/>
              </a:rPr>
              <a:t>La mini-píld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576200">
            <a:off x="4145040" y="52722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6480" y="5791320"/>
            <a:ext cx="990936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acerca de la mini-píldora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6093000"/>
            <a:ext cx="4116240" cy="734760"/>
          </a:xfrm>
          <a:prstGeom prst="downArrowCallout">
            <a:avLst>
              <a:gd name="adj1" fmla="val 560267"/>
              <a:gd name="adj2" fmla="val 28010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desea saber más acerca de la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ini-píldora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0600" y="551484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600" y="491184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n protección contr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ITS o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0600" y="4089240"/>
            <a:ext cx="449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posible que las mujeres que no están amamantando noten cambio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n el sangrado menstr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0600" y="14479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un buen método durante la lac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991400">
            <a:off x="4148280" y="4752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600" y="3583080"/>
            <a:ext cx="44197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muy seg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320" y="18000"/>
            <a:ext cx="1517400" cy="763200"/>
            <a:chOff x="76320" y="18000"/>
            <a:chExt cx="1517400" cy="763200"/>
          </a:xfrm>
        </p:grpSpPr>
        <p:sp>
          <p:nvSpPr>
            <p:cNvPr id="59" name=""/>
            <p:cNvSpPr/>
            <p:nvPr/>
          </p:nvSpPr>
          <p:spPr>
            <a:xfrm>
              <a:off x="120600" y="63360"/>
              <a:ext cx="143928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18000"/>
              <a:ext cx="15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501480" y="260280"/>
              <a:ext cx="685440" cy="49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12060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37908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659480" y="4062240"/>
            <a:ext cx="5084640" cy="923760"/>
            <a:chOff x="4659480" y="4062240"/>
            <a:chExt cx="5084640" cy="923760"/>
          </a:xfrm>
        </p:grpSpPr>
        <p:sp>
          <p:nvSpPr>
            <p:cNvPr id="65" name=""/>
            <p:cNvSpPr/>
            <p:nvPr/>
          </p:nvSpPr>
          <p:spPr>
            <a:xfrm>
              <a:off x="4659480" y="4062240"/>
              <a:ext cx="5084640" cy="9237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95000"/>
                </a:lnSpc>
                <a:spcBef>
                  <a:spcPts val="18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 mini-píldoras no son dañinas para la salud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18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Averigüe si tiene inquietudes o ha oído rumores:</a:t>
              </a:r>
              <a:r>
                <a:rPr b="0" lang="es-E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br>
                <a:rPr sz="1100"/>
              </a:br>
              <a:r>
                <a:rPr b="0" i="1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¿Qué ha oído acerca de la mini-píldora?”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5000"/>
                </a:lnSpc>
                <a:spcBef>
                  <a:spcPts val="18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lique los mitos más comunes</a:t>
              </a:r>
              <a:r>
                <a:rPr b="1" lang="es-ES" sz="10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r>
                <a:rPr b="0" lang="es-ES" sz="10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s mini-píldoras se disuelven en la sangre, no se acumulan en el estómago. (También vea el Apéndice 10)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9110520" y="4114440"/>
              <a:ext cx="576360" cy="468360"/>
              <a:chOff x="9110520" y="4114440"/>
              <a:chExt cx="576360" cy="468360"/>
            </a:xfrm>
          </p:grpSpPr>
          <p:sp>
            <p:nvSpPr>
              <p:cNvPr id="67" name=""/>
              <p:cNvSpPr/>
              <p:nvPr/>
            </p:nvSpPr>
            <p:spPr>
              <a:xfrm>
                <a:off x="9110520" y="4114440"/>
                <a:ext cx="576360" cy="468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259920" y="4161960"/>
                <a:ext cx="288720" cy="384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" name=""/>
          <p:cNvSpPr/>
          <p:nvPr/>
        </p:nvSpPr>
        <p:spPr>
          <a:xfrm>
            <a:off x="4659480" y="5064120"/>
            <a:ext cx="5084640" cy="287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fectos secundarios: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Vea la página MP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95720" y="15289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87800" y="6093000"/>
            <a:ext cx="4280040" cy="61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la pestaña</a:t>
            </a:r>
            <a:r>
              <a:rPr b="0" lang="es-ES" sz="12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82920" y="6864480"/>
            <a:ext cx="135432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La mini-píldo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91400">
            <a:off x="4147920" y="3852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91400">
            <a:off x="4147920" y="3242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1727280"/>
            <a:ext cx="4192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hora todos los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10800" cy="1038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45320" y="2158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3295800"/>
            <a:ext cx="49546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2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 Regrese si le molest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3440" y="2682720"/>
            <a:ext cx="4159440" cy="414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  <a:ea typeface="Arial"/>
              </a:rPr>
              <a:t>Consulte con una/un médico o enfermera 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3520" y="214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815080" y="3574800"/>
            <a:ext cx="13158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 una luz brillante antes de dolores fuertes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cabeza (migraña con a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7160" y="6029280"/>
            <a:ext cx="1430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400" spc="-1" strike="noStrike">
                <a:solidFill>
                  <a:srgbClr val="000000"/>
                </a:solidFill>
                <a:latin typeface="Arial"/>
                <a:ea typeface="Arial"/>
              </a:rPr>
              <a:t>Tiene la piel o los ojos amarill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58280" y="5322240"/>
            <a:ext cx="181584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ree que    puede estar embarazada, especialmente si tiene un dolor o molestia en el vi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407440" y="3353400"/>
            <a:ext cx="1371600" cy="124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Tiene sangrado menstrual abundante fuera de l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915320" y="3463920"/>
            <a:ext cx="733320" cy="1562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026640" y="479592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rot="21065400">
            <a:off x="4802040" y="1221840"/>
            <a:ext cx="1702080" cy="1206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183280" y="1311120"/>
            <a:ext cx="1371600" cy="126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04920" y="2536920"/>
            <a:ext cx="531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i se retrasa en tomar la mini-píldora puede quedar embaraza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5454720"/>
            <a:ext cx="4116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316400"/>
            <a:ext cx="44211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Regrese por más mini-píldoras antes de que se le acaben o si tiene algún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46720" y="4749840"/>
            <a:ext cx="1371600" cy="1117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4519440" y="4822920"/>
            <a:ext cx="1143000" cy="8841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6912000" y="5192640"/>
            <a:ext cx="758880" cy="1019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6896160" y="3454560"/>
            <a:ext cx="820800" cy="12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440"/>
            <a:ext cx="991080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Lo que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79132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81160" y="5910120"/>
            <a:ext cx="7994520" cy="897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Tiene plena confianza enque podrá usar este método satisfactoriamente?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Necesita que le explique o repita algo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  <a:ea typeface="Arial"/>
              </a:rPr>
              <a:t>¡Recuerde ofrecerle condones para la doble protección o cómo método de respaldo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El 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Tome una mini-píldora a la misma hora todos los dí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2240" y="5518080"/>
            <a:ext cx="1820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4200" y="9810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hora todos los dí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735800">
            <a:off x="4802040" y="24210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1880" y="3225960"/>
            <a:ext cx="434484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Signos por las que debe regresar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muchos casos estos signos no están relacionados con la mini-píldora, pero una/un médico o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fermera deben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determinar si se presenta un problema grave y si puede seguir tomando la mini-píldora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Quiero que sepa cuáles son los signos y que los recuerd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1880" y="1700280"/>
            <a:ext cx="4344840" cy="143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Invite a la clienta a que regrese siempre que necesite ayuda, información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mini-píldoras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o un método nue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 posible, programe una visita de seguimiento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3 mes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después de que haya comenzado a tomar la mini-píldora. Programe siempre una visita de seguimiento anu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tá amamantando, invítela a que regrese cuando deje de amamantar. Es posible que para entonces desee cambiar de méto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73760" y="3666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60" y="2158920"/>
            <a:ext cx="49546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9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 Regrese si le molest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1440" y="1557360"/>
            <a:ext cx="4924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se retrasa en tomar la mini-píldora, puede qued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360" y="2924280"/>
            <a:ext cx="51451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rese por más mini-píldoras antes de que se le acaben o si tiene algún probl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1880" y="5014800"/>
            <a:ext cx="4344840" cy="501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tro/otra proveedor/a de salud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e pregunta que medicamentos o anticonceptivo usa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usuaria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ebe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sponder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que toma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38520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488440" y="5961240"/>
            <a:ext cx="576000" cy="468000"/>
            <a:chOff x="8488440" y="5961240"/>
            <a:chExt cx="576000" cy="468000"/>
          </a:xfrm>
        </p:grpSpPr>
        <p:sp>
          <p:nvSpPr>
            <p:cNvPr id="260" name=""/>
            <p:cNvSpPr/>
            <p:nvPr/>
          </p:nvSpPr>
          <p:spPr>
            <a:xfrm>
              <a:off x="8488440" y="596124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8628120" y="608652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>
            <a:off x="5413320" y="4465800"/>
            <a:ext cx="4345200" cy="47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l sangrado dura más de 8 días o es el doble de lo us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850200">
            <a:off x="4970520" y="4422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7080" y="3616200"/>
            <a:ext cx="4765680" cy="181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Consulte con una/un médico o enfermera 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e una luz brillante antes de dolores fuertes de cabeza (migraña con au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iene sangrado abundante fuera de l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iene la piel o los ojos amarill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95000"/>
              </a:lnSpc>
              <a:spcBef>
                <a:spcPts val="264"/>
              </a:spcBef>
              <a:spcAft>
                <a:spcPts val="524"/>
              </a:spcAft>
              <a:buClr>
                <a:srgbClr val="ff0000"/>
              </a:buClr>
              <a:buFont typeface="Arial"/>
              <a:buChar char="–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ree que puede  estar embarazada, especialmente si  tiene un dolor o molestia en el vient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266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" descr=""/>
            <p:cNvPicPr/>
            <p:nvPr/>
          </p:nvPicPr>
          <p:blipFill>
            <a:blip r:embed="rId2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0" y="1440"/>
            <a:ext cx="9907560" cy="6766200"/>
            <a:chOff x="0" y="1440"/>
            <a:chExt cx="9907560" cy="6766200"/>
          </a:xfrm>
        </p:grpSpPr>
        <p:sp>
          <p:nvSpPr>
            <p:cNvPr id="270" name=""/>
            <p:cNvSpPr/>
            <p:nvPr/>
          </p:nvSpPr>
          <p:spPr>
            <a:xfrm rot="729000">
              <a:off x="6215040" y="2276280"/>
              <a:ext cx="3273480" cy="16380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000000"/>
                  </a:solidFill>
                  <a:latin typeface="Arial"/>
                </a:rPr>
                <a:t>Inyectables de acción prolongada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4920" y="1244520"/>
              <a:ext cx="5999040" cy="36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e aplica una inyección cada 2 ó 3 meses dependiendo del tipo de inyectable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on muy efectiv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Con frecuencia toma más tiempo quedar embarazada después de descontinuar su us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on muy segur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Cambian el sangrado menstrual</a:t>
              </a: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90000"/>
                </a:lnSpc>
                <a:spcBef>
                  <a:spcPts val="123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No ofrecen protección contra las ITS o 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1"/>
            <a:stretch/>
          </p:blipFill>
          <p:spPr>
            <a:xfrm>
              <a:off x="6751800" y="2236680"/>
              <a:ext cx="2315880" cy="15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295280" y="5300640"/>
              <a:ext cx="5334120" cy="1270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más acerca de estos inyectables o preferiría hablar sobre otro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1066680" y="564372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Quién puede y quién no pue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usar la mini-píld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3654360"/>
            <a:ext cx="9597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Pero, en general, una mujer no podrá usar la mini-píldora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317600"/>
            <a:ext cx="4751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>
              <a:lnSpc>
                <a:spcPct val="11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rial"/>
              </a:rPr>
              <a:t>La mayoría de las mujeres pueden usar la mini-píldora en forma se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4520" y="5935680"/>
            <a:ext cx="3111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5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á amamantando por 6 semanas o m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5935680"/>
            <a:ext cx="2438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77840" indent="-177840" algn="ctr">
              <a:lnSpc>
                <a:spcPct val="90000"/>
              </a:lnSpc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766000">
            <a:off x="3908160" y="4365720"/>
            <a:ext cx="1523880" cy="11142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272120" y="4441680"/>
            <a:ext cx="855360" cy="1481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21522600">
            <a:off x="5238360" y="1563480"/>
            <a:ext cx="4113360" cy="17967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038720" y="4259880"/>
            <a:ext cx="1898640" cy="1500120"/>
            <a:chOff x="7038720" y="4259880"/>
            <a:chExt cx="1898640" cy="1500120"/>
          </a:xfrm>
        </p:grpSpPr>
        <p:sp>
          <p:nvSpPr>
            <p:cNvPr id="84" name=""/>
            <p:cNvSpPr/>
            <p:nvPr/>
          </p:nvSpPr>
          <p:spPr>
            <a:xfrm rot="20766000">
              <a:off x="7149600" y="4444560"/>
              <a:ext cx="1676160" cy="11304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7456320" y="4551480"/>
              <a:ext cx="942840" cy="11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"/>
          <p:cNvSpPr/>
          <p:nvPr/>
        </p:nvSpPr>
        <p:spPr>
          <a:xfrm>
            <a:off x="6176880" y="5932440"/>
            <a:ext cx="34257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67560" y="4203000"/>
            <a:ext cx="1456560" cy="1744920"/>
            <a:chOff x="1267560" y="4203000"/>
            <a:chExt cx="1456560" cy="1744920"/>
          </a:xfrm>
        </p:grpSpPr>
        <p:sp>
          <p:nvSpPr>
            <p:cNvPr id="88" name=""/>
            <p:cNvSpPr/>
            <p:nvPr/>
          </p:nvSpPr>
          <p:spPr>
            <a:xfrm rot="5225400">
              <a:off x="1250640" y="4290840"/>
              <a:ext cx="1490400" cy="13827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433520" y="4322520"/>
              <a:ext cx="1085760" cy="162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545080" y="1773360"/>
            <a:ext cx="3333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83200" y="1468440"/>
            <a:ext cx="4616280" cy="660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odemos determinar si puede tomar la mini-píldora sin riesgos. En general las mujeres que presentan cualquiera de estas condiciones médicas deben usar otro métod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83200" y="2344680"/>
            <a:ext cx="4616280" cy="357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tréguele las mini-píldoras y dígale que comience cuando el bebé tenga 6 semanas de naci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4954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 mayoría de las mujeres pueden usar la mini-píldora en forma seg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ero, en general, una mujer no podrá usar la mini-píldora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83200" y="3632040"/>
            <a:ext cx="4616280" cy="1217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ha tenido alguna vez cáncer de ma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fermedad hepática grave o ictericia (piel u ojos amarillento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ene coágulos de sangre en los pulmones o coágulos profundos en las piernas. Las mujeres con coágulos superficiales (incluidas las venas varicosas) sí PUEDEN usar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ma medicamentos para la tuberculosis (TB), para infecciones fúngicas o para la epilepsia (convulsiones o ataqu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440" y="1440"/>
            <a:ext cx="9907560" cy="1111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Quién puede y quién no puede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sar la mini-píld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1440" y="5943600"/>
            <a:ext cx="990576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5760" y="6095880"/>
            <a:ext cx="4114800" cy="684360"/>
          </a:xfrm>
          <a:prstGeom prst="downArrowCallout">
            <a:avLst>
              <a:gd name="adj1" fmla="val 601318"/>
              <a:gd name="adj2" fmla="val 30063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puede usar la mini-píldora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46384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á  amantando por 6 semanas  o m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905200"/>
            <a:ext cx="4267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675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4560" y="4103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4560" y="3030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4560" y="2414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83200" y="2919240"/>
            <a:ext cx="462924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dudas, use la lista de verificación del embarazo en el Apéndice 1 ó haga una prueba de embarazo</a:t>
            </a:r>
            <a:r>
              <a:rPr b="0" lang="es-ES" sz="1200" spc="-1" strike="noStrike">
                <a:solidFill>
                  <a:srgbClr val="6600cc"/>
                </a:solidFill>
                <a:latin typeface="Arial"/>
              </a:rPr>
              <a:t>.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9800" y="6093000"/>
            <a:ext cx="4470480" cy="514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no puede usar la mini-píldora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yúdela a elegir un método sin hormon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000" y="4145040"/>
            <a:ext cx="417024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 general, no debe usar la mini-píldora si presenta cualquiera de estas condiciones médicas serias (si tiene dudas, verifique el manual o refiérala a otro centro asisten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3755880"/>
            <a:ext cx="46483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enta ciertos problemas graves de salu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83200" y="5067360"/>
            <a:ext cx="461628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mayoría de las mujeres que han tenido accidentes cerebrovasculares, o enfermedades del corazón o de los vasos sanguíneos PUEDEN usar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110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27080" y="5659560"/>
            <a:ext cx="1754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fectos secundarios posib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20766000">
            <a:off x="2287080" y="4220640"/>
            <a:ext cx="1295640" cy="885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430360" y="4421160"/>
            <a:ext cx="1095480" cy="117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766000">
            <a:off x="7659720" y="2349000"/>
            <a:ext cx="1447920" cy="1067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4360" y="4162320"/>
            <a:ext cx="1506960" cy="1654200"/>
            <a:chOff x="414360" y="4162320"/>
            <a:chExt cx="1506960" cy="1654200"/>
          </a:xfrm>
        </p:grpSpPr>
        <p:sp>
          <p:nvSpPr>
            <p:cNvPr id="119" name=""/>
            <p:cNvSpPr/>
            <p:nvPr/>
          </p:nvSpPr>
          <p:spPr>
            <a:xfrm rot="20766000">
              <a:off x="537840" y="4304880"/>
              <a:ext cx="1295640" cy="885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414360" y="4292640"/>
              <a:ext cx="1495440" cy="15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539120" y="2592360"/>
            <a:ext cx="1949400" cy="1254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8600" y="341640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6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Menos comunes: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dolor de cabeza, mayor sensibilidad en los senos, mare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276640"/>
            <a:ext cx="7391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Comunes (cuando no está amamantando):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angrado irregular, manchado, no le viene la menstruació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23040" y="5267160"/>
            <a:ext cx="4101840" cy="1113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Le gustaría usar este método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y ver si le agrada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132520" y="5484960"/>
            <a:ext cx="1218960" cy="946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60280" y="1197000"/>
            <a:ext cx="9475920" cy="8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3300"/>
                </a:solidFill>
                <a:latin typeface="Arial"/>
              </a:rPr>
              <a:t>Si elige este método, puede sentir algunos efectos secundario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3300"/>
                </a:solidFill>
                <a:latin typeface="Arial"/>
              </a:rPr>
              <a:t>En general, no son signos de una enferme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457800">
            <a:off x="3809160" y="4139280"/>
            <a:ext cx="1358640" cy="10904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084560" y="4178160"/>
            <a:ext cx="10144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4120" y="907920"/>
            <a:ext cx="4343400" cy="18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Puede pasar un tiempo antes de que su cuerpo se adapt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s reacciones a los métodos varían de una mujer a otra.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Hable acerca d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Si usted tuviera estos efectos secundarios, </a:t>
            </a:r>
            <a:br>
              <a:rPr sz="10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Qué le parecería o cómo se sentiría al respecto?”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Qué implicarían para usted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Qué harí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able acerca de cualquier rumor o inquietud.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ea el Apéndice 10 acerca de los mi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clienta entiende los efectos secundarios? 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4373640"/>
            <a:ext cx="43434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a los dolores de cabeza puede tomar aspirina, paracetamol o ibuprof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2795760"/>
            <a:ext cx="4343400" cy="149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1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ayoría de las mujeres que están amamantando no tienen períodos regulares y a menudo no se dan cuenta del efecto que la mini-píldora tiene en la menstr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 común y normal que las mujeres que no están amamantando tengan períodos irregulares, manchado, sangrado leve entre períodos y amenorrea (ausencia del período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fórmele a la clienta que 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si se olvida de tomar la mini-píldora puede empeorar los efectos secundarios relacionados con el sangrado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demás de correr el riesgo de quedar embarazad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fectos secundarios pos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8920" y="274176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unes (cuando no está amamantando)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ngrado irregular, manchado, no le viene la menstr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5920" y="4135320"/>
            <a:ext cx="4648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187200" indent="-187200">
              <a:lnSpc>
                <a:spcPct val="100000"/>
              </a:lnSpc>
              <a:spcAft>
                <a:spcPts val="1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Menos comun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 de cabeza, mayor sensibilidad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los senos, mar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46680" y="996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40240" y="4869000"/>
            <a:ext cx="4343400" cy="76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000" spc="-1" strike="noStrike">
                <a:solidFill>
                  <a:srgbClr val="000000"/>
                </a:solidFill>
                <a:latin typeface="Arial"/>
              </a:rPr>
              <a:t>Invite a la clienta a regresar en cualquier momento que necesite ayu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DO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DO" sz="1000" spc="-1" strike="noStrike">
                <a:solidFill>
                  <a:srgbClr val="000000"/>
                </a:solidFill>
                <a:latin typeface="Arial"/>
              </a:rPr>
              <a:t>Es aceptable cambiar de método cuando así lo dese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000" spc="-1" strike="noStrike">
                <a:solidFill>
                  <a:srgbClr val="000000"/>
                </a:solidFill>
                <a:latin typeface="Arial"/>
              </a:rPr>
              <a:t>Para tratar el tema de los efectos secundarios, vaya a la pestaña Usuaria/o de un anticoncepti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840520" y="2133720"/>
            <a:ext cx="597240" cy="468360"/>
            <a:chOff x="8840520" y="2133720"/>
            <a:chExt cx="597240" cy="468360"/>
          </a:xfrm>
        </p:grpSpPr>
        <p:sp>
          <p:nvSpPr>
            <p:cNvPr id="141" name=""/>
            <p:cNvSpPr/>
            <p:nvPr/>
          </p:nvSpPr>
          <p:spPr>
            <a:xfrm flipH="1">
              <a:off x="8840160" y="213372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8855280" y="214200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"/>
          <p:cNvSpPr/>
          <p:nvPr/>
        </p:nvSpPr>
        <p:spPr>
          <a:xfrm>
            <a:off x="4846680" y="3328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055080" y="5661000"/>
            <a:ext cx="576000" cy="468360"/>
            <a:chOff x="9055080" y="5661000"/>
            <a:chExt cx="576000" cy="468360"/>
          </a:xfrm>
        </p:grpSpPr>
        <p:sp>
          <p:nvSpPr>
            <p:cNvPr id="145" name=""/>
            <p:cNvSpPr/>
            <p:nvPr/>
          </p:nvSpPr>
          <p:spPr>
            <a:xfrm>
              <a:off x="9055080" y="5661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194760" y="5786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990720" y="6165720"/>
            <a:ext cx="3962160" cy="662040"/>
          </a:xfrm>
          <a:prstGeom prst="downArrowCallout">
            <a:avLst>
              <a:gd name="adj1" fmla="val 598532"/>
              <a:gd name="adj2" fmla="val 29923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ha decidido usar este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9240" y="6175440"/>
            <a:ext cx="3656160" cy="56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ble más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erc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de la mini-píldora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0160" y="985680"/>
            <a:ext cx="446544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Si elige este método, puede sentir algunos efectos secundarios. En general no son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signos de</a:t>
            </a:r>
            <a:r>
              <a:rPr b="1" i="1" lang="es-ES_tradnl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una enferm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151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127080" y="551484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R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839080" y="1554120"/>
            <a:ext cx="576360" cy="468360"/>
            <a:chOff x="8839080" y="1554120"/>
            <a:chExt cx="576360" cy="468360"/>
          </a:xfrm>
        </p:grpSpPr>
        <p:sp>
          <p:nvSpPr>
            <p:cNvPr id="156" name=""/>
            <p:cNvSpPr/>
            <p:nvPr/>
          </p:nvSpPr>
          <p:spPr>
            <a:xfrm>
              <a:off x="8839080" y="155412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5"/>
            <a:stretch/>
          </p:blipFill>
          <p:spPr>
            <a:xfrm>
              <a:off x="8988480" y="160164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4846680" y="44308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 rot="21065400">
            <a:off x="5960880" y="1560240"/>
            <a:ext cx="3744720" cy="2442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  <a:ea typeface="Arial"/>
              </a:rPr>
              <a:t>Cómo tomar la mini-píld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3040" y="1828800"/>
            <a:ext cx="6193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5000"/>
              </a:lnSpc>
              <a:spcBef>
                <a:spcPts val="17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hora todos los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Una vez que haya terminado todas la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ni-píldoras de un envase, empiece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uno nuevo al día sigu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5000"/>
              </a:lnSpc>
              <a:spcBef>
                <a:spcPts val="1789"/>
              </a:spcBef>
              <a:spcAft>
                <a:spcPts val="30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¿Se ha retrasado en tomar una mini-píldo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ómela tan pronto como se acuerde</a:t>
            </a:r>
            <a:br>
              <a:rPr sz="2200"/>
            </a:b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se ha retrasado más de 3 horas, e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posible que necesite seguir 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    instrucciones espe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58080" y="2247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54880" y="1893960"/>
            <a:ext cx="27446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832360"/>
            <a:ext cx="9909000" cy="1036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68880" y="1303200"/>
            <a:ext cx="452448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La instrucción más importante:</a:t>
            </a:r>
            <a:r>
              <a:rPr b="0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ome la mini-píldora a la misma hora todos los días. Si no está amamantando y toma la mini-píldora aún con unas horas de retraso aumenta el riesgo de quedar embarazada. (La lactancia por sí misma ayuda a evitar el embaraz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68880" y="2168640"/>
            <a:ext cx="4525920" cy="466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hay días de espera entre env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Todas las mini-píldoras son activas (todas contienen hormona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68880" y="912960"/>
            <a:ext cx="4524480" cy="318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mita que la clienta sostenga y examine los envases de la mini-píldo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1120" y="1339920"/>
            <a:ext cx="465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ome una mini-píldora a la mism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ora todos los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54480" y="3975120"/>
            <a:ext cx="4525920" cy="13809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Si han pasado más de 3 horas desde que debió tomar </a:t>
            </a:r>
            <a:br>
              <a:rPr sz="1100"/>
            </a:b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la mini-píldora y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está amamantando O está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amamantando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o</a:t>
            </a:r>
            <a:br>
              <a:rPr sz="1000"/>
            </a:b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le ha vuelto la menstruación: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vite tener relaciones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sexuales o use condones por los siguientes 2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tá dando de lactar Y la menstruación todavía no le ha vuelto: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necesita instrucciones especiales ni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8682120" y="4259160"/>
            <a:ext cx="1077840" cy="557280"/>
            <a:chOff x="8682120" y="4259160"/>
            <a:chExt cx="1077840" cy="557280"/>
          </a:xfrm>
        </p:grpSpPr>
        <p:sp>
          <p:nvSpPr>
            <p:cNvPr id="171" name=""/>
            <p:cNvSpPr/>
            <p:nvPr/>
          </p:nvSpPr>
          <p:spPr>
            <a:xfrm>
              <a:off x="8720280" y="4259160"/>
              <a:ext cx="966600" cy="557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682120" y="4391280"/>
              <a:ext cx="1077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8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strucciones especi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0"/>
            <a:ext cx="991080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Cómo tomar la mini-píldo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1120" y="2176560"/>
            <a:ext cx="465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9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Una vez que haya terminado tod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mini-píldoras de un envase, empiece uno nuevo al día sigu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7160" indent="-2271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1120" y="3390840"/>
            <a:ext cx="4650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¿Se ha retrasado en tomar una mini-píldora?</a:t>
            </a:r>
            <a:br>
              <a:rPr sz="1800"/>
            </a:b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ómela tan pronto como se acuerde</a:t>
            </a:r>
            <a:br>
              <a:rPr sz="1800"/>
            </a:b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Si se ha retrasado más de 3 hor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es posible que necesite seguir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 instruccione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240" y="13971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85880" y="5942160"/>
            <a:ext cx="6470640" cy="811080"/>
          </a:xfrm>
          <a:prstGeom prst="downArrow">
            <a:avLst>
              <a:gd name="adj1" fmla="val 99111"/>
              <a:gd name="adj2" fmla="val 26199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ctr">
            <a:noAutofit/>
          </a:bodyPr>
          <a:p>
            <a:pPr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La clienta entiende cómo tomar la mini-píldora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y sabe qué hacer si olvida tomarla?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es necesario</a:t>
            </a:r>
            <a:r>
              <a:rPr b="1" lang="es-ES" sz="1200" spc="-1" strike="noStrike">
                <a:solidFill>
                  <a:srgbClr val="6600cc"/>
                </a:solidFill>
                <a:latin typeface="Arial"/>
                <a:ea typeface="Arial"/>
              </a:rPr>
              <a:t>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hable más sobre este aspecto o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85200" y="646272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21240" y="2200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54480" y="2706840"/>
            <a:ext cx="4525920" cy="1195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Hable acerca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Qué le ayudaría a recordar que debe tomar la mini-píldora todos los días a la misma hor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Cuál es el mejor momento de tomar las mini-píldoras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Dónde podría guardar las mini-píldora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¿Qué hacer si se le acaban los suministro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54480" y="5429160"/>
            <a:ext cx="4525920" cy="346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tréguele condones para que los lleve a ca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45000" y="4255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7461360" y="6010200"/>
            <a:ext cx="577440" cy="468360"/>
            <a:chOff x="7461360" y="6010200"/>
            <a:chExt cx="577440" cy="468360"/>
          </a:xfrm>
        </p:grpSpPr>
        <p:sp>
          <p:nvSpPr>
            <p:cNvPr id="184" name=""/>
            <p:cNvSpPr/>
            <p:nvPr/>
          </p:nvSpPr>
          <p:spPr>
            <a:xfrm>
              <a:off x="7461360" y="6010200"/>
              <a:ext cx="57744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7601400" y="6135840"/>
              <a:ext cx="33552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"/>
          <p:cNvGrpSpPr/>
          <p:nvPr/>
        </p:nvGrpSpPr>
        <p:grpSpPr>
          <a:xfrm>
            <a:off x="9097920" y="3718080"/>
            <a:ext cx="576000" cy="468000"/>
            <a:chOff x="9097920" y="3718080"/>
            <a:chExt cx="576000" cy="468000"/>
          </a:xfrm>
        </p:grpSpPr>
        <p:sp>
          <p:nvSpPr>
            <p:cNvPr id="187" name=""/>
            <p:cNvSpPr/>
            <p:nvPr/>
          </p:nvSpPr>
          <p:spPr>
            <a:xfrm>
              <a:off x="9097920" y="371808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9237600" y="384336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"/>
          <p:cNvGrpSpPr/>
          <p:nvPr/>
        </p:nvGrpSpPr>
        <p:grpSpPr>
          <a:xfrm>
            <a:off x="82440" y="16560"/>
            <a:ext cx="1517760" cy="762480"/>
            <a:chOff x="82440" y="16560"/>
            <a:chExt cx="1517760" cy="762480"/>
          </a:xfrm>
        </p:grpSpPr>
        <p:sp>
          <p:nvSpPr>
            <p:cNvPr id="190" name=""/>
            <p:cNvSpPr/>
            <p:nvPr/>
          </p:nvSpPr>
          <p:spPr>
            <a:xfrm>
              <a:off x="127080" y="61560"/>
              <a:ext cx="143964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440" y="1656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507960" y="258480"/>
              <a:ext cx="685800" cy="49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139680" y="556560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1440"/>
            <a:ext cx="9907560" cy="6276240"/>
            <a:chOff x="0" y="1440"/>
            <a:chExt cx="9907560" cy="6276240"/>
          </a:xfrm>
        </p:grpSpPr>
        <p:sp>
          <p:nvSpPr>
            <p:cNvPr id="195" name=""/>
            <p:cNvSpPr/>
            <p:nvPr/>
          </p:nvSpPr>
          <p:spPr>
            <a:xfrm rot="618000">
              <a:off x="5409720" y="3428640"/>
              <a:ext cx="3962520" cy="25146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4000" spc="-1" strike="noStrike">
                  <a:solidFill>
                    <a:srgbClr val="000000"/>
                  </a:solidFill>
                  <a:latin typeface="Arial"/>
                </a:rPr>
                <a:t>Es posible que pueda empezar hoy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80320" y="31240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2280" y="3406680"/>
              <a:ext cx="472464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Si no está amamantando, puede empezar cualquier día del ciclo menstrual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si podemos estar seguras/os de que no está embaraz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2280" y="1501920"/>
              <a:ext cx="4724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Aft>
                  <a:spcPts val="1100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Puede empezar hoy mismo si está amamantando en forma exclusiva al menos </a:t>
              </a:r>
              <a:br>
                <a:rPr sz="2200"/>
              </a:br>
              <a:r>
                <a:rPr b="1" lang="es-DO" sz="2200" spc="-1" strike="noStrike">
                  <a:solidFill>
                    <a:srgbClr val="000000"/>
                  </a:solidFill>
                  <a:latin typeface="Arial"/>
                </a:rPr>
                <a:t>por 6 semana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225400">
              <a:off x="4829760" y="1397520"/>
              <a:ext cx="1755720" cy="1839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4944960" y="1523880"/>
              <a:ext cx="1379520" cy="2067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02" name=""/>
            <p:cNvGraphicFramePr/>
            <p:nvPr/>
          </p:nvGraphicFramePr>
          <p:xfrm>
            <a:off x="5334120" y="3962520"/>
            <a:ext cx="4038480" cy="2276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34120" y="3962520"/>
                      <a:ext cx="4038480" cy="22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s posible que pueda empezar ho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296280" y="6477120"/>
            <a:ext cx="381240" cy="228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71500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stá preparada para empezar ahor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0245200">
            <a:off x="2841480" y="2205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84320" y="1081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5970600"/>
            <a:ext cx="4267080" cy="863640"/>
          </a:xfrm>
          <a:prstGeom prst="downArrowCallout">
            <a:avLst>
              <a:gd name="adj1" fmla="val 494126"/>
              <a:gd name="adj2" fmla="val 24704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00cc"/>
                </a:solidFill>
                <a:latin typeface="Arial"/>
              </a:rPr>
              <a:t>Si es así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éguele hasta un año de suministro de mini-píldoras. Hable acerca de cuando sería un buen momento para tomar la primera mini-píldo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86280" y="5958000"/>
            <a:ext cx="4454640" cy="817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entréguele las mini-píldoras para que se las lleve a casa.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plíquele el momento indicado para comenzar.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tréguele condon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ra que los use hasta entonces. Explique cómo se usan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362320"/>
            <a:ext cx="281952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no está dando de lactar, puede empezar cualquier día del ciclo menstrual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podemos estar seguras/os de que no está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080" y="103824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empezar hoy si está amamantando en forma exclusiva por al menos 6 sema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67080" y="2478240"/>
            <a:ext cx="6408720" cy="1341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empezó a menstruar en los últimos 5 día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sin necesidad de protección adicion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la menstruación comenzó hace más de 5 días o si tiene amenorrea (ausencia de la menstruación)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si usted está razonablemente segura/o de que no está embarazada (para este fin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use la lista de verificación del Apéndice 1).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hace falta que espere hasta la siguiente menstruació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para  comenzar a usar la mini-píldora. Deb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vitar las relaciones sexuales o debe usar condones en las 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  48 horas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pués de haber tomado la primera mini-píldor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67080" y="4479840"/>
            <a:ext cx="6408720" cy="118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está cambiando de méto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la píldora o de los implantes, ahora es el momento más indicado para comenz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e está cambiando de los inyectables, debe comenzar la mini-píldora en el momento en que hubiera recibido la siguiente inyec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usando el DIU y su menstruación ha comenzado hace más de 5 días, puede empezar l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ni-píldoras ahora pero deje el DIU en su lugar hasta la siguiente menstruació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67080" y="909720"/>
            <a:ext cx="640872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 y si está amamantando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amamantando en forma exclusiva (o casi exclusiva), puede comenzar la mini-píldora a las seis semanas después del parto. No necesitará protección adicional si se encuentra entre seis semanas y seis meses después del parto y todavía no le ha vuelto la menstruación.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olo está amamantando parcialmente, es mejor comenzar a las seis semanas después del parto.  Si espera más tiempo, corre el riesgo de quedar embaraz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, si NO está amamant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inmediatamente después del parto. En las primeras cuatro semanas después del parto no hace falta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4480" y="3849840"/>
            <a:ext cx="6408720" cy="576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 un aborto espontáneo o induci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comenzar inmediatamente después de un aborto. En los primeros 7 días después del aborto no hay necesidad de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84320" y="3138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2440" y="18000"/>
            <a:ext cx="1517760" cy="763200"/>
            <a:chOff x="82440" y="18000"/>
            <a:chExt cx="1517760" cy="763200"/>
          </a:xfrm>
        </p:grpSpPr>
        <p:sp>
          <p:nvSpPr>
            <p:cNvPr id="220" name=""/>
            <p:cNvSpPr/>
            <p:nvPr/>
          </p:nvSpPr>
          <p:spPr>
            <a:xfrm>
              <a:off x="127080" y="63360"/>
              <a:ext cx="143964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40" y="1800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mini-píl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507960" y="260280"/>
              <a:ext cx="68580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>
            <a:off x="127080" y="545616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4:40:00Z</dcterms:created>
  <dc:creator>Church</dc:creator>
  <dc:description/>
  <dc:language>en-US</dc:language>
  <cp:lastModifiedBy>hamillc</cp:lastModifiedBy>
  <cp:lastPrinted>2003-07-18T11:21:45Z</cp:lastPrinted>
  <dcterms:modified xsi:type="dcterms:W3CDTF">2006-10-20T13:44:18Z</dcterms:modified>
  <cp:revision>303</cp:revision>
  <dc:subject/>
  <dc:title>No Slide Title</dc:title>
</cp:coreProperties>
</file>