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92AF7-338D-49D3-868A-59795F9F13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7560" y="4717800"/>
            <a:ext cx="4978440" cy="4468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either spermicides or diaphragms are not available, can remove reference to them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3440" y="2593800"/>
            <a:ext cx="47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método muy efectivo cuando se usa CADA VEZ que se tiene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3440" y="487512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 inserta la mujer pero generalmente necesita hablar al respecto con su pare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3440" y="3679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usarse único método o con otros métodos de planificación 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3440" y="440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ser c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ndón femen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80040" y="1762200"/>
            <a:ext cx="4606920" cy="752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/el cliente necesita usar condones siempre 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sté segura/o si el/ella o su pareja tiene una ITS incluyendo el VI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/el cliente tenga otras parejas sexuales o no tenga seguridad si su pareja actual ha tenido otras pareja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0040" y="2560680"/>
            <a:ext cx="4606920" cy="96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son efectivos para la prevención del embarazo cuando se usa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ctamente en todas las relaciones sexual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femenino puede ser menos efectivo que el condón masculino en la prevención del embarazo, el VIH u otras IT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ejor insertarlo antes de tener cualquier contacto sex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0040" y="3575160"/>
            <a:ext cx="4606920" cy="958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ser más efectivo para la prevención del embarazo cuando se usa en combinación con otro método, pero no puede usarse con el condón mascul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usarse como método de respaldo con cualquier otro método de planificación familiar (por ejemplo, cuando la mujer se olvida de tomar la píldora o se retrasa con los inyectabl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0040" y="4576680"/>
            <a:ext cx="4606920" cy="41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ás caro que el condón masculino y es posible que no sea tan fácil de consegu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440" y="1735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yuda a proteger contra el embaraz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as ITS/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83416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l condón femenino o preferiría hablar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obre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6146640"/>
            <a:ext cx="3733920" cy="684360"/>
          </a:xfrm>
          <a:prstGeom prst="downArrowCallout">
            <a:avLst>
              <a:gd name="adj1" fmla="val 545658"/>
              <a:gd name="adj2" fmla="val 27280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la clienta desea saber más acerca del condón femenino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7080" y="5516640"/>
            <a:ext cx="1800000" cy="33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64160" y="2638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189200">
            <a:off x="4635360" y="45338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60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0040" y="5037120"/>
            <a:ext cx="4606920" cy="76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su pareja no quiere usar los condones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odemos hablar al respecto y practicar lo que usted puede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cirle a su pareja”.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actique con la clienta cómo debe hablar con su pareja. Use el Apéndice 9.</a:t>
            </a:r>
            <a:r>
              <a:rPr b="0" lang="es-ES" sz="1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62360" y="3713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62360" y="1785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0400" y="5086440"/>
            <a:ext cx="597240" cy="468360"/>
            <a:chOff x="9140400" y="5086440"/>
            <a:chExt cx="597240" cy="468360"/>
          </a:xfrm>
        </p:grpSpPr>
        <p:sp>
          <p:nvSpPr>
            <p:cNvPr id="69" name=""/>
            <p:cNvSpPr/>
            <p:nvPr/>
          </p:nvSpPr>
          <p:spPr>
            <a:xfrm flipH="1">
              <a:off x="9140040" y="508644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9155160" y="509472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 rot="1587600">
            <a:off x="4649400" y="4956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0040" y="893880"/>
            <a:ext cx="4608360" cy="82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l condón femenin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ste en una vaina de plástico holgada que se inserta en la vagina antes de tener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xisten condiciones médicas que limiten su uso (No está hecho de látex).  No causa reacciones alérgic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33800" y="6143760"/>
            <a:ext cx="426564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46720" y="6858000"/>
            <a:ext cx="135396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dones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femen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ómo usar el condón femen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3422520"/>
            <a:ext cx="1627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bra el paquete cuidadosamen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condón esté bien lubricado por de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38440" y="3422520"/>
            <a:ext cx="256860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ija una posición cómoda – póngase en cuclillas, levante una pierna, o acuéste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32480" y="5602320"/>
            <a:ext cx="24066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ara remover el condón, tuerza el aro externo y tire del mismo con suav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che el condón debidam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5760" y="2879640"/>
            <a:ext cx="2909880" cy="26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ntroduzca el aro interno suavemente en la vagin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oloque el dedo índice dentro del condón y empuje el aro interno hacia arriba tan adentro como pued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aro externo esté fuera de la vagina y el condón no esté enrollad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el pene penetra en el condón y se mantiene dentro durante la relación sex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5880" y="5051520"/>
            <a:ext cx="2952720" cy="1187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¿Está preparada para elegir este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7640" y="5400720"/>
            <a:ext cx="1447920" cy="1123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94240" y="3422520"/>
            <a:ext cx="2057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2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priete el aro interno en el extremo cer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320" y="1189080"/>
            <a:ext cx="1473120" cy="2133720"/>
            <a:chOff x="76320" y="1189080"/>
            <a:chExt cx="1473120" cy="2133720"/>
          </a:xfrm>
        </p:grpSpPr>
        <p:sp>
          <p:nvSpPr>
            <p:cNvPr id="84" name=""/>
            <p:cNvSpPr/>
            <p:nvPr/>
          </p:nvSpPr>
          <p:spPr>
            <a:xfrm>
              <a:off x="552600" y="3021120"/>
              <a:ext cx="99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ro inter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563400" y="1341360"/>
              <a:ext cx="6303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76320" y="1476360"/>
              <a:ext cx="653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ro exter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000" y="1486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1098720" y="2881440"/>
              <a:ext cx="13320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1520" y="1189080"/>
              <a:ext cx="1447920" cy="213372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2680" y="1214280"/>
              <a:ext cx="2412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299120" y="1125360"/>
            <a:ext cx="2128680" cy="2197080"/>
            <a:chOff x="4299120" y="1125360"/>
            <a:chExt cx="2128680" cy="2197080"/>
          </a:xfrm>
        </p:grpSpPr>
        <p:grpSp>
          <p:nvGrpSpPr>
            <p:cNvPr id="92" name=""/>
            <p:cNvGrpSpPr/>
            <p:nvPr/>
          </p:nvGrpSpPr>
          <p:grpSpPr>
            <a:xfrm>
              <a:off x="4370400" y="1188720"/>
              <a:ext cx="2057400" cy="2133720"/>
              <a:chOff x="4370400" y="1188720"/>
              <a:chExt cx="2057400" cy="2133720"/>
            </a:xfrm>
          </p:grpSpPr>
          <p:pic>
            <p:nvPicPr>
              <p:cNvPr id="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91000" y="1545840"/>
                <a:ext cx="1828800" cy="144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4370400" y="1188720"/>
                <a:ext cx="2057400" cy="213372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299120" y="112536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303800" y="4941720"/>
            <a:ext cx="2073240" cy="1697040"/>
            <a:chOff x="4303800" y="4941720"/>
            <a:chExt cx="2073240" cy="1697040"/>
          </a:xfrm>
        </p:grpSpPr>
        <p:grpSp>
          <p:nvGrpSpPr>
            <p:cNvPr id="97" name=""/>
            <p:cNvGrpSpPr/>
            <p:nvPr/>
          </p:nvGrpSpPr>
          <p:grpSpPr>
            <a:xfrm>
              <a:off x="4375080" y="5013360"/>
              <a:ext cx="2001960" cy="1625400"/>
              <a:chOff x="4375080" y="5013360"/>
              <a:chExt cx="2001960" cy="1625400"/>
            </a:xfrm>
          </p:grpSpPr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13240" y="5209920"/>
                <a:ext cx="1778040" cy="139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4375080" y="5013360"/>
                <a:ext cx="2001960" cy="162540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303800" y="4941720"/>
              <a:ext cx="45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818400" y="1185840"/>
            <a:ext cx="2743200" cy="147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513480" y="1185840"/>
            <a:ext cx="3125880" cy="15238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27720" y="1695600"/>
            <a:ext cx="71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ro</a:t>
            </a:r>
            <a:br>
              <a:rPr sz="1000"/>
            </a:b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te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540560" y="1574280"/>
            <a:ext cx="10800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73680" y="2236680"/>
            <a:ext cx="8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xtremo abier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086600" y="19861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64160" y="112536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6720" y="1128600"/>
            <a:ext cx="45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b3d9"/>
                </a:solidFill>
                <a:latin typeface="Wingdings"/>
                <a:ea typeface="Wingdings"/>
              </a:rPr>
              <a:t>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189080"/>
            <a:ext cx="2590560" cy="21337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1882800" y="1225440"/>
            <a:ext cx="223344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24040" y="2247840"/>
            <a:ext cx="18176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Elija una posición cómoda</a:t>
            </a:r>
            <a:r>
              <a:rPr b="0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 – póngase en cuclillas, levante una pierna, siéntese o acuéste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ómo usar el condón femen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3500280"/>
            <a:ext cx="5027760" cy="19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arejas deb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usar un condón nuev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da vez que tienen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debe insertarse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 que el pene toque la vagi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puede insertarse hasta 8 horas antes de las relacione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viene lubricado pero puede necesitar lubricación adicional por dentro para que no se mueva durante el acto sexual. Se puede añadir lubricante dentro del condón o directamente al pen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terminar la eyaculación, la mujer debe alejarse de su pareja y cuidar de no derramar el semen en la abertura de la vagina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38240" indent="-13824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dón debe desecharse debidamente en una papelera o cesto de basura según sea apropi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47840"/>
            <a:ext cx="18399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bra el paquete cuidadosamen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condón esté bien lubricado por dentr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32840" y="2286000"/>
            <a:ext cx="15555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Para remover el condón, tuerza el aro externo y tire del mismo con suavida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Deseche el condón debidamen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2247840"/>
            <a:ext cx="257004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Introduzca el aro interno suavemente en la vagina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Coloque el dedo índice dentro del condón y empuje el aro interno hacia arriba tan adentro como pued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segúrese de que el extremo externo esté fuera de la vagina y el condón no esté enrollado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el pene penetra en el condón y se mantiene dentro del mismo durante la relación sex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805360"/>
            <a:ext cx="9906120" cy="1049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¿La clienta entiende cómo usar el condón femenino? ¿Está preparada para usar este método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6146640"/>
            <a:ext cx="4267080" cy="685800"/>
          </a:xfrm>
          <a:prstGeom prst="downArrowCallout">
            <a:avLst>
              <a:gd name="adj1" fmla="val 622262"/>
              <a:gd name="adj2" fmla="val 311102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73800" y="6146640"/>
            <a:ext cx="38862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sobre el condón femenino o considere el uso de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556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8240" y="2247840"/>
            <a:ext cx="1981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95000"/>
              </a:lnSpc>
              <a:spcBef>
                <a:spcPts val="4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Apriete el aro interno en el extremo cer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16700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o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8520" y="907920"/>
            <a:ext cx="1447920" cy="1295280"/>
            <a:chOff x="128520" y="907920"/>
            <a:chExt cx="1447920" cy="12952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38360" y="1060200"/>
              <a:ext cx="31572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28520" y="1272960"/>
              <a:ext cx="68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000000"/>
                  </a:solidFill>
                  <a:latin typeface="Arial"/>
                </a:rPr>
                <a:t>Aro exter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840" y="1238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118880" y="1670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520" y="907920"/>
              <a:ext cx="14479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27080" y="922320"/>
            <a:ext cx="2412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670200" y="879480"/>
            <a:ext cx="1789200" cy="1371240"/>
            <a:chOff x="3670200" y="879480"/>
            <a:chExt cx="1789200" cy="1371240"/>
          </a:xfrm>
        </p:grpSpPr>
        <p:grpSp>
          <p:nvGrpSpPr>
            <p:cNvPr id="132" name=""/>
            <p:cNvGrpSpPr/>
            <p:nvPr/>
          </p:nvGrpSpPr>
          <p:grpSpPr>
            <a:xfrm>
              <a:off x="3782880" y="955440"/>
              <a:ext cx="1676520" cy="1295280"/>
              <a:chOff x="3782880" y="955440"/>
              <a:chExt cx="1676520" cy="1295280"/>
            </a:xfrm>
          </p:grpSpPr>
          <p:pic>
            <p:nvPicPr>
              <p:cNvPr id="13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02040" y="1014120"/>
                <a:ext cx="1460520" cy="108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/>
              <p:nvPr/>
            </p:nvSpPr>
            <p:spPr>
              <a:xfrm>
                <a:off x="3782880" y="955440"/>
                <a:ext cx="16765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3670200" y="879480"/>
              <a:ext cx="45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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8163000" y="879480"/>
            <a:ext cx="1549440" cy="1371240"/>
            <a:chOff x="8163000" y="879480"/>
            <a:chExt cx="1549440" cy="1371240"/>
          </a:xfrm>
        </p:grpSpPr>
        <p:grpSp>
          <p:nvGrpSpPr>
            <p:cNvPr id="137" name=""/>
            <p:cNvGrpSpPr/>
            <p:nvPr/>
          </p:nvGrpSpPr>
          <p:grpSpPr>
            <a:xfrm>
              <a:off x="8264520" y="955440"/>
              <a:ext cx="1447920" cy="1295280"/>
              <a:chOff x="8264520" y="955440"/>
              <a:chExt cx="1447920" cy="1295280"/>
            </a:xfrm>
          </p:grpSpPr>
          <p:pic>
            <p:nvPicPr>
              <p:cNvPr id="13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361360" y="1096560"/>
                <a:ext cx="1263600" cy="98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8264520" y="955440"/>
                <a:ext cx="1447920" cy="1295280"/>
              </a:xfrm>
              <a:prstGeom prst="rect">
                <a:avLst/>
              </a:prstGeom>
              <a:noFill/>
              <a:ln w="1908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8163000" y="879480"/>
              <a:ext cx="453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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5964120" y="969840"/>
            <a:ext cx="1979640" cy="1067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42160" y="100008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ro inter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396120" y="1116000"/>
            <a:ext cx="5047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78360" y="1916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xtremo abier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964120" y="1725120"/>
            <a:ext cx="1144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4320" y="955800"/>
            <a:ext cx="2284200" cy="129528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00600" y="879480"/>
            <a:ext cx="378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b3d9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132840" y="5373720"/>
            <a:ext cx="576360" cy="468360"/>
            <a:chOff x="9132840" y="5373720"/>
            <a:chExt cx="576360" cy="468360"/>
          </a:xfrm>
        </p:grpSpPr>
        <p:sp>
          <p:nvSpPr>
            <p:cNvPr id="149" name=""/>
            <p:cNvSpPr/>
            <p:nvPr/>
          </p:nvSpPr>
          <p:spPr>
            <a:xfrm>
              <a:off x="9132840" y="537372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6"/>
            <a:stretch/>
          </p:blipFill>
          <p:spPr>
            <a:xfrm>
              <a:off x="9329760" y="547056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1" name=""/>
          <p:cNvGrpSpPr/>
          <p:nvPr/>
        </p:nvGrpSpPr>
        <p:grpSpPr>
          <a:xfrm>
            <a:off x="8480520" y="5373720"/>
            <a:ext cx="576000" cy="468360"/>
            <a:chOff x="8480520" y="5373720"/>
            <a:chExt cx="576000" cy="468360"/>
          </a:xfrm>
        </p:grpSpPr>
        <p:sp>
          <p:nvSpPr>
            <p:cNvPr id="152" name=""/>
            <p:cNvSpPr/>
            <p:nvPr/>
          </p:nvSpPr>
          <p:spPr>
            <a:xfrm>
              <a:off x="8480520" y="537372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7"/>
            <a:stretch/>
          </p:blipFill>
          <p:spPr>
            <a:xfrm>
              <a:off x="8620200" y="549936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" name=""/>
          <p:cNvGrpSpPr/>
          <p:nvPr/>
        </p:nvGrpSpPr>
        <p:grpSpPr>
          <a:xfrm>
            <a:off x="1711440" y="879480"/>
            <a:ext cx="1792080" cy="1371600"/>
            <a:chOff x="1711440" y="879480"/>
            <a:chExt cx="1792080" cy="1371600"/>
          </a:xfrm>
        </p:grpSpPr>
        <p:sp>
          <p:nvSpPr>
            <p:cNvPr id="155" name=""/>
            <p:cNvSpPr/>
            <p:nvPr/>
          </p:nvSpPr>
          <p:spPr>
            <a:xfrm>
              <a:off x="1828800" y="955800"/>
              <a:ext cx="1674720" cy="1295280"/>
            </a:xfrm>
            <a:prstGeom prst="rect">
              <a:avLst/>
            </a:prstGeom>
            <a:noFill/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11440" y="879480"/>
              <a:ext cx="45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b3d9"/>
                  </a:solidFill>
                  <a:latin typeface="Wingdings"/>
                  <a:ea typeface="Wingdings"/>
                </a:rPr>
                <a:t>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8"/>
            <a:stretch/>
          </p:blipFill>
          <p:spPr>
            <a:xfrm>
              <a:off x="2013120" y="992160"/>
              <a:ext cx="1296720" cy="12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127080" y="5483160"/>
            <a:ext cx="1800000" cy="3380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160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9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98360" y="1484280"/>
            <a:ext cx="7012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segúrese de tener siempre suficiente suministro de cond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no usó el condón correctamente, considere el uso de anticoncepción de emergencia lo antes po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713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i es necesario, puede usar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ás lubric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040520" y="1076040"/>
            <a:ext cx="2318040" cy="1398960"/>
            <a:chOff x="7040520" y="1076040"/>
            <a:chExt cx="2318040" cy="1398960"/>
          </a:xfrm>
        </p:grpSpPr>
        <p:sp>
          <p:nvSpPr>
            <p:cNvPr id="166" name=""/>
            <p:cNvSpPr/>
            <p:nvPr/>
          </p:nvSpPr>
          <p:spPr>
            <a:xfrm rot="21337200">
              <a:off x="7104960" y="1158840"/>
              <a:ext cx="2210040" cy="121896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7040520" y="1106640"/>
              <a:ext cx="2234880" cy="136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6994800" y="3677040"/>
            <a:ext cx="2096640" cy="1233000"/>
            <a:chOff x="6994800" y="3677040"/>
            <a:chExt cx="2096640" cy="1233000"/>
          </a:xfrm>
        </p:grpSpPr>
        <p:sp>
          <p:nvSpPr>
            <p:cNvPr id="169" name=""/>
            <p:cNvSpPr/>
            <p:nvPr/>
          </p:nvSpPr>
          <p:spPr>
            <a:xfrm rot="21337200">
              <a:off x="7031160" y="3752640"/>
              <a:ext cx="2023920" cy="102852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7100640" y="3944880"/>
              <a:ext cx="1904760" cy="9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"/>
          <p:cNvGrpSpPr/>
          <p:nvPr/>
        </p:nvGrpSpPr>
        <p:grpSpPr>
          <a:xfrm>
            <a:off x="3862080" y="5182920"/>
            <a:ext cx="1516680" cy="1503720"/>
            <a:chOff x="3862080" y="5182920"/>
            <a:chExt cx="1516680" cy="1503720"/>
          </a:xfrm>
        </p:grpSpPr>
        <p:sp>
          <p:nvSpPr>
            <p:cNvPr id="172" name=""/>
            <p:cNvSpPr/>
            <p:nvPr/>
          </p:nvSpPr>
          <p:spPr>
            <a:xfrm rot="21337200">
              <a:off x="3906720" y="5235480"/>
              <a:ext cx="1427040" cy="122544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4130640" y="5315040"/>
              <a:ext cx="104940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 rot="21337200">
            <a:off x="7128000" y="2549160"/>
            <a:ext cx="1752480" cy="99072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174080" y="2492280"/>
            <a:ext cx="1752480" cy="1096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533520" y="1206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75320" y="5410080"/>
            <a:ext cx="41162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58760" y="2736720"/>
            <a:ext cx="46483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no usó el condón correctamente, considere el uso de anticoncepción de emergencia lo antes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181160"/>
            <a:ext cx="47926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1125360"/>
            <a:ext cx="4267080" cy="85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ecesita usar un condón CADA VEZ que tenga relaciones sexuales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ara protegerse completamente contra el embarazo y las IT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Si no puede usar un condón cada vez,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dere usar también otr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método de planificación famili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4960" y="2698920"/>
            <a:ext cx="4267080" cy="1365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condón femenino se desplaza o es empujado dentro de la vagina, la anticoncepción de emergencia puede ayudarle a evitar un embar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use el condón si el paquete sellado está roto o gotea o, si el condón está resec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y los clientes que hayan estado expuestos al VIH o ITS también pueden necesitar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profilaxis post-exposición (PPE) al VIH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tratamiento de presunta ITS.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917960" y="1224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17960" y="2739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5950080"/>
            <a:ext cx="9909000" cy="903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81160" y="6021360"/>
            <a:ext cx="7543800" cy="76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82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a de haber elegido este método?</a:t>
            </a:r>
            <a:r>
              <a:rPr b="1" i="1" lang="es-ES" sz="1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Hay algo que pueda repetir o explicar? ¡Por favor regrese cuando lo desee!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un condón cada vez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1760" y="564660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211464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gúrese de tener siempre suficiente suministro de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173320"/>
            <a:ext cx="42670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btenga más de condones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de que se le termine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8760" y="4406760"/>
            <a:ext cx="4648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es necesario puede usar más lubr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17960" y="21700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17960" y="4449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4365720"/>
            <a:ext cx="426708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condones femeninos vienen lubricados, lo cual puede hacer que se sientan resbaladizos al princip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 más lubricante por dentro según sea necesario. Esto puede reducir el ruido durante las relaciones sexuales y ayudar a que éstas procedan con mayor suavida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se cualquier tipo de lubricante con el condón femeni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reducir la picaz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039160" y="6175440"/>
            <a:ext cx="576000" cy="468360"/>
            <a:chOff x="8039160" y="6175440"/>
            <a:chExt cx="576000" cy="468360"/>
          </a:xfrm>
        </p:grpSpPr>
        <p:sp>
          <p:nvSpPr>
            <p:cNvPr id="196" name=""/>
            <p:cNvSpPr/>
            <p:nvPr/>
          </p:nvSpPr>
          <p:spPr>
            <a:xfrm>
              <a:off x="8039160" y="61754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8178840" y="63010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"/>
          <p:cNvGrpSpPr/>
          <p:nvPr/>
        </p:nvGrpSpPr>
        <p:grpSpPr>
          <a:xfrm>
            <a:off x="104760" y="57240"/>
            <a:ext cx="1222560" cy="717480"/>
            <a:chOff x="104760" y="57240"/>
            <a:chExt cx="1222560" cy="717480"/>
          </a:xfrm>
        </p:grpSpPr>
        <p:sp>
          <p:nvSpPr>
            <p:cNvPr id="199" name=""/>
            <p:cNvSpPr/>
            <p:nvPr/>
          </p:nvSpPr>
          <p:spPr>
            <a:xfrm>
              <a:off x="155520" y="57240"/>
              <a:ext cx="11718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760" y="163800"/>
              <a:ext cx="97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femen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1019160" y="85680"/>
              <a:ext cx="25092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154160"/>
            <a:ext cx="731520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cluyen a los espermicidas y el diafrag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n colocarse en la vagina cada vez ante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tener relaciones sex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gunas/os usuarios sienten efectos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cundari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n provocar una sensación de suci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30000"/>
              </a:lnSpc>
              <a:spcBef>
                <a:spcPts val="249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Espermicid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menos efectivos que otros méto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ofrecen protección contra las ITS o el VIH/S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Diafrag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 ser un método efectivo si se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sa correctamente cada ve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ta someterse a un examen pélvico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determinar el tamaño aprop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18576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posible que ofrezca protección contra </a:t>
            </a: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guna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81480" y="1752480"/>
            <a:ext cx="4191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0520" indent="-290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Métodos vagi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286240" y="4440240"/>
            <a:ext cx="4446720" cy="2017800"/>
            <a:chOff x="5286240" y="4440240"/>
            <a:chExt cx="4446720" cy="2017800"/>
          </a:xfrm>
        </p:grpSpPr>
        <p:sp>
          <p:nvSpPr>
            <p:cNvPr id="206" name=""/>
            <p:cNvSpPr/>
            <p:nvPr/>
          </p:nvSpPr>
          <p:spPr>
            <a:xfrm>
              <a:off x="5502240" y="4440240"/>
              <a:ext cx="4230720" cy="17589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Desea saber más acerca de estos métodos o preferiría hablar sobre otro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286240" y="533412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"/>
          <p:cNvSpPr/>
          <p:nvPr/>
        </p:nvSpPr>
        <p:spPr>
          <a:xfrm rot="21337200">
            <a:off x="6117840" y="1066320"/>
            <a:ext cx="3632400" cy="20066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6797520" y="1549440"/>
            <a:ext cx="3105360" cy="1458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6189840" y="1131840"/>
            <a:ext cx="21207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06T14:57:22Z</cp:lastPrinted>
  <dcterms:modified xsi:type="dcterms:W3CDTF">2006-10-20T09:50:46Z</dcterms:modified>
  <cp:revision>413</cp:revision>
  <dc:subject/>
  <dc:title>No Slide Title</dc:title>
</cp:coreProperties>
</file>