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2825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552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0756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9435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49840" y="9435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EAA60E-C41C-4547-A9C0-51CD3DCB00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5520" cy="37224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0756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production of the tool the “Tab markers” on each new section can be removed (so long as tabs will be used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only certain types of spermicides are available, can remove reference to others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the common terminology in the country for LAM? If wording is changed here, the terminology used in other sections of the tool will need to be chang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5520" cy="37224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0756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“Most Women” drawing on this page is generic. There is one alternate version in the Adaptation CD Rom. Other programmes may choose to adapt the drawing themselve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5520" cy="37224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0756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page can be copied and included in a “kit” for providers, as “take-home” information for clients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5520" cy="37224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0756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only certain types of spermicides are available, can remove images or reference to others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5520" cy="37224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756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only certain types of spermicides are available, can remove reference to others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5520" cy="37224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07560" y="4716000"/>
            <a:ext cx="4978440" cy="4800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57320" y="6620040"/>
            <a:ext cx="422748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1360" indent="-171360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old for use elsewher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You and your sex partner should see a doctor or nurse if either of you hav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res on or near your genita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in when pee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ipping, itching, rash, irrita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are signs of sexually transmitted diseas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06480" y="8028000"/>
            <a:ext cx="5132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7840" indent="-177840">
              <a:spcAft>
                <a:spcPts val="300"/>
              </a:spcAft>
              <a:tabLst>
                <a:tab algn="l" pos="0"/>
                <a:tab algn="l" pos="17784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Move to training guid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7784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xplain when to use and why us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7784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EVERY TIME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 import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7784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protected sex just once—even the first time—can lead to pregnancy and/or ST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7784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cannot tell, by the way people look, whether they have an STI, including HIV. They often look health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7784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person does not always know if he or she has an STI, including HIV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5520" cy="37224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756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82800" y="6124680"/>
            <a:ext cx="4529160" cy="17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7840" indent="-17784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7784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xt from provider page 64, no longer used. Generalize for user’s guide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17784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lp with plan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7784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ke sure client remembers and understands the most important instructions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:  “I want to make sure I’ve helped you plan, so just to summarize: When do you use a condom? How do you use it?  Where will you keep them? What could go wrong? And what will you do about it?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7784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ive client printed material to take home, if possibl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7784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lease come back if you have any problems —including if you have trouble getting your partner to use condoms every time.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56112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2684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0080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108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190080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42108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28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84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spcBef>
                <a:spcPts val="400"/>
              </a:spcBef>
              <a:buClr>
                <a:srgbClr val="000000"/>
              </a:buClr>
              <a:buFont typeface="Wingdings 3" charset="2"/>
              <a:buChar char="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189400" y="2219400"/>
            <a:ext cx="4569120" cy="428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3300"/>
                </a:solidFill>
                <a:latin typeface="Arial"/>
              </a:rPr>
              <a:t>Efectos secundarios:</a:t>
            </a:r>
            <a:r>
              <a:rPr b="1" lang="es-ES_tradnl" sz="1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ueden causar irritación, escozor o infecciones de la vejiga urinari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89400" y="4029120"/>
            <a:ext cx="4569120" cy="460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Los diafragmas (al igual que los espermicidas) son más eficaces cuando se usan correctamente cada vez.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95880" y="3387600"/>
            <a:ext cx="45687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3300"/>
                </a:solidFill>
                <a:latin typeface="Arial"/>
              </a:rPr>
              <a:t>Para protegerse contra las ITS o el VIH/SIDA, use también condon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867280"/>
            <a:ext cx="9906120" cy="990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¿Desea saber más acerca de los métodos vaginales o preferiría hablar sobre otro método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9240" y="6143760"/>
            <a:ext cx="3886200" cy="684000"/>
          </a:xfrm>
          <a:prstGeom prst="downArrowCallout">
            <a:avLst>
              <a:gd name="adj1" fmla="val 568210"/>
              <a:gd name="adj2" fmla="val 284078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i la cliente desea saber más acerca de los métodos vaginales,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se a la página siguien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7080" y="5575320"/>
            <a:ext cx="175248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Paso siguien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61000" y="14000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61000" y="514368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9680" y="873000"/>
            <a:ext cx="486900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90440" indent="-190440">
              <a:lnSpc>
                <a:spcPct val="95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ncluyen a los espermicidas y el diafrag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18200" y="5121360"/>
            <a:ext cx="4568760" cy="619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No se sabe con seguridad que grado de protección ofrecen los diafragmas contra el VIH/SIDA.</a:t>
            </a:r>
            <a:r>
              <a:rPr b="1" lang="es-ES_tradnl" sz="1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000"/>
            </a:br>
            <a:r>
              <a:rPr b="1" lang="es-ES_tradnl" sz="1100" spc="-1" strike="noStrike">
                <a:solidFill>
                  <a:srgbClr val="ff0000"/>
                </a:solidFill>
                <a:latin typeface="Arial"/>
              </a:rPr>
              <a:t>Para protegerse contra las ITS/VIH/SIDA, </a:t>
            </a:r>
            <a:r>
              <a:rPr b="1" lang="es-ES_tradnl" sz="1100" spc="-1" strike="noStrike">
                <a:solidFill>
                  <a:srgbClr val="ff3300"/>
                </a:solidFill>
                <a:latin typeface="Arial"/>
              </a:rPr>
              <a:t>use también</a:t>
            </a:r>
            <a:r>
              <a:rPr b="1" lang="es-ES_tradnl" sz="1100" spc="-1" strike="noStrike">
                <a:solidFill>
                  <a:srgbClr val="ff0000"/>
                </a:solidFill>
                <a:latin typeface="Arial"/>
              </a:rPr>
              <a:t> condon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89400" y="2709720"/>
            <a:ext cx="4569120" cy="614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¿Le resultaría incómodo introducir algo en su vagina?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¿Le molestaría usar un método que pueda provocar una sensación de suciedad después de las relaciones sexuales?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996200">
            <a:off x="4736880" y="26269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61000" y="40291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Métodos vagina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76320" y="591192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V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8080" y="58680"/>
            <a:ext cx="1143000" cy="71748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2160" y="55800"/>
            <a:ext cx="10112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étodos  </a:t>
            </a:r>
            <a:br>
              <a:rPr sz="1400"/>
            </a:b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agin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89400" y="911160"/>
            <a:ext cx="4569120" cy="1249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3300"/>
                </a:solidFill>
                <a:latin typeface="Arial"/>
              </a:rPr>
              <a:t>Acerca de los métodos vaginales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 diafragma es una pieza flexible de goma que impide que los espermatozoides entren en el útero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Los espermicidas vienen en forma de gel, crema, tableta espumante, supositorio, espuma o película soluble, que mata a los espermatozoide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mbos métodos los inserta la mujer en su vagina antes de las relaciones sexuales. No interrumpen el acto sexual.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7080" y="2706840"/>
            <a:ext cx="504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Espermicid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on menos efectivos que otros méto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No ofrecen protección contra las ITS o el VIH/S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7080" y="3710160"/>
            <a:ext cx="5173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Diafragm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uede ser un método efectivo si se usa correctamente cada v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Necesita un examen pélvico para determinar el tamaño apropi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201"/>
              </a:spcBef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s posible que ofrezca protección contra </a:t>
            </a:r>
            <a:br>
              <a:rPr sz="1600"/>
            </a:b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lgunas 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7080" y="1147680"/>
            <a:ext cx="4824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90440" indent="-190440">
              <a:lnSpc>
                <a:spcPct val="90000"/>
              </a:lnSpc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eben colocarse en la vagina cada vez antes de tener relaciones sex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7080" y="1636560"/>
            <a:ext cx="48686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90440" indent="-190440">
              <a:lnSpc>
                <a:spcPct val="90000"/>
              </a:lnSpc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lgunas/os usuarios sufren efectos secundari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7080" y="2141640"/>
            <a:ext cx="45370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90440" indent="-190440">
              <a:lnSpc>
                <a:spcPct val="90000"/>
              </a:lnSpc>
              <a:buClr>
                <a:srgbClr val="ff3300"/>
              </a:buClr>
              <a:buFont typeface="Arial"/>
              <a:buChar char="•"/>
              <a:tabLst>
                <a:tab algn="l" pos="29196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ueden provocar una sensación de sucie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902400">
            <a:off x="4760640" y="20775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61000" y="88272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29040" y="6143760"/>
            <a:ext cx="4370400" cy="52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ara hablar sobre otro método,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vaya a la pestaña de otro método o a la pestaña Elección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 Méto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72160" y="6858000"/>
            <a:ext cx="1353960" cy="438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Métodos vagi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07880" y="457200"/>
            <a:ext cx="790200" cy="331920"/>
            <a:chOff x="407880" y="457200"/>
            <a:chExt cx="790200" cy="331920"/>
          </a:xfrm>
        </p:grpSpPr>
        <p:pic>
          <p:nvPicPr>
            <p:cNvPr id="73" name="" descr=""/>
            <p:cNvPicPr/>
            <p:nvPr/>
          </p:nvPicPr>
          <p:blipFill>
            <a:blip r:embed="rId2"/>
            <a:stretch/>
          </p:blipFill>
          <p:spPr>
            <a:xfrm>
              <a:off x="471240" y="506520"/>
              <a:ext cx="726840" cy="2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3"/>
            <a:stretch/>
          </p:blipFill>
          <p:spPr>
            <a:xfrm>
              <a:off x="407880" y="457200"/>
              <a:ext cx="398520" cy="18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"/>
          <p:cNvSpPr/>
          <p:nvPr/>
        </p:nvSpPr>
        <p:spPr>
          <a:xfrm rot="902400">
            <a:off x="4760640" y="33238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0" y="-114480"/>
            <a:ext cx="9907560" cy="6858000"/>
            <a:chOff x="0" y="-114480"/>
            <a:chExt cx="9907560" cy="6858000"/>
          </a:xfrm>
        </p:grpSpPr>
        <p:sp>
          <p:nvSpPr>
            <p:cNvPr id="258" name=""/>
            <p:cNvSpPr/>
            <p:nvPr/>
          </p:nvSpPr>
          <p:spPr>
            <a:xfrm>
              <a:off x="6095880" y="1866600"/>
              <a:ext cx="3200400" cy="312444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0" y="-114480"/>
              <a:ext cx="9907560" cy="1125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800" spc="-1" strike="noStrike">
                  <a:solidFill>
                    <a:srgbClr val="000000"/>
                  </a:solidFill>
                  <a:latin typeface="Arial"/>
                </a:rPr>
                <a:t>MELA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"/>
                </a:rPr>
                <a:t>Método de Amenorrea de Lactanc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257800" y="2781000"/>
              <a:ext cx="4114800" cy="82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10000"/>
                </a:lnSpc>
                <a:spcAft>
                  <a:spcPts val="7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10000"/>
                </a:lnSpc>
                <a:spcAft>
                  <a:spcPts val="7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0520" y="1239480"/>
              <a:ext cx="5713560" cy="419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spcBef>
                  <a:spcPts val="825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Es un método anticonceptivo basado en la lactancia matern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825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MELA significa amamantar con frecuencia,  día y noche, y darle al bebé muy poco o nada de otros alimento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825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Es un método efectivo durante los primeros seis meses después del part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825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La leche materna es el mejor alimento para el bebé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825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No ofrece protección contra las ITS o el VIH/SID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135080" y="5473440"/>
              <a:ext cx="5334120" cy="12700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3300"/>
                  </a:solidFill>
                  <a:latin typeface="Arial"/>
                </a:rPr>
                <a:t>¿Desea saber más acerca del MELA o preferiría hablar sobre otro método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3" name="" descr=""/>
            <p:cNvPicPr/>
            <p:nvPr/>
          </p:nvPicPr>
          <p:blipFill>
            <a:blip r:embed="rId1"/>
            <a:stretch/>
          </p:blipFill>
          <p:spPr>
            <a:xfrm>
              <a:off x="228600" y="5543280"/>
              <a:ext cx="144792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" descr=""/>
            <p:cNvPicPr/>
            <p:nvPr/>
          </p:nvPicPr>
          <p:blipFill>
            <a:blip r:embed="rId2"/>
            <a:stretch/>
          </p:blipFill>
          <p:spPr>
            <a:xfrm>
              <a:off x="6629400" y="2019240"/>
              <a:ext cx="2244600" cy="336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5102280"/>
            <a:ext cx="216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iene una condición médica que haga que el embarazo sea peligro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440"/>
            <a:ext cx="9906120" cy="1332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Quién puede y quién no puede </a:t>
            </a:r>
            <a:br>
              <a:rPr sz="4400"/>
            </a:b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usar los métodos vagin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38920" y="3171960"/>
            <a:ext cx="37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Y si está pensando acerca del diafragma, dígame s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0040" y="1724040"/>
            <a:ext cx="449604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3300"/>
                </a:solidFill>
                <a:latin typeface="Arial"/>
              </a:rPr>
              <a:t>La mayoría de las mujeres puede usar los métodos vaginales en forma segu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21522600">
            <a:off x="4933800" y="1479240"/>
            <a:ext cx="4792680" cy="15588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2000" y="2876400"/>
            <a:ext cx="52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Pero, en general, no se debe usar los ESPERMICIDAS o el DIAFRAGMA con espermicidas s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20766000">
            <a:off x="398520" y="3819240"/>
            <a:ext cx="1228680" cy="9651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57360" y="3827520"/>
            <a:ext cx="730080" cy="12650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025720" y="5076720"/>
            <a:ext cx="3989160" cy="15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00000"/>
              </a:lnSpc>
              <a:spcBef>
                <a:spcPts val="33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iene más de una pareja sexual o su pareja tiene relaciones sexuales con otras personas (alto riesg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contra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l VI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33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ie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IH/S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20766000">
            <a:off x="3211560" y="3770280"/>
            <a:ext cx="1371600" cy="9619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344760" y="3875040"/>
            <a:ext cx="1121040" cy="1252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191360" y="4002120"/>
            <a:ext cx="261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6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Ha tenido recientemente un parto o un abor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916600" y="3840840"/>
            <a:ext cx="1300320" cy="1212120"/>
            <a:chOff x="5916600" y="3840840"/>
            <a:chExt cx="1300320" cy="1212120"/>
          </a:xfrm>
        </p:grpSpPr>
        <p:sp>
          <p:nvSpPr>
            <p:cNvPr id="89" name=""/>
            <p:cNvSpPr/>
            <p:nvPr/>
          </p:nvSpPr>
          <p:spPr>
            <a:xfrm rot="741000">
              <a:off x="6000480" y="3951000"/>
              <a:ext cx="1131840" cy="91116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" name="" descr=""/>
            <p:cNvPicPr/>
            <p:nvPr/>
          </p:nvPicPr>
          <p:blipFill>
            <a:blip r:embed="rId3"/>
            <a:stretch/>
          </p:blipFill>
          <p:spPr>
            <a:xfrm>
              <a:off x="6188040" y="4019400"/>
              <a:ext cx="736560" cy="103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"/>
          <p:cNvSpPr/>
          <p:nvPr/>
        </p:nvSpPr>
        <p:spPr>
          <a:xfrm>
            <a:off x="7326360" y="5186520"/>
            <a:ext cx="257652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95000"/>
              </a:lnSpc>
              <a:spcBef>
                <a:spcPts val="56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 alérgica al lát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95000"/>
              </a:lnSpc>
              <a:spcBef>
                <a:spcPts val="56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Ha tenido alguna vez el síndrome de choque tóxic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328440" y="5005800"/>
            <a:ext cx="999720" cy="1418040"/>
            <a:chOff x="6328440" y="5005800"/>
            <a:chExt cx="999720" cy="1418040"/>
          </a:xfrm>
        </p:grpSpPr>
        <p:sp>
          <p:nvSpPr>
            <p:cNvPr id="93" name=""/>
            <p:cNvSpPr/>
            <p:nvPr/>
          </p:nvSpPr>
          <p:spPr>
            <a:xfrm rot="369000">
              <a:off x="6397200" y="5047920"/>
              <a:ext cx="861840" cy="133344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" name="" descr=""/>
            <p:cNvPicPr/>
            <p:nvPr/>
          </p:nvPicPr>
          <p:blipFill>
            <a:blip r:embed="rId4"/>
            <a:stretch/>
          </p:blipFill>
          <p:spPr>
            <a:xfrm>
              <a:off x="6480000" y="5098680"/>
              <a:ext cx="571680" cy="1306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5557680" y="1474920"/>
            <a:ext cx="3333960" cy="16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6320" y="2333520"/>
            <a:ext cx="526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Tiene una condición médica que haga que el embarazo sea peligro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320" y="1220760"/>
            <a:ext cx="561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  <a:ea typeface="Arial"/>
              </a:rPr>
              <a:t>La mayoría de las mujeres pueden usar los métodos vaginales 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en forma segura.</a:t>
            </a:r>
            <a:r>
              <a:rPr b="1" lang="es-ES_tradnl" sz="18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3300"/>
                </a:solidFill>
                <a:latin typeface="Arial"/>
                <a:ea typeface="Arial"/>
              </a:rPr>
              <a:t>Pero, en general, no se debe usar los ESPERMICIDAS o </a:t>
            </a:r>
            <a:br>
              <a:rPr sz="1800"/>
            </a:br>
            <a:r>
              <a:rPr b="1" lang="es-ES" sz="1800" spc="-1" strike="noStrike">
                <a:solidFill>
                  <a:srgbClr val="ff3300"/>
                </a:solidFill>
                <a:latin typeface="Arial"/>
                <a:ea typeface="Arial"/>
              </a:rPr>
              <a:t>el DIAFRAGMA con espermicidas s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320" y="2876400"/>
            <a:ext cx="538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Tiene más de una pareja sexual o su pareja tiene relaciones sexuales con otras personas </a:t>
            </a: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(alto riesgo de contraer VI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645000"/>
            <a:ext cx="526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Tiene VIH/S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320" y="4559400"/>
            <a:ext cx="54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Ha tenido recientemente un parto o un abor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320" y="4827600"/>
            <a:ext cx="56451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 alérgica al lát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  <a:ea typeface="Arial"/>
              </a:rPr>
              <a:t>Ha tenido alguna vez el síndrome de choque tóx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805360"/>
            <a:ext cx="9909000" cy="1052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6440" y="3762360"/>
            <a:ext cx="4044960" cy="938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En general se debe esperar de 6 a 12 semanas después del parto o después de un aborto del segundo trimestre para medir el diafragma, dependiendo del momento en que el útero y el cuello uterino vuelvan a su forma y tamaño normal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16440" y="4745160"/>
            <a:ext cx="4044960" cy="342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No debe usar un diafragma de látex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16440" y="5176800"/>
            <a:ext cx="4044960" cy="330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En general no debe usar un diafragm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16440" y="2862360"/>
            <a:ext cx="4044960" cy="826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Los espermicidas NO deben usarse si la mujer corre un alto riesgo de contraer el VIH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Se desconoce el grado de efectividad de un diafragma </a:t>
            </a:r>
            <a:r>
              <a:rPr b="0" i="1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sin 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espermicida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83280" y="5950080"/>
            <a:ext cx="4116240" cy="6872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Si la clienta no puede usar los métodos vaginales: 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Ayúdela a elegir otro méto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2760" y="5978520"/>
            <a:ext cx="4471920" cy="866880"/>
          </a:xfrm>
          <a:prstGeom prst="downArrowCallout">
            <a:avLst>
              <a:gd name="adj1" fmla="val 515911"/>
              <a:gd name="adj2" fmla="val 257931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Si la clienta puede usar el métod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Pase a la página siguiente para hablar acerca del diafragma o a la página MV4 para hablar acerca de los espermicid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45200" y="236700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45200" y="28526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20328600">
            <a:off x="5295960" y="444960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08560" y="48196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21160" y="515772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440"/>
            <a:ext cx="9909000" cy="1150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Arial"/>
              </a:rPr>
              <a:t>Quién puede y quién no puede 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Arial"/>
              </a:rPr>
              <a:t>usar los métodos vagina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385200" y="64641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MV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5520" y="177840"/>
            <a:ext cx="1143000" cy="7621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2120" y="64440"/>
            <a:ext cx="10112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Métodos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Vagin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320" y="3933720"/>
            <a:ext cx="526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  <a:ea typeface="Arial"/>
              </a:rPr>
              <a:t>Y si está pensando usar el DIAFRAGMA, dígame si ust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16440" y="1490760"/>
            <a:ext cx="4044960" cy="1317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Las condiciones medicas que hacen que el embarazo sea peligroso incluyen la hipertensión arterial, diabetes, enfermedad cardiovascular, accidente cerebrovacular, algunos cánceres, ITS incluido el VIH/SIDA, enfermedad hepática, anemia, tuberculosis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Un método más efectivo puede ser más apropiado para mujeres que presentan estos problemas de salu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7080" y="5499000"/>
            <a:ext cx="175248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Paso siguien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44520" y="547560"/>
            <a:ext cx="790200" cy="331920"/>
            <a:chOff x="344520" y="547560"/>
            <a:chExt cx="790200" cy="331920"/>
          </a:xfrm>
        </p:grpSpPr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407880" y="596880"/>
              <a:ext cx="726840" cy="2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344520" y="547560"/>
              <a:ext cx="398520" cy="189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169040" y="1268280"/>
            <a:ext cx="2535480" cy="40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Después de la relación sexua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4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Deje el diafragma en su sitio por AL MENOS 6 horas pero NO MÁS DE 24 hora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63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Para retirarlo, deslice suavemente un dedo debajo del borde y tire del diafragma hacia abajo y hacia afuer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3840" y="2708280"/>
            <a:ext cx="219240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Aplique suficiente crema o jalea espermicida dentro del diafragma  y alrededor del bord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79600" y="2421000"/>
            <a:ext cx="2151000" cy="24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Presione el diafragma de manera que se toquen los bordes de ambos lados y empuje el diafragma en la vagina lo más adentro posib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84600" y="3860640"/>
            <a:ext cx="2448000" cy="10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Toque el diafragma para asegurarse de que cubre el cuello uterin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8360" y="5589720"/>
            <a:ext cx="55450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TAMBIÉN: Con cada acto sexual adicional, use un aplicador para insertar más espermicida en la vagina. NO retire el diafragm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53200" y="1197000"/>
            <a:ext cx="2605320" cy="3873600"/>
          </a:xfrm>
          <a:prstGeom prst="rect">
            <a:avLst/>
          </a:prstGeom>
          <a:noFill/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1360" indent="-17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6440" y="1197000"/>
            <a:ext cx="2133720" cy="3862440"/>
          </a:xfrm>
          <a:prstGeom prst="rect">
            <a:avLst/>
          </a:prstGeom>
          <a:noFill/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5200" y="1197000"/>
            <a:ext cx="2211480" cy="3875040"/>
          </a:xfrm>
          <a:prstGeom prst="rect">
            <a:avLst/>
          </a:prstGeom>
          <a:noFill/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95840" y="1197000"/>
            <a:ext cx="2338200" cy="3862440"/>
          </a:xfrm>
          <a:prstGeom prst="rect">
            <a:avLst/>
          </a:prstGeom>
          <a:noFill/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-1440" y="1440"/>
            <a:ext cx="9907560" cy="101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Cómo usar el diafragm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16520" y="5157720"/>
            <a:ext cx="3943440" cy="1459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3300"/>
                </a:solidFill>
                <a:latin typeface="Arial"/>
              </a:rPr>
              <a:t>¿</a:t>
            </a:r>
            <a:r>
              <a:rPr b="1" i="1" lang="es-ES_tradnl" sz="2000" spc="-1" strike="noStrike">
                <a:solidFill>
                  <a:srgbClr val="ff3300"/>
                </a:solidFill>
                <a:latin typeface="Arial"/>
              </a:rPr>
              <a:t>Le gustaría usar este método </a:t>
            </a:r>
            <a:r>
              <a:rPr b="1" i="1" lang="es-ES" sz="2000" spc="-1" strike="noStrike">
                <a:solidFill>
                  <a:srgbClr val="ff3300"/>
                </a:solidFill>
                <a:latin typeface="Arial"/>
              </a:rPr>
              <a:t>y ver si le agrada</a:t>
            </a:r>
            <a:r>
              <a:rPr b="1" i="1" lang="es-ES_tradnl" sz="1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456160" y="5823000"/>
            <a:ext cx="1219320" cy="946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863800" y="1341360"/>
            <a:ext cx="1600200" cy="997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5440" y="1111320"/>
            <a:ext cx="4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ccff"/>
                </a:solidFill>
                <a:latin typeface="Wingdings"/>
                <a:ea typeface="Wingdings"/>
              </a:rPr>
              <a:t>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32160" y="1120680"/>
            <a:ext cx="3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ccff"/>
                </a:solidFill>
                <a:latin typeface="Wingdings"/>
                <a:ea typeface="Wingdings"/>
              </a:rPr>
              <a:t>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84600" y="1135080"/>
            <a:ext cx="43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ccff"/>
                </a:solidFill>
                <a:latin typeface="Wingdings"/>
                <a:ea typeface="Wingdings"/>
              </a:rPr>
              <a:t>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227720" y="1125360"/>
            <a:ext cx="50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66ccff"/>
                </a:solidFill>
                <a:latin typeface="Wingdings"/>
                <a:ea typeface="Wingdings"/>
              </a:rPr>
              <a:t>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5232240" y="1255680"/>
            <a:ext cx="1332000" cy="25527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312840" y="1433520"/>
            <a:ext cx="182880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718160" y="1322280"/>
            <a:ext cx="17082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oque el diafragma para asegurarse de que cubre el cuello uter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3040" y="1322280"/>
            <a:ext cx="18687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plique suficiente crema o jalea espermicida en el diafragma y alrededor del bor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3080" y="3645000"/>
            <a:ext cx="1617480" cy="695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se aproximadamente una cucharada de jalea o cre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51800" y="3645000"/>
            <a:ext cx="3001680" cy="1444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uídese de no rasgar el diafragma al retirarl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ve el diafragma con agua limpia y un jabón suave después de cada us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Revise el diafragma en busca de orificios colocándolo a contraluz o llenándolo con agu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eque el diafragma y si es posible guárdelo en un sitio limpio, fresco y oscur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2920" y="4619520"/>
            <a:ext cx="4664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n cada acto sexual adicional, use un aplicador para insertar más espermicida en la vagina.  No retire el diafrag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07080" y="1063800"/>
            <a:ext cx="3168720" cy="200484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18800" bIns="118800" anchor="t">
            <a:noAutofit/>
          </a:bodyPr>
          <a:p>
            <a:pPr marL="171360" indent="-171360" algn="ctr">
              <a:lnSpc>
                <a:spcPct val="95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3300"/>
                </a:solidFill>
                <a:latin typeface="Arial"/>
              </a:rPr>
              <a:t>Después de la relación sexual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ctr">
              <a:lnSpc>
                <a:spcPct val="95000"/>
              </a:lnSpc>
              <a:spcBef>
                <a:spcPts val="43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eje el diafragma en su sitio por AL MENOS 6 horas pero NO MÁS DE 24 ho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ctr">
              <a:lnSpc>
                <a:spcPct val="95000"/>
              </a:lnSpc>
              <a:spcBef>
                <a:spcPts val="43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ara retirarlo, deslice suavemente un dedo debajo del borde y tire del diafragma hacia abajo y hacia afu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64240" y="3645000"/>
            <a:ext cx="1569960" cy="131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segúrese de que puede palpar el cuello uterino al tocar la cúpula del diafragma, el cual se siente como la punta de la nariz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5726160"/>
            <a:ext cx="990612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¿La clienta entiende cómo usar el diafragma? ¿Está preparada para usar este métod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76240" y="6093000"/>
            <a:ext cx="4343400" cy="685800"/>
          </a:xfrm>
          <a:prstGeom prst="downArrowCallout">
            <a:avLst>
              <a:gd name="adj1" fmla="val 633392"/>
              <a:gd name="adj2" fmla="val 316666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i es así,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pase a la página siguiente para hablar acerca de los espermicidas si es necesar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10080" y="6093000"/>
            <a:ext cx="3886200" cy="5331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i no es así,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hable más acerca del diafragma o considere el uso de otros méto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68440" y="1093680"/>
            <a:ext cx="19494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resione el diafragma de manera que se toquen los bordes de ambos lados y empuje el diafragma en la vagina lo más adentro pos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2360" y="1060560"/>
            <a:ext cx="1797120" cy="20080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24160" y="1060560"/>
            <a:ext cx="2006640" cy="20080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18080" y="1060560"/>
            <a:ext cx="1828800" cy="200808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950400" y="321624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5400000">
            <a:off x="8040240" y="321624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440"/>
            <a:ext cx="9906120" cy="838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Cómo usar el diafrag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MV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5760" y="100980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6ccff"/>
                </a:solidFill>
                <a:latin typeface="Wingdings"/>
                <a:ea typeface="Wingdings"/>
              </a:rPr>
              <a:t>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52520" y="100008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6ccff"/>
                </a:solidFill>
                <a:latin typeface="Wingdings"/>
                <a:ea typeface="Wingdings"/>
              </a:rPr>
              <a:t>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32400" y="1000080"/>
            <a:ext cx="4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6ccff"/>
                </a:solidFill>
                <a:latin typeface="Wingdings"/>
                <a:ea typeface="Wingdings"/>
              </a:rPr>
              <a:t>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40480" y="100008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66ccff"/>
                </a:solidFill>
                <a:latin typeface="Wingdings"/>
                <a:ea typeface="Wingdings"/>
              </a:rPr>
              <a:t>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5400360" y="321624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8983800" y="5553000"/>
            <a:ext cx="576000" cy="468360"/>
            <a:chOff x="8983800" y="5553000"/>
            <a:chExt cx="576000" cy="468360"/>
          </a:xfrm>
        </p:grpSpPr>
        <p:sp>
          <p:nvSpPr>
            <p:cNvPr id="167" name=""/>
            <p:cNvSpPr/>
            <p:nvPr/>
          </p:nvSpPr>
          <p:spPr>
            <a:xfrm>
              <a:off x="8983800" y="555300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9123480" y="567864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-119160" y="591192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27080" y="5457960"/>
            <a:ext cx="1752480" cy="3045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Paso siguien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2920" y="27000"/>
            <a:ext cx="1143000" cy="7621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9520" y="-86400"/>
            <a:ext cx="10112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Métodos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Vagin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53880" y="404640"/>
            <a:ext cx="790200" cy="331920"/>
            <a:chOff x="353880" y="404640"/>
            <a:chExt cx="790200" cy="331920"/>
          </a:xfrm>
        </p:grpSpPr>
        <p:pic>
          <p:nvPicPr>
            <p:cNvPr id="174" name="" descr=""/>
            <p:cNvPicPr/>
            <p:nvPr/>
          </p:nvPicPr>
          <p:blipFill>
            <a:blip r:embed="rId3"/>
            <a:stretch/>
          </p:blipFill>
          <p:spPr>
            <a:xfrm>
              <a:off x="417240" y="453960"/>
              <a:ext cx="726840" cy="2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4"/>
            <a:stretch/>
          </p:blipFill>
          <p:spPr>
            <a:xfrm>
              <a:off x="353880" y="404640"/>
              <a:ext cx="398520" cy="189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-1440" y="1440"/>
            <a:ext cx="9907560" cy="101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Cómo usar los espermicid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643960" y="222552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elícula solu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48360" y="220680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abletas o suposito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7746840" y="1166760"/>
            <a:ext cx="1226880" cy="1019160"/>
            <a:chOff x="7746840" y="1166760"/>
            <a:chExt cx="1226880" cy="1019160"/>
          </a:xfrm>
        </p:grpSpPr>
        <p:sp>
          <p:nvSpPr>
            <p:cNvPr id="180" name=""/>
            <p:cNvSpPr/>
            <p:nvPr/>
          </p:nvSpPr>
          <p:spPr>
            <a:xfrm rot="21522600">
              <a:off x="7819560" y="1179000"/>
              <a:ext cx="1143000" cy="99396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1" name="" descr=""/>
            <p:cNvPicPr/>
            <p:nvPr/>
          </p:nvPicPr>
          <p:blipFill>
            <a:blip r:embed="rId1"/>
            <a:stretch/>
          </p:blipFill>
          <p:spPr>
            <a:xfrm>
              <a:off x="7746840" y="1258920"/>
              <a:ext cx="1143000" cy="912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2" name=""/>
          <p:cNvGrpSpPr/>
          <p:nvPr/>
        </p:nvGrpSpPr>
        <p:grpSpPr>
          <a:xfrm>
            <a:off x="5567760" y="1240200"/>
            <a:ext cx="1393560" cy="1021320"/>
            <a:chOff x="5567760" y="1240200"/>
            <a:chExt cx="1393560" cy="1021320"/>
          </a:xfrm>
        </p:grpSpPr>
        <p:sp>
          <p:nvSpPr>
            <p:cNvPr id="183" name=""/>
            <p:cNvSpPr/>
            <p:nvPr/>
          </p:nvSpPr>
          <p:spPr>
            <a:xfrm rot="21522600">
              <a:off x="5578560" y="1255320"/>
              <a:ext cx="1371600" cy="99072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5654880" y="1473120"/>
              <a:ext cx="1295280" cy="64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5" name=""/>
          <p:cNvSpPr/>
          <p:nvPr/>
        </p:nvSpPr>
        <p:spPr>
          <a:xfrm rot="21522600">
            <a:off x="622080" y="1266480"/>
            <a:ext cx="1751040" cy="1003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21522600">
            <a:off x="3378240" y="1125000"/>
            <a:ext cx="1371600" cy="11430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8360" y="2787480"/>
            <a:ext cx="75232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262080" indent="-262080"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serte antes de tener relaciones sexuales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hasta una hora an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serte en el fondo de la vagina usando un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plicador o los de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 lave la vagina por al menos 6 horas después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 las relaciones sexu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2080" indent="-262080"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i es posible, almacene en un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ugar fresco y se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994120" y="5072040"/>
            <a:ext cx="4303080" cy="1611360"/>
            <a:chOff x="2994120" y="5072040"/>
            <a:chExt cx="4303080" cy="1611360"/>
          </a:xfrm>
        </p:grpSpPr>
        <p:sp>
          <p:nvSpPr>
            <p:cNvPr id="189" name=""/>
            <p:cNvSpPr/>
            <p:nvPr/>
          </p:nvSpPr>
          <p:spPr>
            <a:xfrm>
              <a:off x="3354120" y="5072040"/>
              <a:ext cx="3943080" cy="14590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ff3300"/>
                  </a:solidFill>
                  <a:latin typeface="Arial"/>
                </a:rPr>
                <a:t>¿</a:t>
              </a:r>
              <a:r>
                <a:rPr b="1" i="1" lang="es-ES_tradnl" sz="1800" spc="-1" strike="noStrike">
                  <a:solidFill>
                    <a:srgbClr val="ff3300"/>
                  </a:solidFill>
                  <a:latin typeface="Arial"/>
                </a:rPr>
                <a:t>Le gustaría usar este método </a:t>
              </a:r>
              <a:r>
                <a:rPr b="1" i="1" lang="es-ES" sz="1800" spc="-1" strike="noStrike">
                  <a:solidFill>
                    <a:srgbClr val="ff3300"/>
                  </a:solidFill>
                  <a:latin typeface="Arial"/>
                </a:rPr>
                <a:t>y ver si le agrada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0" name="" descr=""/>
            <p:cNvPicPr/>
            <p:nvPr/>
          </p:nvPicPr>
          <p:blipFill>
            <a:blip r:embed="rId3"/>
            <a:stretch/>
          </p:blipFill>
          <p:spPr>
            <a:xfrm>
              <a:off x="2994120" y="5737320"/>
              <a:ext cx="1218960" cy="94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" name=""/>
          <p:cNvGrpSpPr/>
          <p:nvPr/>
        </p:nvGrpSpPr>
        <p:grpSpPr>
          <a:xfrm>
            <a:off x="7110360" y="2752560"/>
            <a:ext cx="1873440" cy="2670120"/>
            <a:chOff x="7110360" y="2752560"/>
            <a:chExt cx="1873440" cy="2670120"/>
          </a:xfrm>
        </p:grpSpPr>
        <p:sp>
          <p:nvSpPr>
            <p:cNvPr id="192" name=""/>
            <p:cNvSpPr/>
            <p:nvPr/>
          </p:nvSpPr>
          <p:spPr>
            <a:xfrm rot="21522600">
              <a:off x="7279920" y="2787120"/>
              <a:ext cx="1676520" cy="241308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3" name="" descr=""/>
            <p:cNvPicPr/>
            <p:nvPr/>
          </p:nvPicPr>
          <p:blipFill>
            <a:blip r:embed="rId4"/>
            <a:stretch/>
          </p:blipFill>
          <p:spPr>
            <a:xfrm>
              <a:off x="7110360" y="2752560"/>
              <a:ext cx="1673280" cy="2670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523800" y="1341360"/>
            <a:ext cx="1752840" cy="8589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3624120" y="1128600"/>
            <a:ext cx="95724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5791320"/>
            <a:ext cx="990612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La clienta entiende cómo usar los espermicidas?¿Está preparada para usar este métod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630760" y="4149720"/>
            <a:ext cx="4073760" cy="385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41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Ayuda a evitar que las tabletas espumantes se derritan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86200" y="414972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8080" y="6118200"/>
            <a:ext cx="4267440" cy="685800"/>
          </a:xfrm>
          <a:prstGeom prst="downArrowCallout">
            <a:avLst>
              <a:gd name="adj1" fmla="val 622315"/>
              <a:gd name="adj2" fmla="val 311128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i es así,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se a la página siguien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410080" y="6118200"/>
            <a:ext cx="3886200" cy="5875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i no es así,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ble más acerca de los espermicidas o considere el uso de otros méto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440"/>
            <a:ext cx="9906120" cy="838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ómo usar los espermicid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-114480" y="591192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V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7080" y="148428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6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serte antes de tener relaciones sexuales (hasta una hora ant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7080" y="232560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6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serte en el fondo de la vagina usando un aplicador o los de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7080" y="3141720"/>
            <a:ext cx="41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6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o lave la vagina por al menos 6 horas después de tener relaciones sexu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7080" y="407052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6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i es posible, almacene en un lugar fresco y se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630760" y="1413000"/>
            <a:ext cx="4073760" cy="1604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3300"/>
                </a:solidFill>
                <a:latin typeface="Arial"/>
              </a:rPr>
              <a:t>Con las tabletas, los supositorios y la película soluble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41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Deben insertarse al menos unos 10 minutos antes de tener relaciones sexual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41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Si usa película soluble, dóblela por la mitad e insértela con los dedos secos, colocándola cerca del cuello uterino.</a:t>
            </a: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3300"/>
                </a:solidFill>
                <a:latin typeface="Arial"/>
              </a:rPr>
              <a:t>Con la espu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41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Agite bien el recipiente, antes de aplicar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792680" y="15652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9055080" y="5560920"/>
            <a:ext cx="576000" cy="468360"/>
            <a:chOff x="9055080" y="5560920"/>
            <a:chExt cx="576000" cy="468360"/>
          </a:xfrm>
        </p:grpSpPr>
        <p:sp>
          <p:nvSpPr>
            <p:cNvPr id="211" name=""/>
            <p:cNvSpPr/>
            <p:nvPr/>
          </p:nvSpPr>
          <p:spPr>
            <a:xfrm>
              <a:off x="9055080" y="556092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2" name="" descr=""/>
            <p:cNvPicPr/>
            <p:nvPr/>
          </p:nvPicPr>
          <p:blipFill>
            <a:blip r:embed="rId2"/>
            <a:stretch/>
          </p:blipFill>
          <p:spPr>
            <a:xfrm>
              <a:off x="9194760" y="568656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"/>
          <p:cNvSpPr/>
          <p:nvPr/>
        </p:nvSpPr>
        <p:spPr>
          <a:xfrm>
            <a:off x="127080" y="5514840"/>
            <a:ext cx="175248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Paso siguien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5520" y="27000"/>
            <a:ext cx="1143000" cy="7621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2120" y="-86400"/>
            <a:ext cx="10112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Métodos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Vagin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53880" y="414360"/>
            <a:ext cx="790200" cy="331920"/>
            <a:chOff x="353880" y="414360"/>
            <a:chExt cx="790200" cy="331920"/>
          </a:xfrm>
        </p:grpSpPr>
        <p:pic>
          <p:nvPicPr>
            <p:cNvPr id="217" name="" descr=""/>
            <p:cNvPicPr/>
            <p:nvPr/>
          </p:nvPicPr>
          <p:blipFill>
            <a:blip r:embed="rId3"/>
            <a:stretch/>
          </p:blipFill>
          <p:spPr>
            <a:xfrm>
              <a:off x="417240" y="463680"/>
              <a:ext cx="726840" cy="2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4"/>
            <a:stretch/>
          </p:blipFill>
          <p:spPr>
            <a:xfrm>
              <a:off x="353880" y="414360"/>
              <a:ext cx="398520" cy="189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 rot="20679600">
            <a:off x="5715000" y="2458800"/>
            <a:ext cx="1903320" cy="10080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4200">
            <a:off x="7315200" y="3681360"/>
            <a:ext cx="1905120" cy="15969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21522600">
            <a:off x="4874760" y="1392120"/>
            <a:ext cx="1903680" cy="10083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440" y="1628640"/>
            <a:ext cx="525780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3300"/>
                </a:solidFill>
                <a:latin typeface="Arial"/>
              </a:rPr>
              <a:t>Regrese s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Necesita más espermicid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l diafragma se endurece, se desgasta o tiene orific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Usted o su pareja tienen alguna reacción adversa  (picazón, erupción o irritación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Siente dolor al orin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-1440" y="1440"/>
            <a:ext cx="9907560" cy="101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Qué debe record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2236800">
            <a:off x="5318280" y="3741840"/>
            <a:ext cx="1692000" cy="21333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943600" y="2611440"/>
            <a:ext cx="1676520" cy="9050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416560" y="3754440"/>
            <a:ext cx="1200240" cy="27432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33520" y="120600"/>
            <a:ext cx="1447560" cy="11224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7365960" y="3687840"/>
            <a:ext cx="1746360" cy="18000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4794120" y="1476360"/>
            <a:ext cx="1752840" cy="8589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52280" y="5257800"/>
            <a:ext cx="411660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¿</a:t>
            </a:r>
            <a:r>
              <a:rPr b="1" i="1" lang="es-DO" sz="1800" spc="-1" strike="noStrike">
                <a:solidFill>
                  <a:srgbClr val="ff3300"/>
                </a:solidFill>
                <a:latin typeface="Arial"/>
                <a:ea typeface="Arial"/>
              </a:rPr>
              <a:t>Necesita que repita o le explique algo más? </a:t>
            </a:r>
            <a:br>
              <a:rPr sz="1800"/>
            </a:br>
            <a:r>
              <a:rPr b="1" i="1" lang="es-DO" sz="1800" spc="-1" strike="noStrike">
                <a:solidFill>
                  <a:srgbClr val="ff3300"/>
                </a:solidFill>
                <a:latin typeface="Arial"/>
                <a:ea typeface="Arial"/>
              </a:rPr>
              <a:t>¿Tiene alguna otra pregun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181480" y="1576440"/>
            <a:ext cx="4523040" cy="745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1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Infórmele dónde puede reabastecerse, ya sea en la clínica o en una farmaci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Es importante que consiga más espermicida antes de que se le termin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3438360"/>
            <a:ext cx="452304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Puede deberse al espermicida o al látex, o podría ser una infección o vaginiti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Puede ser necesario cambiar de marca de espermicida o cambiar de método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81480" y="4594320"/>
            <a:ext cx="4523040" cy="395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Es una señal de infección en el tracto urinario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81480" y="2462040"/>
            <a:ext cx="4523040" cy="700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Estos diafragmas deben reemplazarse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Además, los diafragmas deben medirse de nuevo después de un parto o un aborto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5756400"/>
            <a:ext cx="9909000" cy="1112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81160" y="5867280"/>
            <a:ext cx="7543800" cy="9050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¿Tiene plena confianza de que puede usar este método satisfactoriamente? </a:t>
            </a:r>
            <a:br>
              <a:rPr sz="1200"/>
            </a:b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¿Hay algo que pueda repetir o explicar?”</a:t>
            </a:r>
            <a:r>
              <a:rPr b="1" i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3399"/>
                </a:solidFill>
                <a:latin typeface="Arial"/>
              </a:rPr>
              <a:t>¡Acuérdese de ofrecerle condones para la doble protección o de respaldo! 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Último y más importante mensaje: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200" spc="-1" strike="noStrike">
                <a:solidFill>
                  <a:srgbClr val="000000"/>
                </a:solidFill>
                <a:latin typeface="Arial"/>
              </a:rPr>
              <a:t>“Use el método cada vez que tenga relaciones sexual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4760" y="5445000"/>
            <a:ext cx="198108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Últimos paso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633920" y="179244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633920" y="267480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33920" y="36496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33920" y="46353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7080" y="4556160"/>
            <a:ext cx="4495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23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Siente dolor al orin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1440"/>
            <a:ext cx="9906120" cy="990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Qué debe record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MV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7980480" y="5942160"/>
            <a:ext cx="576000" cy="468000"/>
            <a:chOff x="7980480" y="5942160"/>
            <a:chExt cx="576000" cy="468000"/>
          </a:xfrm>
        </p:grpSpPr>
        <p:sp>
          <p:nvSpPr>
            <p:cNvPr id="246" name=""/>
            <p:cNvSpPr/>
            <p:nvPr/>
          </p:nvSpPr>
          <p:spPr>
            <a:xfrm>
              <a:off x="7980480" y="5942160"/>
              <a:ext cx="576000" cy="4680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8120160" y="6067440"/>
              <a:ext cx="334800" cy="24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8" name=""/>
          <p:cNvSpPr/>
          <p:nvPr/>
        </p:nvSpPr>
        <p:spPr>
          <a:xfrm>
            <a:off x="114480" y="3260880"/>
            <a:ext cx="4495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23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Usted o su pareja tienen alguna reacción adversa (picazón, erupción, irritación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4480" y="244332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23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El diafragma se endurece, desgasta o tiene orific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4480" y="1722600"/>
            <a:ext cx="4495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23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Necesita más espermicid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14480" y="126216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Regrese s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5520" y="103320"/>
            <a:ext cx="1143000" cy="76176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2120" y="28080"/>
            <a:ext cx="10112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Métodos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Vagin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63600" y="506520"/>
            <a:ext cx="790200" cy="331560"/>
            <a:chOff x="363600" y="506520"/>
            <a:chExt cx="790200" cy="331560"/>
          </a:xfrm>
        </p:grpSpPr>
        <p:pic>
          <p:nvPicPr>
            <p:cNvPr id="255" name="" descr=""/>
            <p:cNvPicPr/>
            <p:nvPr/>
          </p:nvPicPr>
          <p:blipFill>
            <a:blip r:embed="rId2"/>
            <a:stretch/>
          </p:blipFill>
          <p:spPr>
            <a:xfrm>
              <a:off x="426960" y="555840"/>
              <a:ext cx="726840" cy="28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3"/>
            <a:stretch/>
          </p:blipFill>
          <p:spPr>
            <a:xfrm>
              <a:off x="363600" y="506520"/>
              <a:ext cx="398520" cy="18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8T09:29:07Z</dcterms:created>
  <dc:creator>JohnsonS</dc:creator>
  <dc:description/>
  <dc:language>en-US</dc:language>
  <cp:lastModifiedBy>hamillc</cp:lastModifiedBy>
  <cp:lastPrinted>2002-06-10T08:51:06Z</cp:lastPrinted>
  <dcterms:modified xsi:type="dcterms:W3CDTF">2006-10-20T13:50:06Z</dcterms:modified>
  <cp:revision>482</cp:revision>
  <dc:subject/>
  <dc:title>No Slide Title</dc:title>
</cp:coreProperties>
</file>