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7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3C32F0-3827-4461-AF1A-9CB70CA260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female sterilization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ages show Minilaparotomy (left) and Laparoscopy (right). If one of the two procedures is not used, can remove other imag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sterilization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9840" cy="3726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04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sterilization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6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5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108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femen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1360" y="106668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6200" y="866880"/>
            <a:ext cx="4726080" cy="121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828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a esterilización femenin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Se bloquean o se cortan y se cierran las trompas de Falopio que transportan los óvulos a al útero (el útero no se interviene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posible que tenga dolor por unos días después del proced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or lo general la mujer permanece despierta pero se le da una inyección para evitar el dolo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n general, la mujer puede regresar a casa después de unas h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56200" y="2127240"/>
            <a:ext cx="4726080" cy="115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  <a:ea typeface="Arial"/>
              </a:rPr>
              <a:t>En general, no es re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or favor piénselo cuidadosamente, ¿es posible que desee tener hijos en el futuro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Pregunte a la clienta acerca de las preferencias y preocupaciones de su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a vasectomía podría ser otra alternativa. Es un procedimiento más simple y seguro y un poco más eficaz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65560" y="3327480"/>
            <a:ext cx="4714920" cy="544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uno de los métodos de planificación familiar más efectivos para las mujere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s muy raro que se produzca un embarazo después de este procedimien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56200" y="5370480"/>
            <a:ext cx="4726080" cy="254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/VIH/SIDA  use también condones</a:t>
            </a:r>
            <a:r>
              <a:rPr b="1" lang="en-US" sz="11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51520" y="4948200"/>
            <a:ext cx="4732200" cy="374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as complicaciones graves de la cirugía son raras (riesgo de la anestesia, necesidad de otra cirugí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2481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3564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510200">
            <a:off x="4535280" y="47239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35640" y="33577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295400">
            <a:off x="4530600" y="52149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80248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a esterilización o preferiría hablar sobre otro métod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6114960"/>
            <a:ext cx="4149720" cy="727200"/>
          </a:xfrm>
          <a:prstGeom prst="downArrowCallout">
            <a:avLst>
              <a:gd name="adj1" fmla="val 570696"/>
              <a:gd name="adj2" fmla="val 285321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obtener más información acerca de la esterilización,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440" y="553392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243828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permanente. Es para mujeres que no desean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1360" y="3171960"/>
            <a:ext cx="4421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muy ef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1360" y="4365720"/>
            <a:ext cx="4421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tiene efectos secundarios a largo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1360" y="4952880"/>
            <a:ext cx="456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1360" y="3740040"/>
            <a:ext cx="4419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3160" indent="-173160">
              <a:lnSpc>
                <a:spcPct val="90000"/>
              </a:lnSpc>
              <a:spcBef>
                <a:spcPts val="1349"/>
              </a:spcBef>
              <a:spcAft>
                <a:spcPts val="6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s un método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3440" y="39528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144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1360" y="1666800"/>
            <a:ext cx="442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NO se extrae el útero.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eguirá teniendo la menstruació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48240" y="16765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56200" y="3919680"/>
            <a:ext cx="4726080" cy="981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  <a:ea typeface="Arial"/>
              </a:rPr>
              <a:t>Averigüe si tiene inquietudes o ha oído rumores:</a:t>
            </a:r>
            <a:br>
              <a:rPr sz="1100"/>
            </a:br>
            <a:r>
              <a:rPr b="0" i="1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“¿Qué ha oído acerca de problemas con la esterilización?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Use el Apéndice 10 para hablar de los mitos acerca de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los métodos anticonceptiv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  <a:ea typeface="Arial"/>
              </a:rPr>
              <a:t>Explique que una mujer puede ser esterilizada si así lo desea, incluso si no tiene hijo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097920" y="4022640"/>
            <a:ext cx="576360" cy="468360"/>
            <a:chOff x="9097920" y="4022640"/>
            <a:chExt cx="576360" cy="468360"/>
          </a:xfrm>
        </p:grpSpPr>
        <p:sp>
          <p:nvSpPr>
            <p:cNvPr id="70" name=""/>
            <p:cNvSpPr/>
            <p:nvPr/>
          </p:nvSpPr>
          <p:spPr>
            <a:xfrm>
              <a:off x="9097920" y="4022640"/>
              <a:ext cx="57636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9247320" y="4070160"/>
              <a:ext cx="28872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"/>
          <p:cNvSpPr/>
          <p:nvPr/>
        </p:nvSpPr>
        <p:spPr>
          <a:xfrm>
            <a:off x="9385200" y="64785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74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5051520" y="6113520"/>
            <a:ext cx="4282920" cy="568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 Elección 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36760" y="6858000"/>
            <a:ext cx="135576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femen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43080" y="1123920"/>
            <a:ext cx="5943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tege contra el embarazo Y las ITS, incluido el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método muy efectivo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uando se usa CADA VEZ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tiene relaciones sexu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uede usarse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mo único método</a:t>
            </a:r>
            <a:r>
              <a:rPr b="1" lang="es-ES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 con otro método de planificación famili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ácil de conseguir y de us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r lo general las parejas necesitan hablar al resp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440"/>
            <a:ext cx="9906120" cy="1011240"/>
          </a:xfrm>
          <a:prstGeom prst="rect">
            <a:avLst/>
          </a:prstGeom>
          <a:solidFill>
            <a:srgbClr val="83e3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l condón mascul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551480" y="1800360"/>
            <a:ext cx="2136600" cy="1334880"/>
            <a:chOff x="4551480" y="1800360"/>
            <a:chExt cx="2136600" cy="1334880"/>
          </a:xfrm>
        </p:grpSpPr>
        <p:sp>
          <p:nvSpPr>
            <p:cNvPr id="268" name=""/>
            <p:cNvSpPr/>
            <p:nvPr/>
          </p:nvSpPr>
          <p:spPr>
            <a:xfrm>
              <a:off x="4756320" y="1800360"/>
              <a:ext cx="1931760" cy="105408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4551480" y="1930320"/>
              <a:ext cx="1968480" cy="12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901800" y="5315040"/>
            <a:ext cx="565128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Desea saber más acerca del condón masculino o preferiría hablar sobre</a:t>
            </a:r>
            <a:r>
              <a:rPr b="1" i="1" lang="es-ES_tradnl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otro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1640" y="457056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Le gustaría examinar un condón y aprender a usarl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8400" y="569916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165240" y="5680080"/>
            <a:ext cx="9144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274" name=""/>
          <p:cNvGrpSpPr/>
          <p:nvPr/>
        </p:nvGrpSpPr>
        <p:grpSpPr>
          <a:xfrm>
            <a:off x="6881400" y="2447640"/>
            <a:ext cx="2502720" cy="2146680"/>
            <a:chOff x="6881400" y="2447640"/>
            <a:chExt cx="2502720" cy="2146680"/>
          </a:xfrm>
        </p:grpSpPr>
        <p:sp>
          <p:nvSpPr>
            <p:cNvPr id="275" name=""/>
            <p:cNvSpPr/>
            <p:nvPr/>
          </p:nvSpPr>
          <p:spPr>
            <a:xfrm rot="21337200">
              <a:off x="6953400" y="2535120"/>
              <a:ext cx="2358720" cy="1971720"/>
            </a:xfrm>
            <a:prstGeom prst="ellipse">
              <a:avLst/>
            </a:prstGeom>
            <a:solidFill>
              <a:srgbClr val="83e3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6987960" y="2700360"/>
              <a:ext cx="2366640" cy="17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 rot="20766000">
            <a:off x="5392440" y="3564000"/>
            <a:ext cx="152388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766000">
            <a:off x="380520" y="4049640"/>
            <a:ext cx="152424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40"/>
            <a:ext cx="9902880" cy="125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Cuándo puede realizarse la esteril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254400"/>
            <a:ext cx="50500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s posible que necesite esperar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4125960"/>
            <a:ext cx="10890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47680" y="1535040"/>
            <a:ext cx="472608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n la mayoría de las mujeres se puede hacer una esterilización </a:t>
            </a:r>
            <a:br>
              <a:rPr sz="2200"/>
            </a:br>
            <a:r>
              <a:rPr b="1" lang="es-ES_tradnl" sz="2200" spc="-1" strike="noStrike">
                <a:solidFill>
                  <a:srgbClr val="ff3300"/>
                </a:solidFill>
                <a:latin typeface="Arial"/>
                <a:ea typeface="Arial"/>
              </a:rPr>
              <a:t>en cualquier mo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97240" y="5645160"/>
            <a:ext cx="16779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-720" y="5645520"/>
            <a:ext cx="2057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uvo un parto entre 1 a 6 semanas atr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99920" y="5645520"/>
            <a:ext cx="28004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iene una infección o problema del aparato repro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89720" y="5645160"/>
            <a:ext cx="21099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572920" y="3806640"/>
            <a:ext cx="1748520" cy="1723680"/>
            <a:chOff x="2572920" y="3806640"/>
            <a:chExt cx="1748520" cy="1723680"/>
          </a:xfrm>
        </p:grpSpPr>
        <p:sp>
          <p:nvSpPr>
            <p:cNvPr id="90" name=""/>
            <p:cNvSpPr/>
            <p:nvPr/>
          </p:nvSpPr>
          <p:spPr>
            <a:xfrm rot="20766000">
              <a:off x="2684160" y="3973320"/>
              <a:ext cx="1525680" cy="11142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3049560" y="4049640"/>
              <a:ext cx="855720" cy="148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 rot="21522600">
            <a:off x="4860720" y="1476360"/>
            <a:ext cx="4284360" cy="17334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0766000">
            <a:off x="7605360" y="4000680"/>
            <a:ext cx="1677960" cy="1130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902720" y="4130640"/>
            <a:ext cx="984240" cy="1238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87920" y="3619440"/>
            <a:ext cx="8492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332320" y="1535040"/>
            <a:ext cx="33339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40"/>
            <a:ext cx="9910800" cy="1041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Arial"/>
              </a:rPr>
              <a:t>Cuándo puede realizarse la esteril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1360" y="1433520"/>
            <a:ext cx="466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En la mayoría de las mujeres se puede hacer una esterilización en cualquier momento.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ero es posible que necesite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560" y="2101680"/>
            <a:ext cx="434484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l procedimiento puede realizarse en cualquier momento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a excepción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del período entre los 7 días y las 6 semanas después del par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uede efectuarse hasta 7 días después del part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si ella lo decidió con anticip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3623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49118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3676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560" y="1174680"/>
            <a:ext cx="4344840" cy="784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No existen condiciones médicas que descarten la esterilización femenina, pero algunas situaciones pueden requerir que se postergue, que se refiera a otro lugar, o que se tenga especial precaució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81680"/>
            <a:ext cx="990900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6033960"/>
            <a:ext cx="4780080" cy="723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 no se puede hacer la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esterilización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hora o en este servicio,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efiérala a otro servicio según sea necesa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5080" y="6033960"/>
            <a:ext cx="4090680" cy="797040"/>
          </a:xfrm>
          <a:prstGeom prst="downArrowCallout">
            <a:avLst>
              <a:gd name="adj1" fmla="val 513281"/>
              <a:gd name="adj2" fmla="val 25661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 se puede hacer la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terilización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en esta cliente,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520" y="2340000"/>
            <a:ext cx="44211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uvo un parto entre 1 a 6 semanas atrá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20" y="2982960"/>
            <a:ext cx="4421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2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520" y="3648240"/>
            <a:ext cx="44211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Tiene una infección o problema del aparato repro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20" y="5029200"/>
            <a:ext cx="4608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5760" indent="-18576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 algn="ctr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385200" y="64785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113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/>
          <p:cNvSpPr/>
          <p:nvPr/>
        </p:nvSpPr>
        <p:spPr>
          <a:xfrm>
            <a:off x="190440" y="559116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42040" y="3591000"/>
            <a:ext cx="4344840" cy="1143000"/>
            <a:chOff x="5342040" y="3591000"/>
            <a:chExt cx="4344840" cy="1143000"/>
          </a:xfrm>
        </p:grpSpPr>
        <p:sp>
          <p:nvSpPr>
            <p:cNvPr id="118" name=""/>
            <p:cNvSpPr/>
            <p:nvPr/>
          </p:nvSpPr>
          <p:spPr>
            <a:xfrm>
              <a:off x="5342040" y="3591000"/>
              <a:ext cx="4344840" cy="1143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nfermedad pélvica inflamatori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lamidia, gonorrea o cervicitis purulent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nfección después del parto o del aborto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áncer de los órganos femenin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6720" y="3594240"/>
              <a:ext cx="42242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Aplace la esterilización hasta que estas condiciones hayan recibido tratamiento y se hayan curado completament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338800" y="4811760"/>
            <a:ext cx="4357800" cy="863640"/>
            <a:chOff x="5338800" y="4811760"/>
            <a:chExt cx="4357800" cy="863640"/>
          </a:xfrm>
        </p:grpSpPr>
        <p:sp>
          <p:nvSpPr>
            <p:cNvPr id="121" name=""/>
            <p:cNvSpPr/>
            <p:nvPr/>
          </p:nvSpPr>
          <p:spPr>
            <a:xfrm>
              <a:off x="5338800" y="4811760"/>
              <a:ext cx="4357800" cy="86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spcBef>
                  <a:spcPts val="187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Tal como accidente cerebrovascular, hipertensión arterial o diabetes con complicaciones que requieren tratamiento antes de la cirugí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43480" y="4814640"/>
              <a:ext cx="4224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Es posible que necesite aplazarse si presenta un problema de salud grave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7000" y="3017880"/>
            <a:ext cx="434052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30924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4680" y="0"/>
            <a:ext cx="9907560" cy="6705720"/>
            <a:chOff x="-4680" y="0"/>
            <a:chExt cx="9907560" cy="6705720"/>
          </a:xfrm>
        </p:grpSpPr>
        <p:sp>
          <p:nvSpPr>
            <p:cNvPr id="126" name=""/>
            <p:cNvSpPr/>
            <p:nvPr/>
          </p:nvSpPr>
          <p:spPr>
            <a:xfrm rot="21522000">
              <a:off x="5635800" y="1909800"/>
              <a:ext cx="4189320" cy="22813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4680" y="0"/>
              <a:ext cx="9907560" cy="101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Antes de tomar una decisió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014560"/>
              <a:ext cx="55623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Hablemos d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étodos temporales que también están disponibl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La esterilización es un procedimiento quirúrgic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Tiene riesgos y benefici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Impide tener más hij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Es permanente—debe pensar muy bien su decisió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789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Puede cambiar su decisión en cualquier momento antes de la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cirug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5105520"/>
              <a:ext cx="4775400" cy="16002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Está preparada para elegir este método? </a:t>
              </a:r>
              <a:br>
                <a:rPr sz="1800"/>
              </a:b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Desea saber más sobre el procedimiento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673520" y="5486400"/>
              <a:ext cx="1447920" cy="11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959440" y="2184480"/>
              <a:ext cx="3816360" cy="243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360" y="873000"/>
            <a:ext cx="457200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ablemo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905040"/>
            <a:ext cx="42670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xpliqu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manera que la clienta entie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l respecto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nto como sea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Cercióres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que la clienta entiende cada punto tra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8720" y="2147760"/>
            <a:ext cx="4267080" cy="2310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s los procedimientos quirúrgicos, incluida la esterilización, conllevan riesg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omplicaciones son poco comunes. Entre ellas se encuentran las infecciones, sangrado, lesiones a los órganos y necesidad de procedimientos quirúrgicos adiciona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ara vez ocurren reacciones alérgicas a la anestesia local u otras complicaciones graves de la anestes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Benefic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trata de un procedimiento único y rápido que provee planificación familiar segura y efectiva de por v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hace falta guardar suministros en casa o tener que recordar algo sobre el uso del méto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ofrezca protección contra el cáncer ovár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503856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no perderá los derechos a otros beneficios o servicios médicos, de salud o de otro ti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08720" y="1658880"/>
            <a:ext cx="4267080" cy="43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le acerca de otros métodos temporales que también están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sponibl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08720" y="4532400"/>
            <a:ext cx="4267080" cy="439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más probable es que el procedimiento no se pueda revert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no ser el método más indicado para las mujeres jóve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715000"/>
            <a:ext cx="9906120" cy="1158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egúrese de que la clienta entiende todos los asuntos tratados y luego pregúntele qué ha decid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6051600"/>
            <a:ext cx="4803840" cy="806400"/>
          </a:xfrm>
          <a:prstGeom prst="downArrowCallout">
            <a:avLst>
              <a:gd name="adj1" fmla="val 595769"/>
              <a:gd name="adj2" fmla="val 29785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entiende la esterilización y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 el método que dese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íquele el formulario de consentimient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si lo hay) y pídale que lo firme.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30840" y="6019920"/>
            <a:ext cx="356544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a clienta decide que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no desea la esterilizac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85400">
            <a:off x="4714560" y="3984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67120" y="1636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67120" y="2921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50450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9180360" y="5521320"/>
            <a:ext cx="576360" cy="468360"/>
            <a:chOff x="9180360" y="5521320"/>
            <a:chExt cx="576360" cy="468360"/>
          </a:xfrm>
        </p:grpSpPr>
        <p:sp>
          <p:nvSpPr>
            <p:cNvPr id="147" name=""/>
            <p:cNvSpPr/>
            <p:nvPr/>
          </p:nvSpPr>
          <p:spPr>
            <a:xfrm>
              <a:off x="9180360" y="552132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9377280" y="561816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-88920" y="59245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360" y="1684440"/>
            <a:ext cx="45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s temporales que también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n dispon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217008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sterilización 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360" y="2816280"/>
            <a:ext cx="457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360" y="3649680"/>
            <a:ext cx="4572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13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360" y="421308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 — debe pensar muy bien su dec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360" y="4761000"/>
            <a:ext cx="4572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5760" indent="-185760">
              <a:lnSpc>
                <a:spcPct val="90000"/>
              </a:lnSpc>
              <a:spcBef>
                <a:spcPts val="22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cambiar su decisión en cualquier momento ante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093240" y="1047600"/>
            <a:ext cx="576000" cy="468360"/>
            <a:chOff x="9093240" y="1047600"/>
            <a:chExt cx="576000" cy="468360"/>
          </a:xfrm>
        </p:grpSpPr>
        <p:sp>
          <p:nvSpPr>
            <p:cNvPr id="158" name=""/>
            <p:cNvSpPr/>
            <p:nvPr/>
          </p:nvSpPr>
          <p:spPr>
            <a:xfrm>
              <a:off x="9093240" y="10476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3"/>
            <a:stretch/>
          </p:blipFill>
          <p:spPr>
            <a:xfrm>
              <a:off x="9232920" y="11732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8551800" y="5516640"/>
            <a:ext cx="576000" cy="468360"/>
            <a:chOff x="8551800" y="5516640"/>
            <a:chExt cx="576000" cy="468360"/>
          </a:xfrm>
        </p:grpSpPr>
        <p:sp>
          <p:nvSpPr>
            <p:cNvPr id="161" name=""/>
            <p:cNvSpPr/>
            <p:nvPr/>
          </p:nvSpPr>
          <p:spPr>
            <a:xfrm>
              <a:off x="8551800" y="5516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8691480" y="5642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"/>
          <p:cNvSpPr/>
          <p:nvPr/>
        </p:nvSpPr>
        <p:spPr>
          <a:xfrm rot="1230000">
            <a:off x="4721400" y="44006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165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5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190440" y="5419800"/>
            <a:ext cx="1781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83080" y="1906560"/>
            <a:ext cx="2243160" cy="2189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581960" y="2941560"/>
            <a:ext cx="2251080" cy="22161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-4680" y="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2520" y="537372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Tiene pregun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51800" y="1341360"/>
            <a:ext cx="190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Se hace una pequeña incisión ya sea aquí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94680" y="24004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o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14920" y="2106720"/>
            <a:ext cx="1392120" cy="97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42360" y="2708280"/>
            <a:ext cx="2318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3080" y="4343400"/>
            <a:ext cx="5562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be descansar por 2 ó 3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vite levantar objetos pesado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urante una se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23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debe tener relaciones sexuales al menos por 1 sem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946760" y="4181400"/>
            <a:ext cx="1331280" cy="1435320"/>
            <a:chOff x="4946760" y="4181400"/>
            <a:chExt cx="1331280" cy="1435320"/>
          </a:xfrm>
        </p:grpSpPr>
        <p:sp>
          <p:nvSpPr>
            <p:cNvPr id="179" name=""/>
            <p:cNvSpPr/>
            <p:nvPr/>
          </p:nvSpPr>
          <p:spPr>
            <a:xfrm>
              <a:off x="4946760" y="4400640"/>
              <a:ext cx="1218600" cy="114300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3"/>
            <a:stretch/>
          </p:blipFill>
          <p:spPr>
            <a:xfrm>
              <a:off x="5146200" y="4181400"/>
              <a:ext cx="1131840" cy="140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"/>
            <a:stretch/>
          </p:blipFill>
          <p:spPr>
            <a:xfrm>
              <a:off x="5198760" y="4397400"/>
              <a:ext cx="99036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5376960" y="5749920"/>
            <a:ext cx="1973160" cy="1108080"/>
            <a:chOff x="5376960" y="5749920"/>
            <a:chExt cx="1973160" cy="1108080"/>
          </a:xfrm>
        </p:grpSpPr>
        <p:sp>
          <p:nvSpPr>
            <p:cNvPr id="183" name=""/>
            <p:cNvSpPr/>
            <p:nvPr/>
          </p:nvSpPr>
          <p:spPr>
            <a:xfrm>
              <a:off x="5521320" y="5805360"/>
              <a:ext cx="1828800" cy="812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5"/>
            <a:stretch/>
          </p:blipFill>
          <p:spPr>
            <a:xfrm>
              <a:off x="5376960" y="5749920"/>
              <a:ext cx="175248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"/>
            <a:stretch/>
          </p:blipFill>
          <p:spPr>
            <a:xfrm>
              <a:off x="5737320" y="5877000"/>
              <a:ext cx="987480" cy="72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"/>
          <p:cNvSpPr/>
          <p:nvPr/>
        </p:nvSpPr>
        <p:spPr>
          <a:xfrm>
            <a:off x="-211320" y="1120680"/>
            <a:ext cx="6747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os medicamentos la ayudarán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antener la calma y a suprimir el d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Usted permanecerá despier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hace una pequeña incisión—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es doloro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33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as trompas se bloquean 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cor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La abertura se cierra con sutu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Se reposa por algunas hora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37080" y="2166840"/>
            <a:ext cx="4267440" cy="104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lique cuán leve es la sedación que se le administrará — oral o intraveno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lique la incisión — dónde y cómo se hará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nímela a que indique a las/los proveedores cuando sienta dolor durante el procedimiento.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Puede solicitar más medicamento para el dolor si así lo desea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37080" y="3355920"/>
            <a:ext cx="4267440" cy="284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pose en la clínica antes de ir a cas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el procedimiento quirúrgico y se siente con plena confianza de seguir adela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080" y="5904000"/>
            <a:ext cx="4206600" cy="772920"/>
          </a:xfrm>
          <a:prstGeom prst="downArrowCallout">
            <a:avLst>
              <a:gd name="adj1" fmla="val 544297"/>
              <a:gd name="adj2" fmla="val 27212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procedimiento se va a realizar ahora, pase a l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ágina siguient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asesorar a la clienta sobre lo que debe recordar después de la cirug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73720" y="5907240"/>
            <a:ext cx="4614840" cy="7696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ha programado el procedimiento para otro día, fije una fecha y hora convenientes para que la clienta regrese. Ofrézcale condones para que use mientras tanto con su parej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637600">
            <a:off x="4714560" y="1496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360" y="3317760"/>
            <a:ext cx="410076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e descansar por 2 ó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te levantar objetos pesados durante una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debe tener relaciones sexuales al menos por 1 se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37080" y="4657680"/>
            <a:ext cx="426744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tenga relaciones sexuales hasta que desaparezca todo el dol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40120" y="46483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272520" y="5459400"/>
            <a:ext cx="576000" cy="468360"/>
            <a:chOff x="9272520" y="5459400"/>
            <a:chExt cx="576000" cy="468360"/>
          </a:xfrm>
        </p:grpSpPr>
        <p:sp>
          <p:nvSpPr>
            <p:cNvPr id="199" name=""/>
            <p:cNvSpPr/>
            <p:nvPr/>
          </p:nvSpPr>
          <p:spPr>
            <a:xfrm>
              <a:off x="9272520" y="54594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9412200" y="55850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202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190440" y="5343480"/>
            <a:ext cx="1781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74800"/>
            <a:ext cx="474372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os medicamentos la ayudarán a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mantener la calma y a suprimir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Usted permanecerá despi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 hace una pequeña incisión—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no es dolor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4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as trompas se bloquean o se</a:t>
            </a:r>
            <a:r>
              <a:rPr b="1" lang="es-E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La abertura se cierra con s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6.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Se reposa por algunas hora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33840" y="892080"/>
            <a:ext cx="4267440" cy="1112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 procedimiento quirúrgico simple y seguro que puede realizarse en un hospital o centro de salud con las instalaciones adecuad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 frecuencia, todo el procedimiento (incluido el tiempo de reposo) puede demorar solo unas pocas hor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42120" y="893880"/>
            <a:ext cx="42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criba los pasos a seguir en el procedimiento de esterilización. Expli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2637600">
            <a:off x="4714560" y="2104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637600">
            <a:off x="4714920" y="31017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89120" y="1779480"/>
            <a:ext cx="2016360" cy="1295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998000">
            <a:off x="7980480" y="1587240"/>
            <a:ext cx="116352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9998000">
            <a:off x="309600" y="1647360"/>
            <a:ext cx="1522440" cy="12668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998000">
            <a:off x="5678640" y="1625400"/>
            <a:ext cx="1463400" cy="11142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azones médicas para regres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8120" y="105264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En la primera semana, regrese inmediatamente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956200" y="1701720"/>
            <a:ext cx="846360" cy="1447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2920" y="4419720"/>
            <a:ext cx="8723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En el futuro, regrese inmediatamente en cualquier momento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680" y="3148920"/>
            <a:ext cx="16002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sp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fiebre al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9720" y="3174840"/>
            <a:ext cx="1676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92480" y="3368520"/>
            <a:ext cx="2076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lor, calor, hinchazón o enrojecimiento de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64120" y="3186000"/>
            <a:ext cx="27385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lor constante o que se empeora, cólicos o sensibilidad en el vi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31080" y="2997360"/>
            <a:ext cx="181152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maya o está muy mar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00040" y="1758960"/>
            <a:ext cx="135576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8067600" y="1616040"/>
            <a:ext cx="1000080" cy="1562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230720" y="5373720"/>
            <a:ext cx="18651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dolor o sensibilidad en el vientre o se desm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" y="5181480"/>
            <a:ext cx="1676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ree que 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0766000">
            <a:off x="1828440" y="5072040"/>
            <a:ext cx="152388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2400" y="5148360"/>
            <a:ext cx="855720" cy="14810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 rot="19998000">
            <a:off x="5927400" y="5029200"/>
            <a:ext cx="1463760" cy="1114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6205680" y="5105520"/>
            <a:ext cx="846000" cy="1447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rot="19998000">
            <a:off x="7598880" y="4962240"/>
            <a:ext cx="1163880" cy="1447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686720" y="4991040"/>
            <a:ext cx="1000080" cy="1562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7"/>
          <a:stretch/>
        </p:blipFill>
        <p:spPr>
          <a:xfrm>
            <a:off x="2949480" y="1773360"/>
            <a:ext cx="13683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azones médicas para regres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9520" y="811080"/>
            <a:ext cx="52592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n la primera semana, regrese de inmediat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8680" y="1311120"/>
            <a:ext cx="4038840" cy="49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de 38°C en las primeras 4 semanas y especialmente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la primera seman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38680" y="2543040"/>
            <a:ext cx="403884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gnos de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4344840"/>
            <a:ext cx="4038840" cy="1202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embarazo después de la esterilización es poco común, pero cuando ocurre, de un 20 a un 50% de esos embarazos son ectóp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s son señales de un embarazo ectópic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el futuro, debe regresar de inmediato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ualquier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oment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si cree que puede est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78440" y="13636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7150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3440" y="5824440"/>
            <a:ext cx="8610480" cy="852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a con su elección de método? ¿Desea que le explique o repita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Por favor regrese siempre que tenga preguntas o problem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5760" y="5391000"/>
            <a:ext cx="1752480" cy="3207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F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9520" y="131112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33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fiebre al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9520" y="1701720"/>
            <a:ext cx="36003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9520" y="2060640"/>
            <a:ext cx="4537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, calor, hinchazón o enrojecimiento de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9520" y="2693880"/>
            <a:ext cx="50292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 constante o que se empeora,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ólicos o sensibilidad en el vi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9520" y="3314880"/>
            <a:ext cx="4433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desmaya o está muy mar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9520" y="3687840"/>
            <a:ext cx="45975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n el futuro, regrese inmediatamente en cualquier momento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360" y="4330800"/>
            <a:ext cx="5216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ree que 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360" y="4764240"/>
            <a:ext cx="537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dolor o sensibilidad en el vientre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 se desm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8466120" y="6054840"/>
            <a:ext cx="576000" cy="468360"/>
            <a:chOff x="8466120" y="6054840"/>
            <a:chExt cx="576000" cy="468360"/>
          </a:xfrm>
        </p:grpSpPr>
        <p:sp>
          <p:nvSpPr>
            <p:cNvPr id="255" name=""/>
            <p:cNvSpPr/>
            <p:nvPr/>
          </p:nvSpPr>
          <p:spPr>
            <a:xfrm>
              <a:off x="8466120" y="60548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8605800" y="61804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"/>
          <p:cNvSpPr/>
          <p:nvPr/>
        </p:nvSpPr>
        <p:spPr>
          <a:xfrm rot="19687200">
            <a:off x="4946400" y="28699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0320" y="-27720"/>
            <a:ext cx="1373040" cy="828000"/>
            <a:chOff x="130320" y="-27720"/>
            <a:chExt cx="1373040" cy="828000"/>
          </a:xfrm>
        </p:grpSpPr>
        <p:sp>
          <p:nvSpPr>
            <p:cNvPr id="259" name=""/>
            <p:cNvSpPr/>
            <p:nvPr/>
          </p:nvSpPr>
          <p:spPr>
            <a:xfrm>
              <a:off x="169920" y="63360"/>
              <a:ext cx="1307880" cy="736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320" y="-27720"/>
              <a:ext cx="13730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erilización </a:t>
              </a:r>
              <a:br>
                <a:rPr sz="1400"/>
              </a:b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m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566640" y="404640"/>
              <a:ext cx="385920" cy="3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/>
          <p:nvPr/>
        </p:nvSpPr>
        <p:spPr>
          <a:xfrm flipV="1" rot="1912800">
            <a:off x="4946400" y="22968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9687200">
            <a:off x="5009760" y="49845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 rot="1912800">
            <a:off x="5009760" y="45493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2-06-24T09:01:00Z</cp:lastPrinted>
  <dcterms:modified xsi:type="dcterms:W3CDTF">2006-10-20T09:45:31Z</dcterms:modified>
  <cp:revision>910</cp:revision>
  <dc:subject/>
  <dc:title>No Slide Title</dc:title>
</cp:coreProperties>
</file>