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5505-22E7-494A-AA91-09198B1A6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Levonorgestrel-only ECPs are readily available in the country programme, can remove references to combined estrogen-progestogen ECPs (since they are less effective and cause more nausea and vomiting)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lternative images of ECPs are contained in the adaptation CD Rom.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ossible addition: guidance on use of combined oral contraceptive pills (COCs) for emergency contraception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d any relevant referral inform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08120" y="744480"/>
            <a:ext cx="5379840" cy="3724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on length of use refers to Copper IUD. Adapt text for other IU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709560" y="746280"/>
            <a:ext cx="5376960" cy="3722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nformation applies to Copper-releasing IUDs. The image is of a Copper T IUD. If different types of IUD are used, then these pages may need to be adapted (including both images and technical information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n alternate file for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vonorgestrel-releasing (hormonal) IU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46B-8EE3-4AF1-B75E-6204426E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106B-0CA2-46A2-938B-BDF49CC8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14D-856E-42ED-8763-2AF408D5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62B-6136-400E-A8F1-837BDEA4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630-7A39-4E8D-95D9-BA3E0A29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959-28C6-4230-B5FB-ABAD400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10C-73AD-48B1-910B-D7F6A612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1EFF-46C1-4B36-952F-462C1A3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6D6-0364-41D6-A79C-E995FAF2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14A-1327-41E5-9F67-7C249885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07F-CDC9-4ABF-B01A-72645FF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560-F04C-42F6-8088-9BF967A9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D246-EC06-4817-A13E-CC4433806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756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La anticoncepción de emergencia (AE)  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01440"/>
            <a:ext cx="391968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isten métodos seguro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evitar el embarazo después de haber tenido relaciones sexuales sin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51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11160" y="2421000"/>
            <a:ext cx="3892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158040" indent="-158040">
              <a:lnSpc>
                <a:spcPct val="100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uánto tiempo hace que tuvo relaciones sexuales sin prote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2880" y="5589720"/>
            <a:ext cx="185292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2880" y="3429000"/>
            <a:ext cx="331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No hace más de 5 dí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4381560"/>
            <a:ext cx="4292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Hace más de 5 días?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000" y="4937040"/>
            <a:ext cx="3645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145800" indent="-1458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Es posible que se haya expuesto a ITS o al VIH/SIDA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08600" y="2927520"/>
            <a:ext cx="577044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íldoras de anticoncepción de emergencia: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tomar las píldoras lo antes posibl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spués de la relación sexual sin protección. Éstas pueden tomarse hasta cinco días después de la relación sexual. Vea la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ágina sigui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08600" y="4608360"/>
            <a:ext cx="5770440" cy="247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roporciónele orientación según sea apropi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8600" y="880920"/>
            <a:ext cx="5770440" cy="663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sto puede sucederle a cualquier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mita que la clienta le cuente su situación si ella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frézcale apoyo sin juzgarla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587600"/>
            <a:ext cx="5770440" cy="1296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72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puede considerar el uso de AE s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usó un método anticoncep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ó un método incorrectamente (por ejemplo, se olvidó de tomar píldoras, se ha retrasado en las inyeccion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étodo le falló (por ejemplo, el condón se rompió, expulsó el DIU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la responde “sí” a cualquiera de las preguntas del Apéndice 1, probablemente no estaba en un momento fértil y por lo tanto no necesitará la AE. Sin embargo, si le preocupa la posibilidad de estar en riesgo de embarazo, puede usar la AE de todas form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9053280" y="979560"/>
            <a:ext cx="635040" cy="468360"/>
            <a:chOff x="9053280" y="979560"/>
            <a:chExt cx="635040" cy="468360"/>
          </a:xfrm>
        </p:grpSpPr>
        <p:sp>
          <p:nvSpPr>
            <p:cNvPr id="65" name=""/>
            <p:cNvSpPr/>
            <p:nvPr/>
          </p:nvSpPr>
          <p:spPr>
            <a:xfrm flipH="1">
              <a:off x="9052920" y="97956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9068760" y="98784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4008600" y="3666960"/>
            <a:ext cx="5770440" cy="898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IU de cobre para anticoncepción de emergencia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ás eficaz que las píldoras, pero las mujeres que corren riesgo de contraer ITS no debieran usarlo (ver la página DIU2 en la sección del DIU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usarse hasta 5 días después del coito sin protección (ver la página AE4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a elección acertada para aquellas mujeres que desean continuar usando el DIU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08600" y="4900680"/>
            <a:ext cx="5770440" cy="896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20" indent="-10152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uvo relaciones sexuales sin protección en circunstancias propicias para la transmisión del VIH o de las ITS, ofrézcale 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icie de inmediato l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filaxis post exposición (PPE) al VIH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dentro de 72 horas) y, si está disponible, el tratamiento de una presunta ITS. En caso de no disponer de estos tratamientos, refiera a la clienta a otro centro asistencial donde pueda recibir orientación, apoyo y tratamien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27280" y="9223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20594400">
            <a:off x="3516120" y="3216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759800">
            <a:off x="3492000" y="4483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422000">
            <a:off x="3513240" y="3692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92360" y="49798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" y="5867280"/>
            <a:ext cx="9909000" cy="1014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¿La clienta desea usar la anticoncepción de emergenci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8240" y="6151680"/>
            <a:ext cx="3962520" cy="693720"/>
          </a:xfrm>
          <a:prstGeom prst="downArrowCallout">
            <a:avLst>
              <a:gd name="adj1" fmla="val 571251"/>
              <a:gd name="adj2" fmla="val 285599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acerca de las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íldoras de A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9160" y="6886440"/>
            <a:ext cx="1620720" cy="438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nticoncepción de emergencia (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-98280" y="5940360"/>
            <a:ext cx="1218960" cy="946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815000" y="6146640"/>
            <a:ext cx="4444920" cy="693720"/>
          </a:xfrm>
          <a:prstGeom prst="downArrowCallout">
            <a:avLst>
              <a:gd name="adj1" fmla="val 640795"/>
              <a:gd name="adj2" fmla="val 32036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sobre 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A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67760" y="5699160"/>
            <a:ext cx="576000" cy="468360"/>
            <a:chOff x="9167760" y="5699160"/>
            <a:chExt cx="576000" cy="468360"/>
          </a:xfrm>
        </p:grpSpPr>
        <p:sp>
          <p:nvSpPr>
            <p:cNvPr id="81" name=""/>
            <p:cNvSpPr/>
            <p:nvPr/>
          </p:nvSpPr>
          <p:spPr>
            <a:xfrm>
              <a:off x="9167760" y="56991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5"/>
            <a:stretch/>
          </p:blipFill>
          <p:spPr>
            <a:xfrm>
              <a:off x="9307440" y="58248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28520" y="1177560"/>
            <a:ext cx="5943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be tomarlas lo antes posible después de haber tenido relaciones sexuales sin  prote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provocan un abort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n ocasionar náuseas, vómito, manchado o sangr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evitan el embarazo la próxima vez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son para usarse regular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-360" y="-360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Píldoras anticonceptivas de emergen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139360" y="1458000"/>
            <a:ext cx="4550760" cy="4807800"/>
            <a:chOff x="5139360" y="1458000"/>
            <a:chExt cx="4550760" cy="4807800"/>
          </a:xfrm>
        </p:grpSpPr>
        <p:sp>
          <p:nvSpPr>
            <p:cNvPr id="86" name=""/>
            <p:cNvSpPr/>
            <p:nvPr/>
          </p:nvSpPr>
          <p:spPr>
            <a:xfrm rot="21468000">
              <a:off x="7635960" y="4348080"/>
              <a:ext cx="1866960" cy="12938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0042400">
              <a:off x="5410080" y="4114440"/>
              <a:ext cx="1905120" cy="16765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1232200">
              <a:off x="6172200" y="1626840"/>
              <a:ext cx="3276720" cy="20574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184800" y="1981080"/>
              <a:ext cx="3505320" cy="177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7551720" y="4751280"/>
              <a:ext cx="2049480" cy="13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718240" y="4199040"/>
              <a:ext cx="1206360" cy="20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680"/>
            <a:ext cx="9907560" cy="97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íldoras anticonceptivas d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emergencia (P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1240" y="1023840"/>
            <a:ext cx="5232240" cy="1498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 clienta debe </a:t>
            </a:r>
            <a:r>
              <a:rPr b="1" i="1" lang="es-ES" sz="1100" spc="-1" strike="noStrike">
                <a:solidFill>
                  <a:srgbClr val="ff3300"/>
                </a:solidFill>
                <a:latin typeface="Arial"/>
              </a:rPr>
              <a:t>tomar las píldoras lo antes posible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haber tenido relaciones sexuales sin la protección de un método anticonceptivo, idealmente dentro de las siguientes 72 horas (3 días).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íldoras pueden tomarse hasta dentro de 120 horas (5 días) después de la relación sexual, pero se vuelven menos efectivas cada día que p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uvo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tra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relaciones sexuales en ausencia de un método anticonceptivo después de la fecha de su último período, es posible que ya esté embarazada y entonces las PAE no funcionarían. Si toma las PAE estando embarazada, no perjudican su embarazo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clienta debiera regresar si su siguiente período se retrasa más de una sema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0" y="1160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05800">
            <a:off x="3935520" y="4344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238000">
            <a:off x="4065480" y="5084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21360"/>
            <a:ext cx="9909000" cy="836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9440" y="6084720"/>
            <a:ext cx="4228920" cy="736920"/>
          </a:xfrm>
          <a:prstGeom prst="downArrowCallout">
            <a:avLst>
              <a:gd name="adj1" fmla="val 573917"/>
              <a:gd name="adj2" fmla="val 28693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e decide usar las PA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égueselas y vaya a 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49720" y="6089760"/>
            <a:ext cx="4210200" cy="726840"/>
          </a:xfrm>
          <a:prstGeom prst="downArrowCallout">
            <a:avLst>
              <a:gd name="adj1" fmla="val 579301"/>
              <a:gd name="adj2" fmla="val 28962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información acerca d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AE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21240" y="5394240"/>
            <a:ext cx="5232240" cy="546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E no evitan el embarazo en actos sexuales futuros.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Vea la página siguiente para obtener información sobre protección continu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E son menos eficaces que la mayoría de los métodos más comu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1136520"/>
            <a:ext cx="35049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62000"/>
          </a:bodyPr>
          <a:p>
            <a:pPr marL="106200" indent="-10620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tomarlas lo antes posible después de haber tenido relaciones sexuales sin prot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520" y="450864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9000"/>
          </a:bodyPr>
          <a:p>
            <a:pPr marL="135360" indent="-135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evitan el embarazo la próxim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5360" indent="-13536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160" y="5373720"/>
            <a:ext cx="4227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son para usarse regular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520" y="364500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 fontScale="70000"/>
          </a:bodyPr>
          <a:p>
            <a:pPr marL="119880" indent="-119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n ocasionar náuseas, vómito, manchado o san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9880" indent="-1198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8520" y="3398760"/>
            <a:ext cx="4788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provocan un abor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21240" y="3917880"/>
            <a:ext cx="5232240" cy="438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Las PAE evitan el embarazo y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no provocan un aborto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”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 función principal es impedir la ovulación (ver los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21240" y="4424400"/>
            <a:ext cx="5232240" cy="90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clienta toma píldoras combinadas de estrógeno y progestágeno, también puede tomar medicamentos para evitar las náuseas (clorhidrato de meclizin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vomita en las dos horas posteriores a haber tomado las PAE, debe regresar por otra dosis lo antes posi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tenga manchado o sangrado unos días después de tomar las píldor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49400">
            <a:off x="3936600" y="3701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113760" y="5437080"/>
            <a:ext cx="576000" cy="468360"/>
            <a:chOff x="9113760" y="5437080"/>
            <a:chExt cx="576000" cy="468360"/>
          </a:xfrm>
        </p:grpSpPr>
        <p:sp>
          <p:nvSpPr>
            <p:cNvPr id="111" name=""/>
            <p:cNvSpPr/>
            <p:nvPr/>
          </p:nvSpPr>
          <p:spPr>
            <a:xfrm>
              <a:off x="9113760" y="54370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9253440" y="55627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4098960" y="5413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15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3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257040" y="5719680"/>
            <a:ext cx="1852920" cy="3081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21240" y="2570040"/>
            <a:ext cx="5232240" cy="1289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E de Levonorgestrel sol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n más efectivas y ocasionan menos náuseas y vómito que los anticonceptivos combinados de estrógeno y progestá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Dosi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Tome una sola dosis de 1.5 mg de levonorgestr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PAE combinadas de estrógeno-progestáge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Úselas si no dispone de las píldoras de levonorgestrel so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62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Dosi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me dos dosis de 100 mcg de etinil estradiol más 0,5 mg de levonorgestrel, con 12 horas de diferencia entre toma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3240"/>
            <a:ext cx="9907560" cy="6797520"/>
            <a:chOff x="0" y="3240"/>
            <a:chExt cx="9907560" cy="6797520"/>
          </a:xfrm>
        </p:grpSpPr>
        <p:sp>
          <p:nvSpPr>
            <p:cNvPr id="122" name=""/>
            <p:cNvSpPr/>
            <p:nvPr/>
          </p:nvSpPr>
          <p:spPr>
            <a:xfrm rot="19867800">
              <a:off x="5638680" y="1752120"/>
              <a:ext cx="3657600" cy="27432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24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¿</a:t>
              </a: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Necesita protección continua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0120" y="1981080"/>
              <a:ext cx="445788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rmAutofit/>
            </a:bodyPr>
            <a:p>
              <a:pPr marL="177840" indent="-177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" y="1052640"/>
              <a:ext cx="6056280" cy="43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Por favor consider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Podría tener otra vez relaciones sexuales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sin protección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Necesita doble protección para el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embarazo y las ITS/VIH/SIDA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Puede usted siempre decidir cuánd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 tener relaciones sexuale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100"/>
                </a:spcBef>
                <a:spcAft>
                  <a:spcPts val="55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¿Tiene un método que usa regularmente? ¿Le satisface ese método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6378480" y="1752480"/>
              <a:ext cx="2529000" cy="37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057400" y="5346720"/>
              <a:ext cx="4876920" cy="1193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cuáles son sus opciones de planificación familiar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1828800" y="567684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32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¿Necesita protección contin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0120" y="1981080"/>
            <a:ext cx="4457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1460520"/>
            <a:ext cx="426708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Aft>
                <a:spcPts val="2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vite a la clienta a que le cuente su sit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Aft>
                <a:spcPts val="2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u relato sugiere que estuvo expuesta a las ITS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fiérala para que reciba tratamiento. Si es apropiado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nalice el uso de los cond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535120"/>
            <a:ext cx="4267080" cy="55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la clienta corre riesgo de contraer ITS, hable acerca de la doble protección para el embarazo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las ITS/VIH/SIDA. Vaya a la pestaña Doble Prot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3429000"/>
            <a:ext cx="42670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se el Apéndice 9 para hablar sobre la comunicación entre la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el relato indica que hubo coacción o violencia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fiérala para que reciba más ayuda si es posible. 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Vea el Apéndice 1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1360" y="1022400"/>
            <a:ext cx="4496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or favor consid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4491000"/>
            <a:ext cx="4267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6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clienta puede comenzar otro método inmediatamente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cluidas las píld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clienta decide por ahora no usar un método con regularidad, ofrézcale las PAE y condones junto con instrucciones para su us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46680" y="1638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46680" y="3591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46680" y="2673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46680" y="4672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97400" y="6000840"/>
            <a:ext cx="3962520" cy="815760"/>
          </a:xfrm>
          <a:prstGeom prst="downArrowCallout">
            <a:avLst>
              <a:gd name="adj1" fmla="val 485790"/>
              <a:gd name="adj2" fmla="val 24287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obtener información sobre el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 para anticoncepción de emergenci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9240" y="5985000"/>
            <a:ext cx="3976920" cy="63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elige la anticoncepción continua, vaya a la pestaña 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45720" y="1611360"/>
            <a:ext cx="527040" cy="450720"/>
            <a:chOff x="9045720" y="1611360"/>
            <a:chExt cx="527040" cy="450720"/>
          </a:xfrm>
        </p:grpSpPr>
        <p:sp>
          <p:nvSpPr>
            <p:cNvPr id="144" name=""/>
            <p:cNvSpPr/>
            <p:nvPr/>
          </p:nvSpPr>
          <p:spPr>
            <a:xfrm>
              <a:off x="9045720" y="1611360"/>
              <a:ext cx="527040" cy="450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9182160" y="1657080"/>
              <a:ext cx="263880" cy="36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"/>
          <p:cNvSpPr/>
          <p:nvPr/>
        </p:nvSpPr>
        <p:spPr>
          <a:xfrm>
            <a:off x="414360" y="2676600"/>
            <a:ext cx="4495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ecesita doble protección para el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mbarazo y las ITS/VIH/SI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360" y="3500280"/>
            <a:ext cx="44956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Puede usted decidir siempr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cuándo tener relaciones sexual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8120" y="4543560"/>
            <a:ext cx="44956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un método que usa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regularmente? Le satisface ese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9680" y="1574640"/>
            <a:ext cx="4495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101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ría tener otra vez relacione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xuales sin protecc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050040" y="3720960"/>
            <a:ext cx="635040" cy="468360"/>
            <a:chOff x="9050040" y="3720960"/>
            <a:chExt cx="635040" cy="468360"/>
          </a:xfrm>
        </p:grpSpPr>
        <p:sp>
          <p:nvSpPr>
            <p:cNvPr id="153" name=""/>
            <p:cNvSpPr/>
            <p:nvPr/>
          </p:nvSpPr>
          <p:spPr>
            <a:xfrm flipH="1">
              <a:off x="9049680" y="3720960"/>
              <a:ext cx="61308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9065520" y="3729240"/>
              <a:ext cx="619560" cy="446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5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56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271440" y="5573880"/>
            <a:ext cx="185256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6480"/>
            <a:ext cx="9907560" cy="12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U de cobre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iconcepción de em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9760" y="1509840"/>
            <a:ext cx="5079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 fontScale="98000"/>
          </a:bodyPr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uede usarlo si tuvo relaciones sexuales sin la protección de un método anticonceptivo en los últimos 5 dí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na/un doctor o enfermera pueden insertar el DIU en la matriz. Puede ocasionar dolores abdominal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4240" indent="-174240">
              <a:lnSpc>
                <a:spcPct val="10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IU puede retirarse posteriormente o dejarse en su sitio como un método de anticoncepción continu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742000" y="999720"/>
            <a:ext cx="4158720" cy="4685040"/>
            <a:chOff x="5742000" y="999720"/>
            <a:chExt cx="4158720" cy="46850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742000" y="2815920"/>
              <a:ext cx="3200400" cy="286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flipH="1">
              <a:off x="7341840" y="2676240"/>
              <a:ext cx="121932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3342000">
              <a:off x="7812000" y="1514160"/>
              <a:ext cx="1958760" cy="13492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>
              <a:off x="8161200" y="1468440"/>
              <a:ext cx="1138320" cy="163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72520" y="1385640"/>
            <a:ext cx="49150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rmAutofit/>
          </a:bodyPr>
          <a:p>
            <a:pPr marL="177840" indent="-177840">
              <a:lnSpc>
                <a:spcPct val="10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usarlo si tuvo relacione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xuales sin la protección de un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 anticonceptivo en los últimos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5 d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a/un doctor o enfermera pueden insertar el DIU en la matriz.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ocasionar dolores abdominal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5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DIU puede retirarse posteriorment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puede dejarse en su sitio com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 de anticoncepción continu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852640"/>
            <a:ext cx="475308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rmAutofit/>
          </a:bodyPr>
          <a:p>
            <a:pPr marL="177840" indent="-177840">
              <a:lnSpc>
                <a:spcPct val="95000"/>
              </a:lnSpc>
              <a:spcBef>
                <a:spcPts val="18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680"/>
            <a:ext cx="99075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U de cobre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anticoncepción de emerg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87844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57240" y="6039000"/>
            <a:ext cx="6577200" cy="634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decide usar el DIU de cobre para anticoncepción de emergencia, vaya a la pestañ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IU de Cobr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verificar la elegibilidad médica para su uso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página DIU2) y para obtener información acerca de su inser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38880" y="3213000"/>
            <a:ext cx="4267080" cy="1497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puede continuar usándolo como un método anticonceptivo a largo plazo, siempre y cuando cumpla con los criterios médicos de elegibilidad necesarios; o bien, se le puede retirar en cualquier momen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e mantiene en su sitio, el DIU puede seguir funcionando hasta por 10 añ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DIU de emergencia no logra evitar el embarazo, el dispositivo deberá retira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29040" y="40006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19680" y="1857240"/>
            <a:ext cx="361800" cy="304920"/>
          </a:xfrm>
          <a:prstGeom prst="rightArrow">
            <a:avLst>
              <a:gd name="adj1" fmla="val 44444"/>
              <a:gd name="adj2" fmla="val 4614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38880" y="1557360"/>
            <a:ext cx="4257720" cy="149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y efectivo; más efectivo que las PA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puede calcular el momento de la ovulación de la clienta, también puede insertarle el DIU más de 5 días después de que ella haya tenido relaciones sexuales sin protección; siempre que la inserción no se haga más de 5 días después de la ovul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se ha hecho investigación sobre el mecanismo de acción del DIU cuando se usa para la anticoncepción de emerge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4107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8520" y="44280"/>
            <a:ext cx="1368360" cy="752760"/>
            <a:chOff x="128520" y="44280"/>
            <a:chExt cx="1368360" cy="752760"/>
          </a:xfrm>
        </p:grpSpPr>
        <p:sp>
          <p:nvSpPr>
            <p:cNvPr id="179" name=""/>
            <p:cNvSpPr/>
            <p:nvPr/>
          </p:nvSpPr>
          <p:spPr>
            <a:xfrm>
              <a:off x="128520" y="44280"/>
              <a:ext cx="1368360" cy="75276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8520" y="44280"/>
              <a:ext cx="136836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concepción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merg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200160" y="461880"/>
              <a:ext cx="63324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920880" y="433440"/>
              <a:ext cx="234720" cy="3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"/>
          <p:cNvSpPr/>
          <p:nvPr/>
        </p:nvSpPr>
        <p:spPr>
          <a:xfrm>
            <a:off x="257040" y="5573880"/>
            <a:ext cx="1852920" cy="3078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-3240"/>
            <a:ext cx="10177200" cy="6861240"/>
            <a:chOff x="0" y="-3240"/>
            <a:chExt cx="10177200" cy="6861240"/>
          </a:xfrm>
        </p:grpSpPr>
        <p:sp>
          <p:nvSpPr>
            <p:cNvPr id="185" name=""/>
            <p:cNvSpPr/>
            <p:nvPr/>
          </p:nvSpPr>
          <p:spPr>
            <a:xfrm>
              <a:off x="0" y="-3240"/>
              <a:ext cx="9910800" cy="10112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DIU de cobr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3342000">
              <a:off x="7998480" y="1464120"/>
              <a:ext cx="2057400" cy="13795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5334120"/>
              <a:ext cx="5333760" cy="12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¿</a:t>
              </a:r>
              <a:r>
                <a:rPr b="1" i="1" lang="es-CR" sz="1800" spc="-1" strike="noStrike">
                  <a:solidFill>
                    <a:srgbClr val="ff0000"/>
                  </a:solidFill>
                  <a:latin typeface="Arial"/>
                </a:rPr>
                <a:t>Desea saber más acerca del DIU o preferiría hablar de otro método</a:t>
              </a:r>
              <a:r>
                <a:rPr b="1" i="1" lang="es-CR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992160" y="573408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6032520" y="2997360"/>
              <a:ext cx="3200400" cy="286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 flipH="1">
              <a:off x="7635960" y="2868480"/>
              <a:ext cx="121896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8337600" y="1414440"/>
              <a:ext cx="1138320" cy="16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74600" y="979560"/>
              <a:ext cx="8450280" cy="43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ispositivo pequeño que cabe en la matriz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muy efectiv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efectivo hasta por 10 años, según el tip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e dispositivo que se u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Se lo podemos retirar cuando usted así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o dese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muy seguro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aumentar el sangrad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o el dolor menstru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3160" indent="-173160">
                <a:lnSpc>
                  <a:spcPct val="100000"/>
                </a:lnSpc>
                <a:spcBef>
                  <a:spcPts val="5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o ofrece protección contra las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ITS o el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3:04:27Z</dcterms:created>
  <dc:creator>bpeterson</dc:creator>
  <dc:description/>
  <dc:language>en-US</dc:language>
  <cp:lastModifiedBy>hamillc</cp:lastModifiedBy>
  <cp:lastPrinted>2002-06-14T07:08:54Z</cp:lastPrinted>
  <dcterms:modified xsi:type="dcterms:W3CDTF">2006-10-20T13:41:26Z</dcterms:modified>
  <cp:revision>201</cp:revision>
  <dc:subject/>
  <dc:title>Emergency contraceptive pills</dc:title>
</cp:coreProperties>
</file>