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907588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711000" y="742680"/>
            <a:ext cx="5381640" cy="37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4800" cy="498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5"/>
          </p:nvPr>
        </p:nvSpPr>
        <p:spPr>
          <a:xfrm>
            <a:off x="3849840" y="9433080"/>
            <a:ext cx="2944800" cy="498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fld id="{86A342D3-0EBA-4846-9701-DB69D5EDA8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production of the tool the “Tab markers” on each new section can be removed (so long as tabs will be used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add important local myths about implants to this pag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age can be copied and included in a “kit” for providers, as “take-home” information for client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Some programmes may prefer not to request a 4 year follow-up visit. Please consult </a:t>
            </a:r>
            <a:r>
              <a:rPr b="0" i="1" lang="en-GB" sz="1200" spc="-1" strike="noStrike">
                <a:solidFill>
                  <a:srgbClr val="ff00ff"/>
                </a:solidFill>
                <a:latin typeface="Arial"/>
              </a:rPr>
              <a:t>Selected Practice Recommendations for Contraceptive Use,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 WHO, 2004, for the evidence-based recommendatio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Some programmes may prefer not to request a 4 year follow-up visit. This guidance is a simplification of WHO’s evidence-based recommendation contained in </a:t>
            </a:r>
            <a:r>
              <a:rPr b="0" i="1" lang="en-GB" sz="1200" spc="-1" strike="noStrike">
                <a:solidFill>
                  <a:srgbClr val="ff00ff"/>
                </a:solidFill>
                <a:latin typeface="Arial"/>
              </a:rPr>
              <a:t>Selected Practice Recommendations for Contraceptive Use,</a:t>
            </a:r>
            <a:r>
              <a:rPr b="0" lang="en-GB" sz="1200" spc="-1" strike="noStrike">
                <a:solidFill>
                  <a:srgbClr val="ff00ff"/>
                </a:solidFill>
                <a:latin typeface="Arial"/>
              </a:rPr>
              <a:t> WHO, 2004 (question 8). Please consult the full text for more information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“Most Women” drawing on this page is generic. There is one alternate version in the Adaptation CD Rom. Other programmes may choose to adapt the drawing themselv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insert local/country-specific pain relief drug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ngth of use varies for different types of implants. The </a:t>
            </a:r>
            <a:r>
              <a:rPr b="0" lang="en-GB" sz="1200" spc="-1" strike="noStrike">
                <a:solidFill>
                  <a:srgbClr val="ff66cc"/>
                </a:solidFill>
                <a:latin typeface="Arial"/>
              </a:rPr>
              <a:t>adaptation CD R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alternate files for both Jadelle and Implanon impla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6480" y="471924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aptation note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other methods mentioned on this page are not to be included in the tool, can remove reference to them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0434-E33F-47BC-9FA1-EB2F7F3BF7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8901-AEF2-4402-B16F-EDB6B50A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B1948-5155-4A4C-B47B-2737FD09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3CAA-835C-4B62-8CFA-FF734988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6B31-BA26-4A80-AB94-DD733F8A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86D7B-7478-40B9-9E7E-D30D53A41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43741-CB4E-4697-8F49-E05AB6D6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E5CC-E9EF-405C-95AF-4E97B998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513FB-9556-46E7-B149-2DD5062D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E1ED3-EF09-4770-98B1-8492C0A8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044D-E7FB-4006-BA69-FE8B9528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3AB1-2239-4BB3-860A-C371FE98F1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90116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421800" y="137160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38052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190116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421800" y="3561120"/>
            <a:ext cx="14479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85240" y="356112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85240" y="1371600"/>
            <a:ext cx="2194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561120"/>
            <a:ext cx="44974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2"/>
          </p:nvPr>
        </p:nvSpPr>
        <p:spPr>
          <a:xfrm>
            <a:off x="7695720" y="64008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26FA-A7B7-452E-8234-1F99C459D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380520" y="1371600"/>
            <a:ext cx="449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400"/>
              </a:spcBef>
              <a:buClr>
                <a:srgbClr val="000000"/>
              </a:buClr>
              <a:buFont typeface="Wingdings 3" charset="2"/>
              <a:buChar char="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259240" y="2667240"/>
            <a:ext cx="4116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10000"/>
              </a:lnSpc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97560" y="2405160"/>
            <a:ext cx="5205240" cy="420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Muy eficaz sin tener que recordar nada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obre al método hasta por 7 años.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¿Está buscando un método que sea fácil de usar de manera efectiva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99000" y="5141880"/>
            <a:ext cx="5205240" cy="30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Efectos secundarios</a:t>
            </a:r>
            <a:r>
              <a:rPr b="1" lang="es-ES" sz="10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vaya a la página IMP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99000" y="5502240"/>
            <a:ext cx="5205240" cy="316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7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Para protegerse contra las ITS o el VIH/SIDA use también condon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Implantes Norpl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840" y="1168560"/>
            <a:ext cx="4267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6 pequeños tubos de plástico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que se implantan debajo de l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iel de la parte superior del br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97560" y="2881440"/>
            <a:ext cx="5205240" cy="873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s posible que se necesite retirar este implante a las mujeres de mayor peso corporal después de  4 ó 5 años (vaya a la página IM4). Si la clienta desea continuar usando este método se le puede insertar otro juego de cápsula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mujer fértil puede quedar embarazada muy pronto después de la extracción de Norplant, si así lo dese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881680"/>
            <a:ext cx="9906120" cy="987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¿Desea saber más acerca de los implantes o preferiría hablar sobre otro métod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6143760"/>
            <a:ext cx="3886200" cy="684000"/>
          </a:xfrm>
          <a:prstGeom prst="downArrowCallout">
            <a:avLst>
              <a:gd name="adj1" fmla="val 568210"/>
              <a:gd name="adj2" fmla="val 28407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la clienta desea saber más acerca de los implantes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2920" y="557676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89240" y="119232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244620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40035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299412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3840" y="2367000"/>
            <a:ext cx="322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muy ef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3840" y="2914560"/>
            <a:ext cx="410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ura hasta por 7 años, dependiendo del peso de la usu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3840" y="3946680"/>
            <a:ext cx="2505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muy seg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8520" y="4365720"/>
            <a:ext cx="4064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Por lo general cambia el sangrado menstr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3840" y="4941720"/>
            <a:ext cx="42670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7840" indent="-17784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o ofrece protección contra las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TS o VIH/S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81080" y="14760"/>
            <a:ext cx="1143000" cy="762840"/>
            <a:chOff x="181080" y="14760"/>
            <a:chExt cx="1143000" cy="762840"/>
          </a:xfrm>
        </p:grpSpPr>
        <p:sp>
          <p:nvSpPr>
            <p:cNvPr id="141" name=""/>
            <p:cNvSpPr/>
            <p:nvPr/>
          </p:nvSpPr>
          <p:spPr>
            <a:xfrm>
              <a:off x="181080" y="3312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7600" y="1476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493920" y="22860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-127080" y="5925960"/>
            <a:ext cx="1219320" cy="946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 rot="2243400">
            <a:off x="4067280" y="47880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97560" y="3822840"/>
            <a:ext cx="5203800" cy="1255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os implantes no son dañinos para la salud. No son molestos para la usuaria ni afectan su fortaleza. Tampoco afectan la calidad de la leche materna en aquellas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ujeres que están amamantan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Averigüe si tiene inquietudes o ha oído rumores:</a:t>
            </a:r>
            <a:r>
              <a:rPr b="0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¿Qué ha oído acerca de los implantes?”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Explique los mitos más comunes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  <a:ea typeface="Arial"/>
              </a:rPr>
              <a:t>.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s cápsulas no se rompen dentro del cuerpo, son flexibles. (Vea también el Apéndice 10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92520" y="923760"/>
            <a:ext cx="5203800" cy="1425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Acerca de los implantes Norplant: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ntienen un progestágeno pero no estróge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Funcionan principalmente espesando el moco cervical (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 cual bloquea el paso de los espermatozoides)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y suprimiendo la ovulación (vea Apéndices 4 y 5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onsisten en cápsulas flexibles que son apenas visibles debajo de la piel. No dejan  una cicatriz notoria si se insertan y retiran correctament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inserción y extracción la realiza personal capacitado en procedimientos quirúrgicos simpl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9129600" y="4148280"/>
            <a:ext cx="576360" cy="468000"/>
            <a:chOff x="9129600" y="4148280"/>
            <a:chExt cx="576360" cy="468000"/>
          </a:xfrm>
        </p:grpSpPr>
        <p:sp>
          <p:nvSpPr>
            <p:cNvPr id="150" name=""/>
            <p:cNvSpPr/>
            <p:nvPr/>
          </p:nvSpPr>
          <p:spPr>
            <a:xfrm>
              <a:off x="9129600" y="4148280"/>
              <a:ext cx="576360" cy="46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9279000" y="4195440"/>
              <a:ext cx="288720" cy="38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4692600" y="6143760"/>
            <a:ext cx="4608720" cy="52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ra hablar sobre otro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vaya a la pestaña de otro método o a la pestaña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Elección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de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537400" y="6864480"/>
            <a:ext cx="1354320" cy="438120"/>
          </a:xfrm>
          <a:prstGeom prst="rect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mp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243400">
            <a:off x="4092480" y="53085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1440"/>
            <a:ext cx="9907560" cy="10112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4800" spc="-1" strike="noStrike">
                <a:solidFill>
                  <a:srgbClr val="000000"/>
                </a:solidFill>
                <a:latin typeface="Arial"/>
                <a:ea typeface="Arial"/>
              </a:rPr>
              <a:t>Qué debe recor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1523880"/>
            <a:ext cx="4876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28600" indent="-228600">
              <a:lnSpc>
                <a:spcPct val="95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Regrese cuando sea momento de extraer los impl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57960" y="1401840"/>
            <a:ext cx="4295520" cy="526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Consulte con una/un médico o enfermera si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3520" y="133200"/>
            <a:ext cx="1447560" cy="11224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7831080" y="5982480"/>
            <a:ext cx="17463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Tiene la piel u ojos amarill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80360" y="2328120"/>
            <a:ext cx="1625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Cree que puede estar embarazada, especialmente si tiene dolor o molestia en el vien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77040" y="5279040"/>
            <a:ext cx="16002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ene sangrado menstrual abundante fuera de lo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5676840" y="4869000"/>
            <a:ext cx="719280" cy="1530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7731000" y="2822400"/>
            <a:ext cx="635040" cy="1100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977240" y="4030920"/>
            <a:ext cx="17002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Tiene infección o dolor constante en el lugar de la inser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4080" y="2666880"/>
            <a:ext cx="504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5000"/>
              </a:lnSpc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efectos secundarios son comunes pero rara vez dañinos. Regrese si le molest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280" y="3924360"/>
            <a:ext cx="46483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Regrese en cualquier momento en que tenga algún problema o desee que se le extraigan los impl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6665760" y="3932280"/>
            <a:ext cx="1354320" cy="1122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8394840" y="5143680"/>
            <a:ext cx="644400" cy="8632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600880" y="2381040"/>
            <a:ext cx="120456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 una luz brillante antes de  dolores fuertes 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 cabeza (migraña con aura)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6740640" y="2171880"/>
            <a:ext cx="857160" cy="13395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52280" y="5511960"/>
            <a:ext cx="411660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¿</a:t>
            </a: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Necesita que repita o le explique algo más? </a:t>
            </a:r>
            <a:br>
              <a:rPr sz="1800"/>
            </a:br>
            <a:r>
              <a:rPr b="1" i="1" lang="es-DO" sz="1800" spc="-1" strike="noStrike">
                <a:solidFill>
                  <a:srgbClr val="ff3300"/>
                </a:solidFill>
                <a:latin typeface="Arial"/>
                <a:ea typeface="Arial"/>
              </a:rPr>
              <a:t>¿Tiene alguna otra pregun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00160" y="969840"/>
            <a:ext cx="4663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Aft>
                <a:spcPts val="638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Regrese cuando sea momento de que se le extraigan los impla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907560" cy="83808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Qué debe record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57960" y="981000"/>
            <a:ext cx="4248000" cy="1495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ujer que pesa menos de 70 kg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Regrese e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7 año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. Si una mujer sube bastante de peso, debiera regresar más pro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ujer que pesa entre 70 y 79 kg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Regrese e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5 año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ujer que pesa  80 kg o más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Regrese en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4 año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374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n ese momento se le podrán reemplazar los implantes o elegir un método nuev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es posible, entregue a la clienta una tarjeta duradera que indique la fecha de inserción (incluido el mes) y cuando debe regresar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5729400"/>
            <a:ext cx="9909000" cy="113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9560" y="5853240"/>
            <a:ext cx="8610480" cy="96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¿Tiene plena confianza de que puede usar este método satisfactoriamente? ¿Desea que repita o le explique o algo?”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ff3399"/>
                </a:solidFill>
                <a:latin typeface="Arial"/>
                <a:ea typeface="Arial"/>
              </a:rPr>
              <a:t>¡Acuérdese de ofrecerle condones para la doble protección! 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Último y más importante mensaje: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“Por favor regrese cuando tenga preguntas </a:t>
            </a:r>
            <a:br>
              <a:rPr sz="1200"/>
            </a:br>
            <a:r>
              <a:rPr b="1" i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o desee que se le extraigan los implante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4760" y="5435640"/>
            <a:ext cx="1828800" cy="288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Últimos paso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1800" y="344340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72880" y="981000"/>
            <a:ext cx="4646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 marL="228600" indent="-228600">
              <a:lnSpc>
                <a:spcPct val="95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2720" y="100656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25280" y="43200"/>
            <a:ext cx="1143000" cy="762840"/>
            <a:chOff x="125280" y="43200"/>
            <a:chExt cx="1143000" cy="762840"/>
          </a:xfrm>
        </p:grpSpPr>
        <p:sp>
          <p:nvSpPr>
            <p:cNvPr id="326" name=""/>
            <p:cNvSpPr/>
            <p:nvPr/>
          </p:nvSpPr>
          <p:spPr>
            <a:xfrm>
              <a:off x="12528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1800" y="4320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438120" y="25704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"/>
          <p:cNvSpPr/>
          <p:nvPr/>
        </p:nvSpPr>
        <p:spPr>
          <a:xfrm>
            <a:off x="190440" y="3290760"/>
            <a:ext cx="4778280" cy="198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Consulte con una/un médico o enfermera si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Ve una luz brillante antes de dolores fuertes de cabeza      (migraña con aur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ree que puede estar embarazada, especialmente si tiene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olor o molestia en el vien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iene infección o dolor constante en el lugar de la inser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iene sangrado menstrual profuso y abundante fuera de lo comú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8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iene la piel u ojos amarill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57960" y="3459240"/>
            <a:ext cx="4260600" cy="106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9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Signos por los que debe regresar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En muchos de los casos estos signos no están relacionadas con los implantes, pero debe consultar con una/un médico o enfermera para que pueda determinar si se presenta un problema grave y si puede continuar usando los implantes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Quiero que sepa cuáles son los signos y que los recuerde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73800" y="5157720"/>
            <a:ext cx="4232160" cy="416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" bIns="46800" anchor="t">
            <a:noAutofit/>
          </a:bodyPr>
          <a:p>
            <a:pPr marL="114480" indent="-114480">
              <a:lnSpc>
                <a:spcPct val="100000"/>
              </a:lnSpc>
              <a:spcBef>
                <a:spcPts val="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otro personal médico le pregunta acerca de sus medicamentos, ella debe mencionar que está usando los impla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381960" y="64785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82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8520120" y="6203880"/>
            <a:ext cx="576000" cy="468360"/>
            <a:chOff x="8520120" y="6203880"/>
            <a:chExt cx="576000" cy="468360"/>
          </a:xfrm>
        </p:grpSpPr>
        <p:sp>
          <p:nvSpPr>
            <p:cNvPr id="334" name=""/>
            <p:cNvSpPr/>
            <p:nvPr/>
          </p:nvSpPr>
          <p:spPr>
            <a:xfrm>
              <a:off x="8520120" y="620388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2"/>
            <a:stretch/>
          </p:blipFill>
          <p:spPr>
            <a:xfrm>
              <a:off x="8659800" y="632952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5460840" y="4664160"/>
            <a:ext cx="4245120" cy="315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l sangrado dura más de 8 días o es el doble de lo usu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5800" y="1484280"/>
            <a:ext cx="41767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45040" y="26780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57960" y="2630520"/>
            <a:ext cx="4248000" cy="460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Recuerde a la clienta que se le puede extraer los implantes en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cualquier moment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que así lo dese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00160" y="1684440"/>
            <a:ext cx="504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Bef>
                <a:spcPts val="638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Los efectos secundarios son comunes pero rara vez dañinos.  Regrese si le molesta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00160" y="2351160"/>
            <a:ext cx="45925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230040" indent="-230040">
              <a:lnSpc>
                <a:spcPct val="95000"/>
              </a:lnSpc>
              <a:spcBef>
                <a:spcPts val="638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Regrese en cualquier momento que tenga un problema o desea que se le extraigan los implan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41800" y="46512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 rot="20498400">
            <a:off x="5168880" y="2053800"/>
            <a:ext cx="4722840" cy="31021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0160" y="1025640"/>
            <a:ext cx="5832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 un procedimiento quirúrgico senci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 permanente. Es para hombres que no desean tener más hij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 muy efec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Es muy segur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afecta la capacidad sex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19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ofrece protección contra las 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ITS o VIH/SI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440"/>
            <a:ext cx="9910800" cy="101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Vasectomía para los homb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5238720"/>
            <a:ext cx="5334120" cy="1270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¿</a:t>
            </a:r>
            <a:r>
              <a:rPr b="1" i="1" lang="es-ES_tradnl" sz="1800" spc="-1" strike="noStrike">
                <a:solidFill>
                  <a:srgbClr val="ff3300"/>
                </a:solidFill>
                <a:latin typeface="Arial"/>
              </a:rPr>
              <a:t>Desea saber más acerca de la vasectomía o preferiría hablar sobre otro méto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533520" y="5467320"/>
            <a:ext cx="1103040" cy="139068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5799240" y="1900080"/>
            <a:ext cx="3676680" cy="3760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 flipH="1" flipV="1">
            <a:off x="7400880" y="4292280"/>
            <a:ext cx="1873440" cy="1152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02400" y="5679000"/>
            <a:ext cx="237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Los conductos se cortan aqu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2997360"/>
            <a:ext cx="937260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10000"/>
              </a:lnSpc>
              <a:spcBef>
                <a:spcPts val="414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Pero, en general, una mujer no podrá usar los implantes si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40"/>
            <a:ext cx="9907560" cy="113832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Quién puede y quién no pue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usar los impla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6120" y="1928880"/>
            <a:ext cx="358128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3300"/>
                </a:solidFill>
                <a:latin typeface="Arial"/>
              </a:rPr>
              <a:t>La mayoría de las mujeres pueden usar los implantes en forma segu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5678280"/>
            <a:ext cx="27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á amamantando por 6 semanas o m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45000" y="5663520"/>
            <a:ext cx="19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uede estar embara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32480" y="5607000"/>
            <a:ext cx="245124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 algn="ctr">
              <a:lnSpc>
                <a:spcPct val="90000"/>
              </a:lnSpc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senta ciertos problemas graves de s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0766000">
            <a:off x="3784320" y="3987720"/>
            <a:ext cx="1523880" cy="111456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148280" y="4064040"/>
            <a:ext cx="855360" cy="14810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21522600">
            <a:off x="4757400" y="1333440"/>
            <a:ext cx="4324320" cy="186696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0766000">
            <a:off x="6540120" y="4236840"/>
            <a:ext cx="1676520" cy="11300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225400">
            <a:off x="819360" y="3835080"/>
            <a:ext cx="1280880" cy="1535040"/>
          </a:xfrm>
          <a:prstGeom prst="ellipse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14400" y="4013280"/>
            <a:ext cx="1085760" cy="1625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875640" y="4351320"/>
            <a:ext cx="942840" cy="1187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162400" y="1496880"/>
            <a:ext cx="33339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8520" y="2282760"/>
            <a:ext cx="4035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788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á amamantando por 6 semanas o me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16520" y="1371600"/>
            <a:ext cx="47275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Podemos determinar si puede usar los implantes de Norplant sin riesgos. Por lo general, las mujeres que presentan cualquiera de estas condiciones médicas de salud deben usar otro método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9907560" cy="118260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Quién puede y quién no puede us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los impla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6520" y="2313000"/>
            <a:ext cx="4727520" cy="446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ídale que regrese cuando el bebé tenga 6 semanas de nacido.  Exhórtela a que continúe amamantan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962680"/>
            <a:ext cx="9906120" cy="919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02120" y="6108840"/>
            <a:ext cx="4372200" cy="6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la clienta no puede usar los implantes: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yúdela a elegir otro méto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2760" y="6103800"/>
            <a:ext cx="3886200" cy="725760"/>
          </a:xfrm>
          <a:prstGeom prst="downArrowCallout">
            <a:avLst>
              <a:gd name="adj1" fmla="val 535516"/>
              <a:gd name="adj2" fmla="val 267733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i la clienta puede usar los implantes: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aya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6560" y="30891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46560" y="23828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4080" y="40320"/>
            <a:ext cx="1143000" cy="762840"/>
            <a:chOff x="154080" y="40320"/>
            <a:chExt cx="1143000" cy="762840"/>
          </a:xfrm>
        </p:grpSpPr>
        <p:sp>
          <p:nvSpPr>
            <p:cNvPr id="179" name=""/>
            <p:cNvSpPr/>
            <p:nvPr/>
          </p:nvSpPr>
          <p:spPr>
            <a:xfrm>
              <a:off x="154080" y="5868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0600" y="4032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66920" y="25416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109440" y="1438200"/>
            <a:ext cx="46101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88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3300"/>
                </a:solidFill>
                <a:latin typeface="Arial"/>
              </a:rPr>
              <a:t>La mayoría de las mujeres pueden usar los implantes con toda seguridad. Pero, en general, una mujer no podrá usar los implantes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381960" y="6491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82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8520" y="3581280"/>
            <a:ext cx="4267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95000"/>
              </a:lnSpc>
              <a:spcBef>
                <a:spcPts val="224"/>
              </a:spcBef>
              <a:spcAft>
                <a:spcPts val="3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senta ciertos problemas graves de 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6520" y="4046400"/>
            <a:ext cx="4726080" cy="180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spcBef>
                <a:spcPts val="249"/>
              </a:spcBef>
              <a:spcAft>
                <a:spcPts val="18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iene coágulos de sangre en los pulmones o coágulo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ofundos en las piernas. Las mujeres con coágulos superficiales (incluidas las varices) sí PUEDEN usar los impla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49"/>
              </a:spcBef>
              <a:spcAft>
                <a:spcPts val="18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ha tenido alguna vez cáncer de mam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49"/>
              </a:spcBef>
              <a:spcAft>
                <a:spcPts val="18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iene sangrado vaginal inexplicable: Si el sangrado sugiere la presencia de una condición grave, ayúdele a elegir un método no hormonal para que use hasta que pueda evaluarse la causa del sangr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49"/>
              </a:spcBef>
              <a:spcAft>
                <a:spcPts val="18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iene una enfermedad hepática grave o ictericia (piel u ojos amarillento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5000"/>
              </a:lnSpc>
              <a:spcBef>
                <a:spcPts val="249"/>
              </a:spcBef>
              <a:spcAft>
                <a:spcPts val="437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oma medicamentos para la tuberculosis (TB), para infecciones fúngicas o para la epilepsia (convulsiones o ataques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46560" y="408924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8520" y="3003480"/>
            <a:ext cx="4267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177840" indent="-17784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ede estar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920" y="568008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000" y="4141800"/>
            <a:ext cx="4170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r lo general, no debe usar los implantes si presenta cualquiera de estas condiciones médicas serias (si tiene dudas, verifique el manual o refiérala a otro centro asistenci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6520" y="3002040"/>
            <a:ext cx="4745160" cy="495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5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tiene dudas, use la lista de verificación del embarazo en el Apéndice 1 ó haga una prueba de embarazo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1440"/>
            <a:ext cx="9917280" cy="6496200"/>
            <a:chOff x="0" y="1440"/>
            <a:chExt cx="9917280" cy="6496200"/>
          </a:xfrm>
        </p:grpSpPr>
        <p:sp>
          <p:nvSpPr>
            <p:cNvPr id="192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000000"/>
                  </a:solidFill>
                  <a:latin typeface="Arial"/>
                </a:rPr>
                <a:t>Efectos secundarios posible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766000">
              <a:off x="5505480" y="2249280"/>
              <a:ext cx="1447920" cy="106668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313240" y="2492280"/>
              <a:ext cx="1949400" cy="12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28600" y="2138400"/>
              <a:ext cx="4000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7200" indent="-187200">
                <a:lnSpc>
                  <a:spcPct val="95000"/>
                </a:lnSpc>
                <a:spcBef>
                  <a:spcPts val="689"/>
                </a:spcBef>
                <a:spcAft>
                  <a:spcPts val="1375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ff3300"/>
                  </a:solidFill>
                  <a:latin typeface="Arial"/>
                </a:rPr>
                <a:t>Muy común: </a:t>
              </a:r>
              <a:br>
                <a:rPr sz="2200"/>
              </a:b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Manchado o sangrado lev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3281400"/>
              <a:ext cx="56386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7200" indent="-187200">
                <a:lnSpc>
                  <a:spcPct val="95000"/>
                </a:lnSpc>
                <a:spcBef>
                  <a:spcPts val="689"/>
                </a:spcBef>
                <a:spcAft>
                  <a:spcPts val="1375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ff3300"/>
                  </a:solidFill>
                  <a:latin typeface="Arial"/>
                </a:rPr>
                <a:t>Común:</a:t>
              </a: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200"/>
              </a:b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Sangrado irregular, ausencia de menstruacion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00" y="4043520"/>
              <a:ext cx="5638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7200" indent="-187200">
                <a:lnSpc>
                  <a:spcPct val="95000"/>
                </a:lnSpc>
                <a:spcBef>
                  <a:spcPts val="689"/>
                </a:spcBef>
                <a:spcAft>
                  <a:spcPts val="1375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ff3300"/>
                  </a:solidFill>
                  <a:latin typeface="Arial"/>
                </a:rPr>
                <a:t>Menos común:</a:t>
              </a: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 algunos otr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545160" y="4869000"/>
              <a:ext cx="3081600" cy="13017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ff3300"/>
                  </a:solidFill>
                  <a:latin typeface="Arial"/>
                </a:rPr>
                <a:t>¿Cómo se sentiría si tuviera estos efectos secundario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6105600" y="5373720"/>
              <a:ext cx="144756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212760" y="1211400"/>
              <a:ext cx="970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3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200" spc="-1" strike="noStrike">
                  <a:solidFill>
                    <a:srgbClr val="ff3300"/>
                  </a:solidFill>
                  <a:latin typeface="Arial"/>
                </a:rPr>
                <a:t>Si elige este método, es posible que sienta algunos efectos </a:t>
              </a:r>
              <a:br>
                <a:rPr sz="2200"/>
              </a:br>
              <a:r>
                <a:rPr b="1" i="1" lang="es-ES_tradnl" sz="2200" spc="-1" strike="noStrike">
                  <a:solidFill>
                    <a:srgbClr val="ff3300"/>
                  </a:solidFill>
                  <a:latin typeface="Arial"/>
                </a:rPr>
                <a:t>secundarios. En general, no son signos de una enfermedad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305240" y="2590920"/>
            <a:ext cx="5475240" cy="86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Es importante explicar los cambios en la menstruación:</a:t>
            </a:r>
            <a:r>
              <a:rPr b="1" lang="es-ES" sz="1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os cambios son comunes y por lo  tanto son de esperars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menorrea (ausencia de menstruaciones):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No afecta la fecundidad de manera permanente. Rara vez es un signo de embarazo. Explique que la sangre no se acumula en el cuerp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fectos secundarios pos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5791320"/>
            <a:ext cx="990612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La clienta entiende los efectos secundarios? ¿Está preparada para usar este méto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6143760"/>
            <a:ext cx="4267440" cy="685800"/>
          </a:xfrm>
          <a:prstGeom prst="downArrowCallout">
            <a:avLst>
              <a:gd name="adj1" fmla="val 622315"/>
              <a:gd name="adj2" fmla="val 311128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se a la página siguien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10080" y="6143760"/>
            <a:ext cx="388620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ble más respecto a los implantes o considere el uso d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00440" y="19620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28520" y="-1080"/>
            <a:ext cx="1143000" cy="762840"/>
            <a:chOff x="128520" y="-1080"/>
            <a:chExt cx="1143000" cy="762840"/>
          </a:xfrm>
        </p:grpSpPr>
        <p:sp>
          <p:nvSpPr>
            <p:cNvPr id="208" name=""/>
            <p:cNvSpPr/>
            <p:nvPr/>
          </p:nvSpPr>
          <p:spPr>
            <a:xfrm>
              <a:off x="128520" y="1728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5040" y="-108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441360" y="21276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597560" y="1295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82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05240" y="936720"/>
            <a:ext cx="5475240" cy="1584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Puede pasar un tiempo antes de que su cuerpo se adapte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reacciones a los métodos varían de una mujer a otra.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Hable acerca de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Si usted tuviera estos efectos secundarios, </a:t>
            </a:r>
            <a:br>
              <a:rPr sz="1000"/>
            </a:b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 ¿Qué le parecería o cómo se sentiría al respecto?”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¿Qué implicarían para usted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¿Qué haría?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able acerca de cualquier rumor o inquietud. Vea el Apéndice 10 acerca de los mit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05240" y="3559320"/>
            <a:ext cx="5475240" cy="122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Efectos secundarios menos comun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olores de cabeza, dolor en el abdomen bajo, mareos, sensibilidad al tacto en los senos, malestar estomacal (náuseas), nerviosism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los dolores de cabeza puede tomar paracetamol o ibuprofen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Efectos secundarios poco comun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né o erupción cutánea, cambios en el apetito, aumento de peso, pérdida del cabello o más vello en la ca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962560" y="1693800"/>
            <a:ext cx="597240" cy="468360"/>
            <a:chOff x="8962560" y="1693800"/>
            <a:chExt cx="597240" cy="468360"/>
          </a:xfrm>
        </p:grpSpPr>
        <p:sp>
          <p:nvSpPr>
            <p:cNvPr id="217" name=""/>
            <p:cNvSpPr/>
            <p:nvPr/>
          </p:nvSpPr>
          <p:spPr>
            <a:xfrm flipH="1">
              <a:off x="8962200" y="1693800"/>
              <a:ext cx="576360" cy="468360"/>
            </a:xfrm>
            <a:prstGeom prst="rect">
              <a:avLst/>
            </a:prstGeom>
            <a:solidFill>
              <a:srgbClr val="83e3a8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3"/>
            <a:stretch/>
          </p:blipFill>
          <p:spPr>
            <a:xfrm>
              <a:off x="8977320" y="1702080"/>
              <a:ext cx="582480" cy="44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4303800" y="4869000"/>
            <a:ext cx="5475240" cy="82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noAutofit/>
          </a:bodyPr>
          <a:p>
            <a:pPr marL="114480" indent="-114480">
              <a:lnSpc>
                <a:spcPct val="90000"/>
              </a:lnSpc>
              <a:spcBef>
                <a:spcPts val="2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vite a la clienta a regresar en cualquier momento que necesite ayu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Es aceptable cambiar de método cuando así lo desee. Por favor regrese si desea que se le retiren los implantes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tratar el tema de los efectos secundarios, vaya a la pestaña Usuaria/o de un anticonceptiv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8520" y="2060640"/>
            <a:ext cx="4419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10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Muy común: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chado o sangrado l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2728800"/>
            <a:ext cx="44640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5000"/>
              </a:lnSpc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omú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angrado irre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usencia de la menstr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3160" y="3959280"/>
            <a:ext cx="4419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7200" indent="-187200">
              <a:lnSpc>
                <a:spcPct val="90000"/>
              </a:lnSpc>
              <a:spcBef>
                <a:spcPts val="56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Menos comunes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gunos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8964720" y="1166760"/>
            <a:ext cx="596520" cy="468360"/>
            <a:chOff x="8964720" y="1166760"/>
            <a:chExt cx="596520" cy="468360"/>
          </a:xfrm>
        </p:grpSpPr>
        <p:sp>
          <p:nvSpPr>
            <p:cNvPr id="224" name=""/>
            <p:cNvSpPr/>
            <p:nvPr/>
          </p:nvSpPr>
          <p:spPr>
            <a:xfrm>
              <a:off x="8964720" y="1166760"/>
              <a:ext cx="596520" cy="468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9119160" y="1214280"/>
              <a:ext cx="29880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"/>
          <p:cNvSpPr/>
          <p:nvPr/>
        </p:nvSpPr>
        <p:spPr>
          <a:xfrm rot="1882200">
            <a:off x="3732120" y="253476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28880" y="3973680"/>
            <a:ext cx="381240" cy="304560"/>
          </a:xfrm>
          <a:prstGeom prst="rightArrow">
            <a:avLst>
              <a:gd name="adj1" fmla="val 44444"/>
              <a:gd name="adj2" fmla="val 48680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624880" y="5672160"/>
            <a:ext cx="504720" cy="409680"/>
            <a:chOff x="8624880" y="5672160"/>
            <a:chExt cx="504720" cy="409680"/>
          </a:xfrm>
        </p:grpSpPr>
        <p:sp>
          <p:nvSpPr>
            <p:cNvPr id="229" name=""/>
            <p:cNvSpPr/>
            <p:nvPr/>
          </p:nvSpPr>
          <p:spPr>
            <a:xfrm>
              <a:off x="8624880" y="5672160"/>
              <a:ext cx="504720" cy="409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8747280" y="5781960"/>
              <a:ext cx="293040" cy="21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3728880" y="305424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0160" y="83664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3300"/>
                </a:solidFill>
                <a:latin typeface="Arial"/>
              </a:rPr>
              <a:t>Si elige este método, es posible que sienta algunos efectos secundarios. En general, no son signos de una enferme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2920" y="5492880"/>
            <a:ext cx="175428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1440"/>
            <a:ext cx="9907560" cy="6307200"/>
            <a:chOff x="0" y="1440"/>
            <a:chExt cx="9907560" cy="6307200"/>
          </a:xfrm>
        </p:grpSpPr>
        <p:sp>
          <p:nvSpPr>
            <p:cNvPr id="235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"/>
                </a:rPr>
                <a:t>Inserción y extracción del implante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4920" y="1468440"/>
              <a:ext cx="4991040" cy="46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marL="227160" indent="-22716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a inserción y extracción debe ser rápida y fáci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7160" indent="-22716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a inyección suprime el dol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7160" indent="-22716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a/el proveedor implanta 6 cápsulas debajo de la piel de la parte superior interna del braz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7160" indent="-22716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La/el proveedor coloca un vendaje en la incisión de la piel y lo envuelve alrededor del brazo. </a:t>
              </a:r>
              <a:br>
                <a:rPr sz="2200"/>
              </a:b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No hay necesidad de sutura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7160" indent="-227160">
                <a:lnSpc>
                  <a:spcPct val="90000"/>
                </a:lnSpc>
                <a:spcBef>
                  <a:spcPts val="1925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00"/>
                  </a:solidFill>
                  <a:latin typeface="Arial"/>
                </a:rPr>
                <a:t>Deben extraerse después de 4 a 7 años, según el peso de la clien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5806800" y="1118520"/>
              <a:ext cx="3832200" cy="2853000"/>
              <a:chOff x="5806800" y="1118520"/>
              <a:chExt cx="3832200" cy="2853000"/>
            </a:xfrm>
          </p:grpSpPr>
          <p:sp>
            <p:nvSpPr>
              <p:cNvPr id="238" name=""/>
              <p:cNvSpPr/>
              <p:nvPr/>
            </p:nvSpPr>
            <p:spPr>
              <a:xfrm rot="21209400">
                <a:off x="5905080" y="1317240"/>
                <a:ext cx="3623760" cy="1945440"/>
              </a:xfrm>
              <a:prstGeom prst="ellipse">
                <a:avLst/>
              </a:prstGeom>
              <a:solidFill>
                <a:srgbClr val="f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75640" y="1358280"/>
                <a:ext cx="3663360" cy="2613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0" name=""/>
            <p:cNvGrpSpPr/>
            <p:nvPr/>
          </p:nvGrpSpPr>
          <p:grpSpPr>
            <a:xfrm>
              <a:off x="5259240" y="3995640"/>
              <a:ext cx="1189080" cy="1809720"/>
              <a:chOff x="5259240" y="3995640"/>
              <a:chExt cx="1189080" cy="1809720"/>
            </a:xfrm>
          </p:grpSpPr>
          <p:sp>
            <p:nvSpPr>
              <p:cNvPr id="241" name=""/>
              <p:cNvSpPr/>
              <p:nvPr/>
            </p:nvSpPr>
            <p:spPr>
              <a:xfrm>
                <a:off x="5330880" y="3995640"/>
                <a:ext cx="1117440" cy="1728720"/>
              </a:xfrm>
              <a:prstGeom prst="ellipse">
                <a:avLst/>
              </a:prstGeom>
              <a:solidFill>
                <a:srgbClr val="ffb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59240" y="4066920"/>
                <a:ext cx="1028880" cy="17384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3" name=""/>
            <p:cNvSpPr/>
            <p:nvPr/>
          </p:nvSpPr>
          <p:spPr>
            <a:xfrm>
              <a:off x="6591240" y="4807080"/>
              <a:ext cx="3103560" cy="15015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¿Está preparada para usar este método? ¿Tiene pregunta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6081840" y="5362560"/>
              <a:ext cx="1218960" cy="94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5919840"/>
            <a:ext cx="9909000" cy="946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¿La clienta entiende el procedimiento de inserción y extracción de los implantes? ¿Está preparada para usar el méto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erción y extracción de los impl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06920" y="874800"/>
            <a:ext cx="5186520" cy="82080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Explique que una/un profesional con capacitación especializada efectuará el procedimient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or lo general la inserción lleva de 5 a 10 minuto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Usualmente la extracción lleva alrededor de 15 minutos y, a veces, un poco má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06920" y="1755720"/>
            <a:ext cx="5186520" cy="4669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ermita que la clienta examine una cápsula de muestr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es posible, enséñele una foto de las cápsulas debajo de la pi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06920" y="2763720"/>
            <a:ext cx="5192640" cy="113832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1592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inserción y extracción se hacen con mucho cuidad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e realiza simplemente una abertura pequeña en la piel. Es posible que tenga un dolor leve, hinchazón o hematoma por unos dí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Mantenga el área seca por 5 días. El vendaje se puede retirar</a:t>
            </a:r>
            <a:r>
              <a:rPr b="1" lang="es-ES" sz="12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a los 5 día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5920" indent="-115920">
              <a:lnSpc>
                <a:spcPct val="90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Por favor regrese si el brazo le duele por más de 5 días o si se pone rojo o tiene un líquido amarillento”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9160" y="1023840"/>
            <a:ext cx="3776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nserción y la extracción debe ser rápida y fác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4800600"/>
            <a:ext cx="381240" cy="304920"/>
          </a:xfrm>
          <a:prstGeom prst="rightArrow">
            <a:avLst>
              <a:gd name="adj1" fmla="val 44444"/>
              <a:gd name="adj2" fmla="val 4862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59360" y="2330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9656600">
            <a:off x="4059360" y="358416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25280" y="43200"/>
            <a:ext cx="1143000" cy="762840"/>
            <a:chOff x="125280" y="43200"/>
            <a:chExt cx="1143000" cy="762840"/>
          </a:xfrm>
        </p:grpSpPr>
        <p:sp>
          <p:nvSpPr>
            <p:cNvPr id="255" name=""/>
            <p:cNvSpPr/>
            <p:nvPr/>
          </p:nvSpPr>
          <p:spPr>
            <a:xfrm>
              <a:off x="12528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1800" y="4320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438120" y="25704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4603680" y="2279520"/>
            <a:ext cx="5194440" cy="433440"/>
          </a:xfrm>
          <a:prstGeom prst="rect">
            <a:avLst/>
          </a:prstGeom>
          <a:solidFill>
            <a:srgbClr val="cc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Un anestésico local suprime el dolor durante la inserción. La clienta permanece despier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9360" y="10494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3963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I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99000" y="3954600"/>
            <a:ext cx="5199120" cy="1893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  <a:ea typeface="Arial"/>
              </a:rPr>
              <a:t>¿Cuándo se extraen o reemplazan los implantes?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os implantes Norplant deben extraerse o reemplazarse de 4 a 7 años después de su inserción, según el peso de la clienta, ya que el método se vuelve menos eficaz en las mujeres de mayor peso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-856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pesa menos de 70 Kg.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clienta puede tener los implantes en su lugar hasta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por 7 años, a menos que su peso aumente a 70 Kg. o má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-856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pesa entre 70 y 79 Kg.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clienta debe regresar después de 5 años para que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se le extraigan los implantes, a menos que su peso aumente a 80 Kg. o má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66760" indent="-85680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—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Si pesa 80 Kg. o más: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La clienta debe regresar después de 4 años para que se le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 extraigan los implan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Arial"/>
              </a:rPr>
              <a:t>Después de la extracción, la mujer puede recibir nuevos implantes o cambiar de méto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8520" y="2306520"/>
            <a:ext cx="3781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 inyección suprime el d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9160" y="2651040"/>
            <a:ext cx="44434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/el proveedor implanta 6 cápsulas debajo de la piel en la parte superior interna del br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9160" y="3456000"/>
            <a:ext cx="40305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La/el proveedor pone un vendaje sobre la incisión y lo envuelve alrededor del brazo. No hay necesidad de sutu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8520" y="4673520"/>
            <a:ext cx="3652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227160" indent="-227160">
              <a:lnSpc>
                <a:spcPct val="90000"/>
              </a:lnSpc>
              <a:spcBef>
                <a:spcPts val="1576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Necesitan extraerse después de 4 a 7 años, según el peso de la cli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59360" y="4616280"/>
            <a:ext cx="380880" cy="304920"/>
          </a:xfrm>
          <a:prstGeom prst="rightArrow">
            <a:avLst>
              <a:gd name="adj1" fmla="val 44444"/>
              <a:gd name="adj2" fmla="val 4857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59360" y="319104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8769240" y="6208560"/>
            <a:ext cx="576000" cy="468360"/>
            <a:chOff x="8769240" y="6208560"/>
            <a:chExt cx="576000" cy="468360"/>
          </a:xfrm>
        </p:grpSpPr>
        <p:sp>
          <p:nvSpPr>
            <p:cNvPr id="269" name=""/>
            <p:cNvSpPr/>
            <p:nvPr/>
          </p:nvSpPr>
          <p:spPr>
            <a:xfrm>
              <a:off x="8769240" y="6208560"/>
              <a:ext cx="576000" cy="468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8908920" y="6334200"/>
              <a:ext cx="334800" cy="24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1" name=""/>
          <p:cNvSpPr/>
          <p:nvPr/>
        </p:nvSpPr>
        <p:spPr>
          <a:xfrm>
            <a:off x="990720" y="6216480"/>
            <a:ext cx="3962160" cy="597240"/>
          </a:xfrm>
          <a:prstGeom prst="downArrowCallout">
            <a:avLst>
              <a:gd name="adj1" fmla="val 663472"/>
              <a:gd name="adj2" fmla="val 331705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ha decidido usar el método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pase a la página sigu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9240" y="6216480"/>
            <a:ext cx="3438720" cy="514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Si no es así,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hable más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cerc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Norplant o considere otros méto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42920" y="5607000"/>
            <a:ext cx="1754280" cy="304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0" y="1440"/>
            <a:ext cx="9907560" cy="6323040"/>
            <a:chOff x="0" y="1440"/>
            <a:chExt cx="9907560" cy="6323040"/>
          </a:xfrm>
        </p:grpSpPr>
        <p:sp>
          <p:nvSpPr>
            <p:cNvPr id="275" name=""/>
            <p:cNvSpPr/>
            <p:nvPr/>
          </p:nvSpPr>
          <p:spPr>
            <a:xfrm rot="34800">
              <a:off x="6238440" y="1884240"/>
              <a:ext cx="2789280" cy="2079720"/>
            </a:xfrm>
            <a:prstGeom prst="ellipse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1440"/>
              <a:ext cx="9907560" cy="1011240"/>
            </a:xfrm>
            <a:prstGeom prst="rect">
              <a:avLst/>
            </a:prstGeom>
            <a:solidFill>
              <a:srgbClr val="ffb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400" spc="-1" strike="noStrike">
                  <a:solidFill>
                    <a:srgbClr val="000000"/>
                  </a:solidFill>
                  <a:latin typeface="Arial"/>
                </a:rPr>
                <a:t>Es posible que pueda empezar hoy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537240" y="1990800"/>
              <a:ext cx="2486160" cy="41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04920" y="2171880"/>
              <a:ext cx="47242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3680" indent="-193680">
                <a:lnSpc>
                  <a:spcPct val="100000"/>
                </a:lnSpc>
                <a:spcAft>
                  <a:spcPts val="1199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uede empezar cualquier día del ciclo menstrual si podemos estar seguras/os de que no está embaraz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3680" indent="-193680">
                <a:lnSpc>
                  <a:spcPct val="100000"/>
                </a:lnSpc>
                <a:spcAft>
                  <a:spcPts val="1199"/>
                </a:spcAft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0880" y="4978440"/>
              <a:ext cx="5181840" cy="990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ff3300"/>
                  </a:solidFill>
                  <a:latin typeface="Arial"/>
                </a:rPr>
                <a:t>¿Le gustaría empezar ahora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0" name="" descr=""/>
            <p:cNvPicPr/>
            <p:nvPr/>
          </p:nvPicPr>
          <p:blipFill>
            <a:blip r:embed="rId2"/>
            <a:stretch/>
          </p:blipFill>
          <p:spPr>
            <a:xfrm>
              <a:off x="228600" y="5200560"/>
              <a:ext cx="144792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1440"/>
            <a:ext cx="9907560" cy="838440"/>
          </a:xfrm>
          <a:prstGeom prst="rect">
            <a:avLst/>
          </a:prstGeom>
          <a:solidFill>
            <a:srgbClr val="ffb3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3800" spc="-1" strike="noStrike">
                <a:solidFill>
                  <a:srgbClr val="000000"/>
                </a:solidFill>
                <a:latin typeface="Arial"/>
              </a:rPr>
              <a:t>Es posible que pueda empezar ho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427880" y="424800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5791320"/>
            <a:ext cx="9909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¿La clienta está preparada para empezar ahor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1157400"/>
            <a:ext cx="380880" cy="304560"/>
          </a:xfrm>
          <a:prstGeom prst="rightArrow">
            <a:avLst>
              <a:gd name="adj1" fmla="val 44444"/>
              <a:gd name="adj2" fmla="val 48634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82520" y="43200"/>
            <a:ext cx="1143000" cy="762840"/>
            <a:chOff x="182520" y="43200"/>
            <a:chExt cx="1143000" cy="762840"/>
          </a:xfrm>
        </p:grpSpPr>
        <p:sp>
          <p:nvSpPr>
            <p:cNvPr id="286" name=""/>
            <p:cNvSpPr/>
            <p:nvPr/>
          </p:nvSpPr>
          <p:spPr>
            <a:xfrm>
              <a:off x="182520" y="61560"/>
              <a:ext cx="1143000" cy="7444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9040" y="43200"/>
              <a:ext cx="10126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mpla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495360" y="256680"/>
              <a:ext cx="47628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792000" y="6040440"/>
            <a:ext cx="3726000" cy="743040"/>
          </a:xfrm>
          <a:prstGeom prst="downArrowCallout">
            <a:avLst>
              <a:gd name="adj1" fmla="val 501499"/>
              <a:gd name="adj2" fmla="val 250726"/>
              <a:gd name="adj3" fmla="val 33333"/>
              <a:gd name="adj4" fmla="val 66667"/>
            </a:avLst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6600cc"/>
                </a:solidFill>
                <a:latin typeface="Arial"/>
              </a:rPr>
              <a:t>Si es así,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serte los implantes o haga preparativos para realizar la inserción lo más pronto po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18080" y="6039000"/>
            <a:ext cx="4716360" cy="7268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 no es así, programe otra consulta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durante la siguiente menstruación sería el mejor momento).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Entréguele condon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ara que los use hasta entonces. Explíquele cómo se us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280" y="1103400"/>
            <a:ext cx="286560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empezar cualquier día del ciclo menstrual si podem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r seguras/os de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no está embara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Aft>
                <a:spcPts val="901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-127080" y="591192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9381960" y="6464160"/>
            <a:ext cx="457200" cy="355680"/>
          </a:xfrm>
          <a:prstGeom prst="ellipse">
            <a:avLst/>
          </a:prstGeom>
          <a:solidFill>
            <a:srgbClr val="ffb3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MP</a:t>
            </a:r>
            <a:br>
              <a:rPr sz="1200"/>
            </a:b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98920" y="865080"/>
            <a:ext cx="6192720" cy="1508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la menstruación le comenzó en los últimos 7 día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AHORA a usar los implantes sin necesidad de protección adicional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la menstruación le comenzó hace más de 7 días o si tiene amenorrea (ausencia de la menstruación)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AHORA si usted está razonablemente segura/o de que no está embarazada (use l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sta de comprobación del Apéndice 1).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hace falta que espere hasta la siguiente menstru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recibir los implante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lienta debe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vitar tener relaciones sexuales o debe usar condones por 7 días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después de la </a:t>
            </a:r>
            <a:br>
              <a:rPr sz="1000"/>
            </a:b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inserción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98920" y="4681440"/>
            <a:ext cx="6192720" cy="106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Si está cambiando de méto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cambiando de las píldoras, ahora es el momento más indicado para comenzar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cambiando de los inyectables, debería empezar en el momento en que hubiera recibido la siguiente inyec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87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está usando el DIU, y la menstruación le comenzó hace más de 7 días, puede empezar ahora pero debe dejar el DIU en su lugar hasta la siguiente menstruació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98920" y="2446200"/>
            <a:ext cx="6192720" cy="151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l parto y si está amamantan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está amamantando en forma exclusiva (o casi exclusiva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puede empezar a las 6 semanas de haber dado a luz. No necesitará protección adicional si se encuentra entre las 6 semanas y 6 meses de haber dado a luz y todavía no le ha vuelto la menstru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 sólo está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amamantando parcialmente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, es mejor empezar a las 6 semanas de haber dado a luz. Si espera más tiempo corre el riesgo de quedar embaraz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l parto y si NO está amamantan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empezar inmediatamente después de dar a luz sin necesidad de protección adicional. Si se encuentra en las primeras 4 semanas de haber dado a luz, no necesita protección adici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98920" y="4030560"/>
            <a:ext cx="6192720" cy="57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>
              <a:lnSpc>
                <a:spcPct val="95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3300"/>
                </a:solidFill>
                <a:latin typeface="Arial"/>
              </a:rPr>
              <a:t>Después de un aborto espontáneo o inducido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95000"/>
              </a:lnSpc>
              <a:spcBef>
                <a:spcPts val="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comenzar inmediatamente después de un aborto. Si se encuentra en los primeros 7 días después de un aborto, no necesita protección adici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2920" y="5484960"/>
            <a:ext cx="1754280" cy="3045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Paso siguient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9:29:07Z</dcterms:created>
  <dc:creator>JohnsonS</dc:creator>
  <dc:description/>
  <dc:language>en-US</dc:language>
  <cp:lastModifiedBy>hamillc</cp:lastModifiedBy>
  <cp:lastPrinted>2003-07-18T11:23:00Z</cp:lastPrinted>
  <dcterms:modified xsi:type="dcterms:W3CDTF">2006-10-20T13:47:39Z</dcterms:modified>
  <cp:revision>985</cp:revision>
  <dc:subject/>
  <dc:title>No Slide Title</dc:title>
</cp:coreProperties>
</file>