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3E320-C0DE-46A7-91B7-6ADFC3F9DA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either spermicides or diaphragms are not available, can remove reference to them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360" y="4653000"/>
            <a:ext cx="42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'est la femme qui le met mais son utilisation doit être discutée avec le partenair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360" y="3357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Utilisable seul ou en même temps que d'autres méthodes de planification famil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360" y="42210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oûte parfois 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e préservatif fémin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1640" y="3700440"/>
            <a:ext cx="46785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prévient peut-être plus efficacement la grossesse lorsqu'il est associé à une autre méthode (à l'exception du préservatif masculin, impossible à utiliser dans ce ca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On peut également l'utiliser comme solution de secours en cas d'oubli de la pilule ou de retard dans les inje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1640" y="4643280"/>
            <a:ext cx="467856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lus coûteux et moins facile à obtenir que le préservatif masculi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360" y="141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ontribue à éviter la grossesse ET à protéger des IST et du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834160"/>
            <a:ext cx="9906120" cy="102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Voulez-vous en savoir plus sur le préservatif féminin ou préférez-vous parler d'une autre méthode ?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146640"/>
            <a:ext cx="3733920" cy="684360"/>
          </a:xfrm>
          <a:prstGeom prst="downArrowCallout">
            <a:avLst>
              <a:gd name="adj1" fmla="val 545658"/>
              <a:gd name="adj2" fmla="val 27280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i la cliente veut en savoir plus sur le préservatif féminin,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passez à la page suiva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2360" y="28353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189200">
            <a:off x="4635360" y="46054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600" y="47520"/>
            <a:ext cx="1193760" cy="717480"/>
            <a:chOff x="12600" y="47520"/>
            <a:chExt cx="1193760" cy="717480"/>
          </a:xfrm>
        </p:grpSpPr>
        <p:grpSp>
          <p:nvGrpSpPr>
            <p:cNvPr id="56" name=""/>
            <p:cNvGrpSpPr/>
            <p:nvPr/>
          </p:nvGrpSpPr>
          <p:grpSpPr>
            <a:xfrm>
              <a:off x="12600" y="47520"/>
              <a:ext cx="1193760" cy="717480"/>
              <a:chOff x="12600" y="47520"/>
              <a:chExt cx="1193760" cy="717480"/>
            </a:xfrm>
          </p:grpSpPr>
          <p:sp>
            <p:nvSpPr>
              <p:cNvPr id="57" name=""/>
              <p:cNvSpPr/>
              <p:nvPr/>
            </p:nvSpPr>
            <p:spPr>
              <a:xfrm>
                <a:off x="63360" y="4752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600" y="138960"/>
                <a:ext cx="113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Préservatif fémin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896760" y="7920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360" y="24922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Efficace si vous l'utilisez CHAQUE FOIS que vous avez des rapports sexu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2360" y="38275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2360" y="17859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49400">
            <a:off x="4592520" y="50688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95800" y="909720"/>
            <a:ext cx="46944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 propos du préservatif féminin :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Gaine en plastique lâche à mettre dans le vagin avant le rapport sexue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n'y a pas de contre-indication médicale à son utilisation (il n'est PAS en latex). Il ne provoque pas de réactions allergiqu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46720" y="6858000"/>
            <a:ext cx="1353960" cy="438120"/>
          </a:xfrm>
          <a:prstGeom prst="rect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éservatif fémi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95800" y="1852560"/>
            <a:ext cx="4694400" cy="84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Il faut utiliser un préservatif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on craint d'avoir une IST (y compris à VIH) ou que son partenaire n'en ait u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on a plusieurs partenaires sexuels ou si on craint que son partenaire n'ait plusieurs partenaires sexue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5800" y="2776680"/>
            <a:ext cx="4694400" cy="84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e préservatif est utilisé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correctement et systématiquement,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prévient efficacement la grossesse, l'infection à VIH et les autres IS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prévient peut-être moins efficacement la grossesse, l'infection à VIH et les autres IST que le préservatif masculi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est préférable de le mettre avant tout contact sexuel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95800" y="5013360"/>
            <a:ext cx="469440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Si le partenaire ne veut pas utiliser de préservatif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Nous pouvons discuter de ce que vous pourriez dire et faire </a:t>
            </a:r>
            <a:br>
              <a:rPr sz="1100"/>
            </a:b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un jeu de rôles.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traînez le client à parler avec son partenaire. Consultez l'annexe 9.</a:t>
            </a:r>
            <a:r>
              <a:rPr b="0" lang="fr-CH" sz="11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0400" y="5000760"/>
            <a:ext cx="597240" cy="468000"/>
            <a:chOff x="9140400" y="5000760"/>
            <a:chExt cx="597240" cy="468000"/>
          </a:xfrm>
        </p:grpSpPr>
        <p:sp>
          <p:nvSpPr>
            <p:cNvPr id="72" name=""/>
            <p:cNvSpPr/>
            <p:nvPr/>
          </p:nvSpPr>
          <p:spPr>
            <a:xfrm flipH="1">
              <a:off x="9140040" y="5000760"/>
              <a:ext cx="576360" cy="46800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9155160" y="5008680"/>
              <a:ext cx="582480" cy="44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5238720" y="6146640"/>
            <a:ext cx="3960720" cy="69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520" y="5545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Mode d'emploi du préservatif fémin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3422520"/>
            <a:ext cx="1779480" cy="1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uvrez délicatement l'emballag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Assurez-vous que l'intérieur du préservatif est bien lubrifié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38440" y="3422520"/>
            <a:ext cx="27432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Choisissez une position confortable – accroupie, une jambe levée, assise ou allongé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19800" y="5300640"/>
            <a:ext cx="259236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Pour enlever le préservatif, attrapez l'anneau extérieur et tirez délicat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Jetez le préservatif à la poubel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65760" y="2752560"/>
            <a:ext cx="3237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Placez délicatement l'anneau intérieur dans le vag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Mettez l'index à l'intérieur du préservatif et poussez l'anneau intérieur au maximum vers le ha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Assurez-vous que l'anneau extérieur est hors du vagin et que le préservatif n'est pas entortillé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Vérifiez que le pénis entre dans le préservatif et y reste pendant tout le ra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5880" y="5051520"/>
            <a:ext cx="2952720" cy="11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Etes-vous prête à choisir cette méthod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7640" y="5400720"/>
            <a:ext cx="1447920" cy="1123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4240" y="3422520"/>
            <a:ext cx="205740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Pressez l'anneau intérieur, à l'extrémité fermé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360" y="2924280"/>
            <a:ext cx="97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Anneau intéri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3400" y="1341360"/>
            <a:ext cx="630360" cy="1676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9680" y="1521000"/>
            <a:ext cx="85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Anneau extéri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000" y="148608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180800" y="26971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520" y="1189080"/>
            <a:ext cx="1447920" cy="213372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680" y="1214280"/>
            <a:ext cx="2412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346640" y="1125360"/>
            <a:ext cx="2128680" cy="2197080"/>
            <a:chOff x="4346640" y="1125360"/>
            <a:chExt cx="2128680" cy="2197080"/>
          </a:xfrm>
        </p:grpSpPr>
        <p:grpSp>
          <p:nvGrpSpPr>
            <p:cNvPr id="92" name=""/>
            <p:cNvGrpSpPr/>
            <p:nvPr/>
          </p:nvGrpSpPr>
          <p:grpSpPr>
            <a:xfrm>
              <a:off x="4417920" y="1188720"/>
              <a:ext cx="2057400" cy="2133720"/>
              <a:chOff x="4417920" y="1188720"/>
              <a:chExt cx="2057400" cy="2133720"/>
            </a:xfrm>
          </p:grpSpPr>
          <p:pic>
            <p:nvPicPr>
              <p:cNvPr id="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8520" y="1545840"/>
                <a:ext cx="18288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417920" y="1188720"/>
                <a:ext cx="2057400" cy="213372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346640" y="1125360"/>
              <a:ext cx="45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159080" y="4941720"/>
            <a:ext cx="2073240" cy="1697040"/>
            <a:chOff x="4159080" y="4941720"/>
            <a:chExt cx="2073240" cy="1697040"/>
          </a:xfrm>
        </p:grpSpPr>
        <p:grpSp>
          <p:nvGrpSpPr>
            <p:cNvPr id="97" name=""/>
            <p:cNvGrpSpPr/>
            <p:nvPr/>
          </p:nvGrpSpPr>
          <p:grpSpPr>
            <a:xfrm>
              <a:off x="4230360" y="5013360"/>
              <a:ext cx="2001960" cy="1625400"/>
              <a:chOff x="4230360" y="5013360"/>
              <a:chExt cx="2001960" cy="1625400"/>
            </a:xfrm>
          </p:grpSpPr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68520" y="5209920"/>
                <a:ext cx="1778040" cy="13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4230360" y="5013360"/>
                <a:ext cx="2001960" cy="162540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159080" y="4941720"/>
              <a:ext cx="45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932520" y="1189080"/>
            <a:ext cx="2743200" cy="147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27960" y="1189080"/>
            <a:ext cx="3125520" cy="15238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69360" y="1620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Anneau intéri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594200" y="156996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85080" y="2239920"/>
            <a:ext cx="91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Extrémité ouv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01080" y="198864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78640" y="1128600"/>
            <a:ext cx="37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6720" y="1128600"/>
            <a:ext cx="45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189080"/>
            <a:ext cx="2590560" cy="213372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882800" y="1225440"/>
            <a:ext cx="22334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52480" y="2247840"/>
            <a:ext cx="17892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oisissez une position confortable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―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ccroupie, une jambe levée, assise ou allongé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Mode d'emploi du préservatif fémin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9680" y="3645000"/>
            <a:ext cx="5027760" cy="18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utiliser un préservatif neuf à chaque rapport sexuel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mettre le préservatif 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avant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que le pénis ne touche le vag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préservatif peut être mis 8 heures à l'avance au maxim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préservatif est lubrifié mais il faut parfois ajouter du lubrifiant (dans le préservatif ou sur le pénis) pour qu'il ne se déplace pas pendant le rapport sex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 la fin du rapport, la femme doit s'éloigner de son partenaire et veiller à ce que le sperme ne pénètre pas dans le vag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jeter le préservatif à la poubel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247840"/>
            <a:ext cx="1606680" cy="13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uvrez délicatement l'emball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ssurez-vous que l'intérieur du préservatif est bien lubrifi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46960" y="2247840"/>
            <a:ext cx="15559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our enlever le préservatif, attrapez l'anneau extérieur et tirez délicat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Jetez le préservatif à la poub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35720" y="2247840"/>
            <a:ext cx="281772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lacez délicatement l'anneau intérieur dans le vag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ettez l'index à l'intérieur du préservatif et poussez l'anneau intérieur au maximum vers le hau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ssurez-vous que l'anneau extérieur est hors du vagin et que le préservatif n'est pas entortillé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érifiez que le pénis entre dans le préservatif et y reste pendant tout le rap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819760"/>
            <a:ext cx="9906120" cy="1049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La cliente comprend-elle comment utiliser le préservatif féminin ? Est-elle prête à choisir cette méthode ?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6161040"/>
            <a:ext cx="4267080" cy="685800"/>
          </a:xfrm>
          <a:prstGeom prst="downArrowCallout">
            <a:avLst>
              <a:gd name="adj1" fmla="val 622262"/>
              <a:gd name="adj2" fmla="val 31110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elle a décidé d'utiliser cette méthod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8240" y="6161040"/>
            <a:ext cx="38862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non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suivez le dialogue ou envisagez d'autres métho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27080" y="5925960"/>
            <a:ext cx="1219320" cy="94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6920" y="2247840"/>
            <a:ext cx="198108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ressez l'anneau intérieur, à l'extrémité ferm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1717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800" spc="-1" strike="noStrike">
                <a:solidFill>
                  <a:srgbClr val="000000"/>
                </a:solidFill>
                <a:latin typeface="Arial"/>
              </a:rPr>
              <a:t>Anneau intérie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955800"/>
            <a:ext cx="1447920" cy="1295280"/>
            <a:chOff x="228600" y="955800"/>
            <a:chExt cx="1447920" cy="12952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838440" y="1108080"/>
              <a:ext cx="31572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28600" y="1320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800" spc="-1" strike="noStrike">
                  <a:solidFill>
                    <a:srgbClr val="000000"/>
                  </a:solidFill>
                  <a:latin typeface="Arial"/>
                </a:rPr>
                <a:t>Anneau extérieu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20" y="12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218960" y="1717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" y="955800"/>
              <a:ext cx="1447920" cy="129528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27160" y="969840"/>
            <a:ext cx="241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b3d9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670200" y="879480"/>
            <a:ext cx="1789200" cy="1371240"/>
            <a:chOff x="3670200" y="879480"/>
            <a:chExt cx="1789200" cy="1371240"/>
          </a:xfrm>
        </p:grpSpPr>
        <p:grpSp>
          <p:nvGrpSpPr>
            <p:cNvPr id="132" name=""/>
            <p:cNvGrpSpPr/>
            <p:nvPr/>
          </p:nvGrpSpPr>
          <p:grpSpPr>
            <a:xfrm>
              <a:off x="3782880" y="955440"/>
              <a:ext cx="1676520" cy="1295280"/>
              <a:chOff x="3782880" y="955440"/>
              <a:chExt cx="1676520" cy="1295280"/>
            </a:xfrm>
          </p:grpSpPr>
          <p:pic>
            <p:nvPicPr>
              <p:cNvPr id="1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02040" y="1014120"/>
                <a:ext cx="1460520" cy="10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782880" y="955440"/>
                <a:ext cx="167652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670200" y="879480"/>
              <a:ext cx="45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8163000" y="879480"/>
            <a:ext cx="1549440" cy="1371240"/>
            <a:chOff x="8163000" y="879480"/>
            <a:chExt cx="1549440" cy="1371240"/>
          </a:xfrm>
        </p:grpSpPr>
        <p:grpSp>
          <p:nvGrpSpPr>
            <p:cNvPr id="137" name=""/>
            <p:cNvGrpSpPr/>
            <p:nvPr/>
          </p:nvGrpSpPr>
          <p:grpSpPr>
            <a:xfrm>
              <a:off x="8264520" y="955440"/>
              <a:ext cx="1447920" cy="1295280"/>
              <a:chOff x="8264520" y="955440"/>
              <a:chExt cx="1447920" cy="12952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61360" y="1096560"/>
                <a:ext cx="126360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8264520" y="955440"/>
                <a:ext cx="144792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8163000" y="879480"/>
              <a:ext cx="453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00600" y="879480"/>
            <a:ext cx="2347920" cy="1373760"/>
            <a:chOff x="5700600" y="879480"/>
            <a:chExt cx="2347920" cy="1373760"/>
          </a:xfrm>
        </p:grpSpPr>
        <p:grpSp>
          <p:nvGrpSpPr>
            <p:cNvPr id="142" name=""/>
            <p:cNvGrpSpPr/>
            <p:nvPr/>
          </p:nvGrpSpPr>
          <p:grpSpPr>
            <a:xfrm>
              <a:off x="5764320" y="955440"/>
              <a:ext cx="2284200" cy="1297800"/>
              <a:chOff x="5764320" y="955440"/>
              <a:chExt cx="2284200" cy="1297800"/>
            </a:xfrm>
          </p:grpSpPr>
          <p:pic>
            <p:nvPicPr>
              <p:cNvPr id="1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64120" y="969840"/>
                <a:ext cx="197928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346080" y="1333440"/>
                <a:ext cx="64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Anneau intérieu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6395400" y="1306080"/>
                <a:ext cx="2282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78360" y="1915920"/>
                <a:ext cx="68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800" spc="-1" strike="noStrike">
                    <a:solidFill>
                      <a:srgbClr val="000000"/>
                    </a:solidFill>
                    <a:latin typeface="Arial"/>
                  </a:rPr>
                  <a:t>Extrémité ouver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5964120" y="1725480"/>
                <a:ext cx="11376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64320" y="955440"/>
                <a:ext cx="228420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700600" y="879480"/>
              <a:ext cx="37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9140760" y="5380200"/>
            <a:ext cx="576360" cy="468000"/>
            <a:chOff x="9140760" y="5380200"/>
            <a:chExt cx="576360" cy="468000"/>
          </a:xfrm>
        </p:grpSpPr>
        <p:sp>
          <p:nvSpPr>
            <p:cNvPr id="151" name=""/>
            <p:cNvSpPr/>
            <p:nvPr/>
          </p:nvSpPr>
          <p:spPr>
            <a:xfrm>
              <a:off x="9140760" y="5380200"/>
              <a:ext cx="576360" cy="46800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>
              <a:off x="9337680" y="5476680"/>
              <a:ext cx="190440" cy="25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8480520" y="5388120"/>
            <a:ext cx="576000" cy="468000"/>
            <a:chOff x="8480520" y="5388120"/>
            <a:chExt cx="576000" cy="468000"/>
          </a:xfrm>
        </p:grpSpPr>
        <p:sp>
          <p:nvSpPr>
            <p:cNvPr id="154" name=""/>
            <p:cNvSpPr/>
            <p:nvPr/>
          </p:nvSpPr>
          <p:spPr>
            <a:xfrm>
              <a:off x="8480520" y="538812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7"/>
            <a:stretch/>
          </p:blipFill>
          <p:spPr>
            <a:xfrm>
              <a:off x="8620200" y="551340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1711440" y="879480"/>
            <a:ext cx="1792080" cy="1371600"/>
            <a:chOff x="1711440" y="879480"/>
            <a:chExt cx="1792080" cy="1371600"/>
          </a:xfrm>
        </p:grpSpPr>
        <p:sp>
          <p:nvSpPr>
            <p:cNvPr id="157" name=""/>
            <p:cNvSpPr/>
            <p:nvPr/>
          </p:nvSpPr>
          <p:spPr>
            <a:xfrm>
              <a:off x="1828800" y="955800"/>
              <a:ext cx="1674720" cy="129528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1440" y="879480"/>
              <a:ext cx="45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2013120" y="992160"/>
              <a:ext cx="1296720" cy="12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12600" y="47520"/>
            <a:ext cx="1193760" cy="717480"/>
            <a:chOff x="12600" y="47520"/>
            <a:chExt cx="1193760" cy="717480"/>
          </a:xfrm>
        </p:grpSpPr>
        <p:grpSp>
          <p:nvGrpSpPr>
            <p:cNvPr id="161" name=""/>
            <p:cNvGrpSpPr/>
            <p:nvPr/>
          </p:nvGrpSpPr>
          <p:grpSpPr>
            <a:xfrm>
              <a:off x="12600" y="47520"/>
              <a:ext cx="1193760" cy="717480"/>
              <a:chOff x="12600" y="47520"/>
              <a:chExt cx="1193760" cy="717480"/>
            </a:xfrm>
          </p:grpSpPr>
          <p:sp>
            <p:nvSpPr>
              <p:cNvPr id="162" name=""/>
              <p:cNvSpPr/>
              <p:nvPr/>
            </p:nvSpPr>
            <p:spPr>
              <a:xfrm>
                <a:off x="63360" y="4752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600" y="138960"/>
                <a:ext cx="113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Préservatif fémin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4" name="" descr=""/>
            <p:cNvPicPr/>
            <p:nvPr/>
          </p:nvPicPr>
          <p:blipFill>
            <a:blip r:embed="rId9"/>
            <a:stretch/>
          </p:blipFill>
          <p:spPr>
            <a:xfrm>
              <a:off x="896760" y="7920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8520" y="554184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21337200">
            <a:off x="4648320" y="2361960"/>
            <a:ext cx="1752480" cy="9903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337200">
            <a:off x="4014720" y="5516640"/>
            <a:ext cx="1427400" cy="12254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337200">
            <a:off x="5211720" y="3504960"/>
            <a:ext cx="2024280" cy="10285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511280"/>
            <a:ext cx="429084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3713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Utilisez un préservatif A CHAQUE rapport sexu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ssurez-vous d'avoir toujours assez de préservati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Si vous n'utilisez pas correctement le préservatif, envisagez le recours dès que possible à la contraception d'urg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Vous pouvez ajouter du lubrifiant, si nécess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337200">
            <a:off x="6095520" y="1320840"/>
            <a:ext cx="2210040" cy="12193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18040" y="1374840"/>
            <a:ext cx="2235240" cy="136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81560" y="3697200"/>
            <a:ext cx="1905120" cy="965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375080" y="5486400"/>
            <a:ext cx="104940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648320" y="2362320"/>
            <a:ext cx="1752480" cy="1096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65880" y="4653000"/>
            <a:ext cx="402264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que je répète ou que je vous explique quelque </a:t>
            </a:r>
            <a:br>
              <a:rPr sz="1800"/>
            </a:b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chose ? Avez-vous des questions à pos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8760" y="2779560"/>
            <a:ext cx="46483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i vous n'utilisez pas correctement le préservatif, envisagez le recours dès que possible à la contraception d'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 reten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295280"/>
            <a:ext cx="4792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tilisez un préservatif A CHAQUE rapport sex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4960" y="2627280"/>
            <a:ext cx="4267080" cy="165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le préservatif ne reste pas en place ou s'il entre à l'intérieur du vagin, il faudra recourir à la contraception d'urgence pour éviter la grosses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Ne pas utiliser si l'emballage est déchiré ou qu'il fuit, ou si le préservatif est desséch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Les clientes ayant éventuellement été exposées au VIH ou à des IST peuvent aussi avoir besoin d'un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traitement prophylactique post-exposition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contre le VIH et/ou d'un traitement présomptif contre les 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17960" y="1295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17960" y="2844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964120"/>
            <a:ext cx="9909000" cy="903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" y="2057400"/>
            <a:ext cx="464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ssurez-vous d'avoir toujours assez de préserv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4960" y="2141640"/>
            <a:ext cx="4267080" cy="403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Approvisionnez-vous en préservatifs 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avant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 de ne plus en avoir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760" y="4435560"/>
            <a:ext cx="464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Vous pouvez ajouter du lubrifiant, si nécess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17960" y="21844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17960" y="44496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4960" y="4365720"/>
            <a:ext cx="426708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ous les préservatifs féminins sont lubrifiés, c'est pourquoi ils paraissent glissants au débu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n peut ajouter du lubrifiant à l'intérieur, si nécessaire. L'ajout de lubrifiant rend les rapports sexuels plus silencieux et plus fac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vec le préservatif féminin, on peut utiliser tous les lubrifi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ermet aussi de réduire les démangeais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816680" y="6215040"/>
            <a:ext cx="576000" cy="468360"/>
            <a:chOff x="7816680" y="6215040"/>
            <a:chExt cx="576000" cy="468360"/>
          </a:xfrm>
        </p:grpSpPr>
        <p:sp>
          <p:nvSpPr>
            <p:cNvPr id="193" name=""/>
            <p:cNvSpPr/>
            <p:nvPr/>
          </p:nvSpPr>
          <p:spPr>
            <a:xfrm>
              <a:off x="7816680" y="62150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956360" y="63406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5484960" y="907920"/>
            <a:ext cx="4248000" cy="11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Pour vous protéger totalement de la grossesse et des IST, vous devez utiliser un préservatif A CHAQUE rapport sexuel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3300"/>
                </a:solidFill>
                <a:latin typeface="Arial"/>
              </a:rPr>
              <a:t>S'il est impossible d'utiliser un préservatif chaque fois,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faut envisager aussi une autre méthode de planification familia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8720" y="6067440"/>
            <a:ext cx="8496360" cy="79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Etes-vous satisfaite de votre choix ? Voulez-vous que je répète ou que je vous explique quelque chose ? </a:t>
            </a:r>
            <a:br>
              <a:rPr sz="1200"/>
            </a:b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Revenez quand vous le souhaitez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  Enfin, le message le plus important :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Utilisez un préservatif chaque fois que vous avez un rapport sexuel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2600" y="60480"/>
            <a:ext cx="1193760" cy="717480"/>
            <a:chOff x="12600" y="60480"/>
            <a:chExt cx="1193760" cy="717480"/>
          </a:xfrm>
        </p:grpSpPr>
        <p:grpSp>
          <p:nvGrpSpPr>
            <p:cNvPr id="198" name=""/>
            <p:cNvGrpSpPr/>
            <p:nvPr/>
          </p:nvGrpSpPr>
          <p:grpSpPr>
            <a:xfrm>
              <a:off x="12600" y="60480"/>
              <a:ext cx="1193760" cy="717480"/>
              <a:chOff x="12600" y="60480"/>
              <a:chExt cx="1193760" cy="717480"/>
            </a:xfrm>
          </p:grpSpPr>
          <p:sp>
            <p:nvSpPr>
              <p:cNvPr id="199" name=""/>
              <p:cNvSpPr/>
              <p:nvPr/>
            </p:nvSpPr>
            <p:spPr>
              <a:xfrm>
                <a:off x="63360" y="6048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600" y="151920"/>
                <a:ext cx="113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H" sz="1200" spc="-1" strike="noStrike">
                    <a:solidFill>
                      <a:srgbClr val="000000"/>
                    </a:solidFill>
                    <a:latin typeface="Arial"/>
                  </a:rPr>
                  <a:t>Préservatif fémin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896760" y="9216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128520" y="5732640"/>
            <a:ext cx="1582920" cy="28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rot="21337200">
            <a:off x="5743440" y="1915920"/>
            <a:ext cx="3632400" cy="20062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154160"/>
            <a:ext cx="73152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es méthode vaginales sont les spermicides et le diaphrag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 mettre dans le vagin avant chaque rapport sex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ertaines personnes peuvent ressentir des effets secondai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arfois saliss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es spermicide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Moins efficaces que les autres méth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Ne protègent ni des IST ni du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e diaphragm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eut être efficace s'il est utilisé correctement et systémat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Il faut pratiquer un examen gynécologique pour vérifier la taille nécess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Protège éventuellement de certaines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1752480"/>
            <a:ext cx="4191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0520" indent="-290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440"/>
            <a:ext cx="99061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Les méthodes vagi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65520" y="5300640"/>
            <a:ext cx="4994280" cy="115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600" spc="-1" strike="noStrike">
                <a:solidFill>
                  <a:srgbClr val="ff3300"/>
                </a:solidFill>
                <a:latin typeface="Arial"/>
              </a:rPr>
              <a:t>Voulez-vous en savoir plus sur ces méthodes ou préférez-vous parler d'une méthode différent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414680" y="5594400"/>
            <a:ext cx="1447920" cy="11239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5888160" y="2133720"/>
            <a:ext cx="3806280" cy="1854000"/>
            <a:chOff x="5888160" y="2133720"/>
            <a:chExt cx="3806280" cy="185400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6589800" y="2529000"/>
              <a:ext cx="3104640" cy="14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888160" y="2133720"/>
              <a:ext cx="2122200" cy="11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/>
  <dc:description/>
  <dc:language>en-US</dc:language>
  <cp:lastModifiedBy>meynentc</cp:lastModifiedBy>
  <cp:lastPrinted>2002-06-06T14:57:22Z</cp:lastPrinted>
  <dcterms:modified xsi:type="dcterms:W3CDTF">2007-07-23T12:25:41Z</dcterms:modified>
  <cp:revision>398</cp:revision>
  <dc:subject/>
  <dc:title>Le préservatif féminin</dc:title>
</cp:coreProperties>
</file>