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E40DB-EBBB-4698-BD45-EABB4921AB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7D12F-9486-4766-B2FB-F83867CE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768B3-74C4-4E4A-861F-E1E05DF1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03A7-4524-45A7-A27F-9B7F83EFEF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2C93A-E3C1-4F0C-BEF5-110BA754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D431-FEF9-44D1-856D-DE0EC446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D0146-8E1A-4614-85E9-981EF59E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994B4-D899-4A53-A658-2FFCC6AB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61271-DAD9-4E87-9E14-BD9818B4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5D2BD-C91C-494C-A7B5-97835FAD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8DDBF-6A6B-4A27-B166-DF71AD04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8AE45-620A-4CA4-AEC9-1E93873B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01FB-1930-49ED-9015-35C7E85BB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-1440" y="1440"/>
            <a:ext cx="9907560" cy="93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MA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Méthode d'allaitement maternel et d'aménorrh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30320" y="125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Méthode contraceptive basée sur l'allaitement au s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876920" y="1038240"/>
            <a:ext cx="4876560" cy="84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3300"/>
                </a:solidFill>
                <a:latin typeface="Arial"/>
              </a:rPr>
              <a:t>A propos de la méthode M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C'est une méthode qui repose sur l'allaitement maternel et l'aménorrhée (l'absence de règle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Appliquer la méthode MAMA, c'est choisir une méthode d'allaitement pour éviter la grossesse. Cette méthode arrête l'ovulation (voir annexes 4 et 5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1979640"/>
            <a:ext cx="4876560" cy="1071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Pour une protection optimale contre la grossesse et pour la santé du bébé, il ne faut donner QUE du lait maternel (à l'exclusion, ou presque, de toute autre alimentation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Consultez la page MA3 pour savoir comment allaiter pour bénéficier d'une protection optima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000" spc="-1" strike="noStrike">
                <a:solidFill>
                  <a:srgbClr val="000000"/>
                </a:solidFill>
                <a:latin typeface="Arial"/>
              </a:rPr>
              <a:t>Est-ce que ça vous convient d'allaiter votre bébé de cette   manière ?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3152880"/>
            <a:ext cx="4876560" cy="567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Si les règles n'ont pas réapparu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Très efficace si elle est correctement appliqué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Mais moins efficace telle qu'elle est appliquée courammen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3821040"/>
            <a:ext cx="4876560" cy="1251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L'allaitement est le mode d'alimentation le plus sain pendant les 6 premiers mois. Le lait maternel contient tous les nutriments nécessaires au nourrisson et le protège des infections. L'allaitement est aussi bon pour la santé de la mèr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Il faut commencer à allaiter dans l'heure qui suit la naissance et il ne faut donner </a:t>
            </a:r>
            <a:br>
              <a:rPr sz="1000"/>
            </a:b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au nourrisson aucune autre alimentation solide ou liquide avant qu'il n'atteigne l'âge de 6 mo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Le lait maternel peut constituer l'essentiel du régime alimentaire pendant 2 ans ou plu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173560"/>
            <a:ext cx="4876560" cy="399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Pour se protéger du VIH/SIDA et des IST, la mère doit aussi utiliser le préservatif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Le VIH peut être transmis par le lait maternel.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H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fr-CH" sz="1600" spc="-1" strike="noStrike">
                <a:solidFill>
                  <a:srgbClr val="000000"/>
                </a:solidFill>
                <a:latin typeface="Arial"/>
              </a:rPr>
              <a:t>Would you like to discuss LAM more, or would you like to think about another method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6146640"/>
            <a:ext cx="4191120" cy="684360"/>
          </a:xfrm>
          <a:prstGeom prst="downArrowCallout">
            <a:avLst>
              <a:gd name="adj1" fmla="val 612471"/>
              <a:gd name="adj2" fmla="val 306207"/>
              <a:gd name="adj3" fmla="val 33333"/>
              <a:gd name="adj4" fmla="val 6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To discuss another method, go to method t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10760" y="6564240"/>
            <a:ext cx="38088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867280"/>
            <a:ext cx="990612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600" spc="-1" strike="noStrike">
                <a:solidFill>
                  <a:srgbClr val="000000"/>
                </a:solidFill>
                <a:latin typeface="Arial"/>
              </a:rPr>
              <a:t>Voulez-vous en savoir plus sur la méthode MAMA ou préférez-vous parler d'une autre méthode ?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6360" y="6143760"/>
            <a:ext cx="3886200" cy="684000"/>
          </a:xfrm>
          <a:prstGeom prst="downArrowCallout">
            <a:avLst>
              <a:gd name="adj1" fmla="val 568210"/>
              <a:gd name="adj2" fmla="val 28407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i la cliente veut en savoir plus sur la méthode MAMA, </a:t>
            </a:r>
            <a:br>
              <a:rPr sz="1200"/>
            </a:b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assez à la page suiv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5800" y="14079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95800" y="3376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401000">
            <a:off x="4154040" y="50846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5800" y="22924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95800" y="43498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520" y="1844640"/>
            <a:ext cx="38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our appliquer la méthode MAMA, il faut allaiter souvent, jour et nuit, et ne donner pratiquement aucune autre alimentation au béb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0320" y="3298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57320" indent="-157320">
              <a:lnSpc>
                <a:spcPct val="100000"/>
              </a:lnSpc>
              <a:spcBef>
                <a:spcPts val="2588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Efficace pendant les 6 mois qui suivent l'accouch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0320" y="4216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e lait maternel est la meilleure alimentation pour le béb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0320" y="486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Ne protège ni des IST ni du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05200" y="119520"/>
            <a:ext cx="1147320" cy="718560"/>
            <a:chOff x="205200" y="119520"/>
            <a:chExt cx="1147320" cy="718560"/>
          </a:xfrm>
        </p:grpSpPr>
        <p:sp>
          <p:nvSpPr>
            <p:cNvPr id="62" name=""/>
            <p:cNvSpPr/>
            <p:nvPr/>
          </p:nvSpPr>
          <p:spPr>
            <a:xfrm>
              <a:off x="209520" y="12060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5200" y="119520"/>
              <a:ext cx="7322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M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768240" y="171360"/>
              <a:ext cx="436680" cy="65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7415280" y="6858000"/>
            <a:ext cx="1353960" cy="438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68880" y="6165720"/>
            <a:ext cx="3960720" cy="524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our aborder une autre méthode,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llez à l'onglet de la méthode concernée ou à l'ongle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hoix de la métho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8520" y="551664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rot="17015400">
            <a:off x="7918200" y="3327120"/>
            <a:ext cx="1938240" cy="14907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7015400">
            <a:off x="5620320" y="1902600"/>
            <a:ext cx="2946240" cy="2122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907560" cy="141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Dans quels cas pouvez-vous appliquer la méthode MAMA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5560" y="1743480"/>
            <a:ext cx="5633640" cy="24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Si vous allaitez et qu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</a:t>
            </a: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votre enfant a moins de 6 moi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QU'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</a:t>
            </a: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ne s'alimente que de lait mater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ET 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les règles n'ont pas réappar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627080"/>
            <a:ext cx="684036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Mais n'oubliez pas de me d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si vous avez le SIDA ou si vous êtes infectée </a:t>
            </a:r>
            <a:br>
              <a:rPr sz="2200"/>
            </a:b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par le VIH (le virus du SI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35800" y="3860640"/>
            <a:ext cx="1186200" cy="1845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181560" y="1684440"/>
            <a:ext cx="1811520" cy="2712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408880" y="3716280"/>
            <a:ext cx="1008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440"/>
            <a:ext cx="9907560" cy="112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Dans quels cas pouvez-vous </a:t>
            </a:r>
            <a:br>
              <a:rPr sz="4000"/>
            </a:b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appliquer la méthode MAMA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0160" y="3716280"/>
            <a:ext cx="43434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2024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Mais n'oubliez pas de me dire si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avez le SIDA ou si vous êtes infectée par le VIH (le virus du SI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89680" y="1889280"/>
            <a:ext cx="4641840" cy="1281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est préférable d'allaiter son enfant pendant au moins 2 a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Dès que l'enfant a 6 mois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faut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utiliser une autre méthode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de planification familia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n cas de poursuite de l'allaitement, les méthodes non hormonales sont préférables mais on peut aussi utiliser des contraceptifs progestatifs seuls (pilule minidosée, contraceptifs injectables retard ou implants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89680" y="3305160"/>
            <a:ext cx="4640040" cy="570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ne faut pas appliquer la méthode MAMA en cas de règles pendant 2 jours consécutifs ou plus (les saignements pendant les 8 semaines suivant l'accouchement ne comptent pas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958000"/>
            <a:ext cx="9906120" cy="911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6019920"/>
            <a:ext cx="4190760" cy="655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la cliente ne peut pas ou plus appliquer la méthode MAMA, aidez-la à en choisir une aut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800" y="6019920"/>
            <a:ext cx="4092480" cy="825480"/>
          </a:xfrm>
          <a:prstGeom prst="downArrowCallout">
            <a:avLst>
              <a:gd name="adj1" fmla="val 495815"/>
              <a:gd name="adj2" fmla="val 247884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la cliente peut appliquer la méthode immédiatement ou dès qu'elle accouchera, passez à la page suivante pour la marche à suivre.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21240" y="3267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73480" y="1190520"/>
            <a:ext cx="4643640" cy="570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es femmes qui allaitent peuvent appliquer la méthode </a:t>
            </a:r>
            <a:br>
              <a:rPr sz="1100"/>
            </a:b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MAMA immédiatement à condition de respecter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les 3 </a:t>
            </a:r>
            <a:br>
              <a:rPr sz="1100"/>
            </a:b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conditions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énoncées ci-cont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0440" y="1342440"/>
            <a:ext cx="4164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Si vous allaitez et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63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</a:t>
            </a: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tre enfant a moins de 6 mo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QU'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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ne s'alimente que de lait matern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ET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r>
              <a:rPr b="1" lang="fr-CH" sz="1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es règles n'ont pas réappa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64080" y="18288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25920" y="43815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05200" y="118080"/>
            <a:ext cx="1147320" cy="718560"/>
            <a:chOff x="205200" y="118080"/>
            <a:chExt cx="1147320" cy="718560"/>
          </a:xfrm>
        </p:grpSpPr>
        <p:sp>
          <p:nvSpPr>
            <p:cNvPr id="90" name=""/>
            <p:cNvSpPr/>
            <p:nvPr/>
          </p:nvSpPr>
          <p:spPr>
            <a:xfrm>
              <a:off x="209520" y="11916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200" y="118080"/>
              <a:ext cx="7322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M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768240" y="169560"/>
              <a:ext cx="436680" cy="65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9056520" y="1243080"/>
            <a:ext cx="576000" cy="468360"/>
            <a:chOff x="9056520" y="1243080"/>
            <a:chExt cx="576000" cy="468360"/>
          </a:xfrm>
        </p:grpSpPr>
        <p:sp>
          <p:nvSpPr>
            <p:cNvPr id="94" name=""/>
            <p:cNvSpPr/>
            <p:nvPr/>
          </p:nvSpPr>
          <p:spPr>
            <a:xfrm>
              <a:off x="9056520" y="12430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9196200" y="13687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"/>
          <p:cNvSpPr/>
          <p:nvPr/>
        </p:nvSpPr>
        <p:spPr>
          <a:xfrm>
            <a:off x="128520" y="567072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097600" y="4005360"/>
            <a:ext cx="4679640" cy="1767240"/>
            <a:chOff x="5097600" y="4005360"/>
            <a:chExt cx="4679640" cy="1767240"/>
          </a:xfrm>
        </p:grpSpPr>
        <p:sp>
          <p:nvSpPr>
            <p:cNvPr id="98" name=""/>
            <p:cNvSpPr/>
            <p:nvPr/>
          </p:nvSpPr>
          <p:spPr>
            <a:xfrm>
              <a:off x="5097600" y="4005360"/>
              <a:ext cx="4640040" cy="17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Le VIH peut se transmettre par le lait materne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Si la mère est infectée par le VIH 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Pour obtenir des conseils concernant les femmes qui ont le VIH/SIDA, allez à l'onglet "Besoins spéciaux" (page BS1).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40160" y="4365720"/>
              <a:ext cx="4537080" cy="10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lorsqu'il est possible d'opter pour une alimentation de substitution préparée à domicile ou achetée), elle ne doit pas allaiter et elle doit utiliser une autre méthode de planification familiale.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275"/>
                </a:spcBef>
                <a:buClr>
                  <a:srgbClr val="ff33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100" spc="-1" strike="noStrike">
                  <a:solidFill>
                    <a:srgbClr val="000000"/>
                  </a:solidFill>
                  <a:latin typeface="Arial"/>
                </a:rPr>
                <a:t>lorsque c'est impossible, elle doit allaiter au sein exclusivement. Quand l'enfant a atteint l'âge de 6 mois ou avant s'il devient possible de choisir une alimentation de substitution, elle doit arrêter d'allaiter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20733000">
            <a:off x="6608520" y="1268280"/>
            <a:ext cx="2330280" cy="2071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Comment appliquer la méthode MAMA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080" y="2637000"/>
            <a:ext cx="5486400" cy="22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231840" indent="-231840">
              <a:lnSpc>
                <a:spcPct val="90000"/>
              </a:lnSpc>
              <a:spcBef>
                <a:spcPts val="2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Lorsque l'enfant atteint l'âge de 6 mois, il faut commencer à lui donner d'autres aliments tout en continuant à l'alla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Il faut commencer à utiliser une autre méthode au bon mo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959520" y="1486080"/>
            <a:ext cx="1685880" cy="2358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2880" y="4581360"/>
            <a:ext cx="3025800" cy="115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Etes-vous prête à choisir cette méthod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70120" y="5446800"/>
            <a:ext cx="44784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que je répète ou que je vous explique quelque chose ? Avez-vous des questions à poser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080" y="938160"/>
            <a:ext cx="54864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231840" indent="-23184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On peut appliquer la méthode MAMA dès la naissance de l'enf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Il faut allaiter souv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6080" y="2492280"/>
            <a:ext cx="3966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Que faire aprè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272560" y="3526920"/>
            <a:ext cx="2701440" cy="2307600"/>
            <a:chOff x="5272560" y="3526920"/>
            <a:chExt cx="2701440" cy="2307600"/>
          </a:xfrm>
        </p:grpSpPr>
        <p:sp>
          <p:nvSpPr>
            <p:cNvPr id="109" name=""/>
            <p:cNvSpPr/>
            <p:nvPr/>
          </p:nvSpPr>
          <p:spPr>
            <a:xfrm rot="20733000">
              <a:off x="5457960" y="3789360"/>
              <a:ext cx="2330280" cy="17827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854680" y="4946400"/>
              <a:ext cx="62388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6300720" y="3863880"/>
              <a:ext cx="874800" cy="59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6359400" y="4483080"/>
              <a:ext cx="592200" cy="85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5"/>
            <a:stretch/>
          </p:blipFill>
          <p:spPr>
            <a:xfrm>
              <a:off x="6931080" y="4592520"/>
              <a:ext cx="48096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6"/>
            <a:stretch/>
          </p:blipFill>
          <p:spPr>
            <a:xfrm>
              <a:off x="5614920" y="4268520"/>
              <a:ext cx="600120" cy="45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Comment appliquer la méthode MAMA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3680" y="922320"/>
            <a:ext cx="3967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33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On peut appliquer la méthode MAMA dès la naissance de l'enf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81600" y="1603440"/>
            <a:ext cx="4910040" cy="143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mère doit allaiter l'enfant jour et nuit, dès qu'il a fai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i l'intervalle entre les tétées est de plus de 4 heures le jour et de plus de 6 heures la nuit, il faut envisager une autre méthode de planification familial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mère doit continuer à allaiter même si elle est malade ou si l'enfant est mala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Etes-vous prête à toujours allaiter de cette manière ?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Donnez des conseils sur les techniques d'allaitement et sur le régime alimentai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81600" y="3664080"/>
            <a:ext cx="4910040" cy="143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Quand les règles réapparaissent (on ne tient pas compte des saignements au cours des 8 semaines qui suivent la grossess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lorsque la mère arrête l'allaitement exclusif ou presque exclusif (l'enfant reçoit régulièrement une autre alimentation solide ou liquid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lorsque l'enfant atteint l'âge de 6 mois (à peu près au moment où l'enfant commence à se tenir assi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lorsque la mère veut abandonner la méthode MA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(dès que l'une de ces trois conditions est remplie)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19749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549200">
            <a:off x="4241520" y="47800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125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84720" y="43354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653080"/>
            <a:ext cx="9909000" cy="1216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81600" y="965160"/>
            <a:ext cx="4910040" cy="59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Après l'accouchement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, il faut commencer à allaiter dès que possible, pour la santé de l'enfant et pour se protéger de la grossesse de manière optima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81600" y="3078000"/>
            <a:ext cx="4910040" cy="545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Au moment de l'introduction d'une alimentation autre que le lait maternel, il faut continuer à allaiter avant chaque prise alimentaire (solide ou liquide).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80040" y="32860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81600" y="5138640"/>
            <a:ext cx="4910040" cy="39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roposez dès maintenant des moyens de contraception (tels que le préservatif) à utiliser au moment voulu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05200" y="68760"/>
            <a:ext cx="1147320" cy="718560"/>
            <a:chOff x="205200" y="68760"/>
            <a:chExt cx="1147320" cy="718560"/>
          </a:xfrm>
        </p:grpSpPr>
        <p:sp>
          <p:nvSpPr>
            <p:cNvPr id="130" name=""/>
            <p:cNvSpPr/>
            <p:nvPr/>
          </p:nvSpPr>
          <p:spPr>
            <a:xfrm>
              <a:off x="209520" y="6984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5200" y="68760"/>
              <a:ext cx="7322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M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768240" y="120240"/>
              <a:ext cx="43668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193680" y="1650960"/>
            <a:ext cx="27432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33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Il faut allaiter sou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3680" y="2549520"/>
            <a:ext cx="3967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Que faire aprè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3680" y="3068640"/>
            <a:ext cx="3967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orsque l'enfant atteint l'âge de 6 mois, il faut commencer à lui donner d'autres aliments tout en continuant à l'alla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3680" y="4292640"/>
            <a:ext cx="3967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Il faut commencer à utiliser une autre méthode au bon mo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048520" y="5840280"/>
            <a:ext cx="576000" cy="468360"/>
            <a:chOff x="8048520" y="5840280"/>
            <a:chExt cx="576000" cy="468360"/>
          </a:xfrm>
        </p:grpSpPr>
        <p:sp>
          <p:nvSpPr>
            <p:cNvPr id="138" name=""/>
            <p:cNvSpPr/>
            <p:nvPr/>
          </p:nvSpPr>
          <p:spPr>
            <a:xfrm>
              <a:off x="8048520" y="58402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8188200" y="59659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329600" y="6858000"/>
            <a:ext cx="1353960" cy="438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8520" y="5734080"/>
            <a:ext cx="7761240" cy="97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Pensez-vous que cette méthode vous conviendra ? Avez-vous besoin d'autres conseils sur l'allaitement ?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200" spc="-1" strike="noStrike">
                <a:solidFill>
                  <a:srgbClr val="ff3399"/>
                </a:solidFill>
                <a:latin typeface="Arial"/>
              </a:rPr>
              <a:t>Attention ! Proposez des préservatifs pour la double protection et/ou comme moyen de remplacement.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Enfin, le message le plus important :  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200" spc="-1" strike="noStrike">
                <a:solidFill>
                  <a:srgbClr val="000000"/>
                </a:solidFill>
                <a:latin typeface="Arial"/>
              </a:rPr>
              <a:t>Revenez quand votre enfant aura 6 mois, que vos aurez à nouveau vos règles ou que votre enfant commence à avoir une alimentation autre que le lait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8520" y="5386320"/>
            <a:ext cx="1582920" cy="289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rnières étap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715000" y="1600200"/>
            <a:ext cx="4114800" cy="327672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440"/>
            <a:ext cx="9910800" cy="12668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Méthodes basées sur la connaissance de la fécondit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0160" y="1568520"/>
            <a:ext cx="55450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Retenez les jours du cycle menstruel où vous pouvez tomber encei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Pour éviter la grossesse, vous devez vous abstenir d'avoir des rapports sexuels OU utiliser un préservatif les jours où vous êtes fert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Méthode efficace si elle est correctement appliqu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Sans effets second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Ne protègent ni des IST ni du VIH/S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326280" y="2163600"/>
            <a:ext cx="3354120" cy="2941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940360" y="2046240"/>
            <a:ext cx="2060640" cy="1382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4600" y="5340240"/>
            <a:ext cx="533556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en savoir plus sur ces méthodes ou préférez-vous parler d'une méthode différent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28600" y="5657760"/>
            <a:ext cx="1447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1:59:38Z</dcterms:created>
  <dc:creator/>
  <dc:description/>
  <dc:language>en-US</dc:language>
  <cp:lastModifiedBy>meynentc</cp:lastModifiedBy>
  <cp:lastPrinted>2002-07-03T12:43:25Z</cp:lastPrinted>
  <dcterms:modified xsi:type="dcterms:W3CDTF">2007-07-23T12:26:33Z</dcterms:modified>
  <cp:revision>2453</cp:revision>
  <dc:subject/>
  <dc:title>Méthode d'allaitement maternel et d'aménorrhée</dc:title>
</cp:coreProperties>
</file>