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29C2A-28F9-4DBB-A913-535CB2E80A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7560" y="4716000"/>
            <a:ext cx="4978440" cy="4800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57320" y="6620040"/>
            <a:ext cx="42274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1360" indent="-171360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ld for use elsewhe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and your sex partner should see a doctor or nurse if either of you hav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res on or near your geni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n when pee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pping, itching, rash, irrit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are signs of sexually transmitted disea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6480" y="8028000"/>
            <a:ext cx="5132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ove to training gui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xplain when to use and why u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VERY TIM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impor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protected sex just once—even the first time—can lead to pregnancy and/or ST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not tell, by the way people look, whether they have an STI, including HIV. They often look health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erson does not always know if he or she has an STI, including H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89400" y="2571840"/>
            <a:ext cx="4569120" cy="45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Effets secondaires éventuels :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rritation, brûlures, infection de la vess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8200" y="4500720"/>
            <a:ext cx="4568760" cy="460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'efficacité du diaphragme (et des spermicides) est maximale lorsqu'ils sont utilisés correctement et systématiquem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95880" y="3984480"/>
            <a:ext cx="4568760" cy="43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Pour la protection contre les IST et le VIH/SIDA, utiliser aussi le préserv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400" spc="-1" strike="noStrike">
                <a:solidFill>
                  <a:srgbClr val="000000"/>
                </a:solidFill>
                <a:latin typeface="Arial"/>
              </a:rPr>
              <a:t>Voulez-vous en savoir plus sur les méthodes vaginales ou préférez-vous parler d'une autre méthode ?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9240" y="6143760"/>
            <a:ext cx="3886200" cy="714240"/>
          </a:xfrm>
          <a:prstGeom prst="downArrowCallout">
            <a:avLst>
              <a:gd name="adj1" fmla="val 544152"/>
              <a:gd name="adj2" fmla="val 272051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veut en savoir plus sur les méthodes vaginales,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passez à la 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8920" y="17002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8920" y="51436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7080" y="981000"/>
            <a:ext cx="48686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es méthodes vaginales sont les spermicides et le diaphrag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8200" y="5040360"/>
            <a:ext cx="4568760" cy="620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n'est pas sûr que le diaphragme protège du VIH/SIDA. </a:t>
            </a: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Pour la protection contre les IST et le VIH/SIDA, utiliser aussi le préservat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9400" y="3102120"/>
            <a:ext cx="4569120" cy="80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Seriez-vous gênée par l'utilisation de moyens contraceptifs à mettre dans le vagin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Seriez-vous satisfaite d'une méthode qui peut être salissante après les rapports sexuels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817400">
            <a:off x="4448160" y="3054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8920" y="4424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es méthodes vagi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6200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08080" y="58680"/>
            <a:ext cx="1143000" cy="730440"/>
            <a:chOff x="208080" y="58680"/>
            <a:chExt cx="1143000" cy="730440"/>
          </a:xfrm>
        </p:grpSpPr>
        <p:sp>
          <p:nvSpPr>
            <p:cNvPr id="60" name=""/>
            <p:cNvSpPr/>
            <p:nvPr/>
          </p:nvSpPr>
          <p:spPr>
            <a:xfrm>
              <a:off x="208080" y="586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2480" y="78840"/>
              <a:ext cx="935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Métho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vagi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335160" y="446040"/>
              <a:ext cx="914400" cy="343080"/>
              <a:chOff x="335160" y="446040"/>
              <a:chExt cx="914400" cy="343080"/>
            </a:xfrm>
          </p:grpSpPr>
          <p:pic>
            <p:nvPicPr>
              <p:cNvPr id="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880" y="47772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160" y="4460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5" name=""/>
          <p:cNvSpPr/>
          <p:nvPr/>
        </p:nvSpPr>
        <p:spPr>
          <a:xfrm>
            <a:off x="5189400" y="911160"/>
            <a:ext cx="4569120" cy="158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A propos des méthodes vaginal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iaphragme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est un objet en caoutchouc doux et souple qui empêche les spermatozoïdes de pénétrer dans l'uté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permicides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se présentent sous forme de gel, de crème, de comprimé moussant, de suppositoire ou de film résorbable qui détruisent les spermatozoï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ous les deux doivent être mis à l'avance dans le vagin et n'impliquent pas, par conséquent, d'interruption du ra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9680" y="3024360"/>
            <a:ext cx="4869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es spermicid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Moins efficaces que les autres méth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Ne protègent ni des IST ni du VIH/S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9680" y="3948120"/>
            <a:ext cx="4869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e diaphragm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Efficace s'il est utilisé correctement et systématiqu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Il faut pratiquer un examen gynécologique pour vérifier la taille nécess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rotège éventuellement de certaines 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080" y="1413000"/>
            <a:ext cx="32400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 mettre dans le vagin avant chaque rapport sex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7080" y="1989000"/>
            <a:ext cx="48686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ertaines personnes ressentent des effets second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7080" y="2687760"/>
            <a:ext cx="29970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arfois saliss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46720" y="2565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19440" y="1268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59440" y="6858000"/>
            <a:ext cx="1354320" cy="438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éthodes vagi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38720" y="6143760"/>
            <a:ext cx="3960720" cy="69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our aborder une autre méthod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llez à l'onglet de la méthode concernée ou à l'ongl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360" y="558972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817400">
            <a:off x="4448160" y="3789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5880" y="1981080"/>
            <a:ext cx="3200400" cy="31244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907560" cy="112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Méthode d'allaitement maternel et d'aménorrh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28954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3080" y="1308240"/>
            <a:ext cx="57132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Méthode contraceptive basée sur l'allaitement au s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Pour appliquer la méthode MAMA, il faut allaiter souvent, jour et nuit, et ne donner pratiquement aucune autre alimentation au béb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fficace pendant les 6 mois qui suivent l'accouch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Le lait maternel est la meilleure alimentation pour le béb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Ne protège ni des IST ni du VIH/S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4600" y="5340240"/>
            <a:ext cx="533376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n savoir plus sur cette méthode ou préférez-vous parler d'une méthode différent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565776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629400" y="2133720"/>
            <a:ext cx="22446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369000">
            <a:off x="6195600" y="5524200"/>
            <a:ext cx="862200" cy="13334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360" y="5392800"/>
            <a:ext cx="2160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un problème de santé qui poserait un risque sérieux en cas de gross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40"/>
            <a:ext cx="9906120" cy="13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Qui peut et qui ne doit pas utilis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les méthodes vagin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88160" y="3543480"/>
            <a:ext cx="379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Et si vous envisagez d'utiliser le DIAPHRAGME, avertissez-moi en ca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25760"/>
            <a:ext cx="37828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La plupart des femmes peuvent utiliser les méthodes vaginales, </a:t>
            </a:r>
            <a:br>
              <a:rPr sz="2200"/>
            </a:b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sans ris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1522600">
            <a:off x="3924000" y="1431720"/>
            <a:ext cx="5143320" cy="19335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78160" y="1461960"/>
            <a:ext cx="4419720" cy="188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8360" y="3068640"/>
            <a:ext cx="430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Mais il ne faut généralement pas utiliser les SPERMICIDES, avec ou sans DIAPHRAGME s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766000">
            <a:off x="558720" y="4005000"/>
            <a:ext cx="1228680" cy="9651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47800" y="4149720"/>
            <a:ext cx="73008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30360" y="5076720"/>
            <a:ext cx="331164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plusieurs partenaires sexuels ou votre partenaire en a plusieurs (risque élevé d'infection à VI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le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0766000">
            <a:off x="3438360" y="3789360"/>
            <a:ext cx="1371600" cy="9619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583080" y="3860640"/>
            <a:ext cx="1120680" cy="1252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70920" y="4603680"/>
            <a:ext cx="25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'accouchement ou d'avortement ré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741000">
            <a:off x="5979600" y="4508640"/>
            <a:ext cx="1132200" cy="9111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267600" y="4437000"/>
            <a:ext cx="736560" cy="1033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26360" y="5611680"/>
            <a:ext cx="25765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'allergie au la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'antécédents de syndrome de choc to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267600" y="5551560"/>
            <a:ext cx="57132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805360"/>
            <a:ext cx="9906120" cy="10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2160" y="3735360"/>
            <a:ext cx="404352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près un accouchement ou un avortement au deuxième trimestre, il faut généralement attendre 6 à 12 semaines pour que l'utérus et le col retrouvent une taille normale avant de mettre un diaphrag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72160" y="4697280"/>
            <a:ext cx="404352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ne faut pas utiliser un diaphragme en la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72160" y="5176800"/>
            <a:ext cx="4043520" cy="33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ne faut généralement pas utiliser un diaphrag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72160" y="2773440"/>
            <a:ext cx="404352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ne faut PAS utiliser de spermicides en cas de risque élevé d'infection à VI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n ne connaît pas l'efficacité du diaphragme 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sans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permic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5950080"/>
            <a:ext cx="4114800" cy="68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ne peut pas utiliser ces méthodes,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idez-la à en choisir une aut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2760" y="5978520"/>
            <a:ext cx="4470120" cy="866880"/>
          </a:xfrm>
          <a:prstGeom prst="downArrowCallout">
            <a:avLst>
              <a:gd name="adj1" fmla="val 515704"/>
              <a:gd name="adj2" fmla="val 2578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peut utiliser ces méthodes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le diaphragme, passez à la page suivante ; pour les spermicides, passez à la page</a:t>
            </a:r>
            <a:br>
              <a:rPr sz="1400"/>
            </a:b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MV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5280" y="2349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2960" y="29084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20328600">
            <a:off x="5027760" y="42642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52960" y="47214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52960" y="51577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40"/>
            <a:ext cx="9906120" cy="1150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Qui peut et qui ne doit pas utilis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es méthodes vaginale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3920" y="1198440"/>
            <a:ext cx="5159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a plupart des femmes peuvent utiliser les méthodes vaginales, sans risq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0600" y="2162160"/>
            <a:ext cx="526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un problème de santé qui poserait </a:t>
            </a:r>
            <a:br>
              <a:rPr sz="1600"/>
            </a:b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un risque sérieux en cas de gross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7080" y="1652760"/>
            <a:ext cx="49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Mais il ne faut généralement pas utiliser les SPERMICIDES, avec ou sans diaphragme s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7080" y="2685960"/>
            <a:ext cx="526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plusieurs partenaires sexuels ou </a:t>
            </a:r>
            <a:br>
              <a:rPr sz="1600"/>
            </a:b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tre partenaire en a plusieurs (risque élevé </a:t>
            </a:r>
            <a:br>
              <a:rPr sz="1600"/>
            </a:b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VIH/SID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0600" y="3452760"/>
            <a:ext cx="52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le VIH/S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0600" y="3745080"/>
            <a:ext cx="52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Et si vous envisagez d'utiliser le DIAPHRAGME, avertissez-moi en ca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0600" y="4365720"/>
            <a:ext cx="52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accouchement ou d'avortement ré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600" y="4732200"/>
            <a:ext cx="52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allergie au lat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0600" y="5119560"/>
            <a:ext cx="52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antécédents de syndrome de choc tox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72160" y="1557360"/>
            <a:ext cx="404352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Hypertension artérielle, diabète, cardiopathie, accident vasculaire cérébral, certains cancers, IST (dont le VIH/SIDA), maladie du foie, anémie, tuberculo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Une méthode plus efficace conviendra peut-être mieux aux femmes qui ont ces problèmes de santé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7080" y="177840"/>
            <a:ext cx="1143000" cy="729720"/>
            <a:chOff x="127080" y="177840"/>
            <a:chExt cx="1143000" cy="729720"/>
          </a:xfrm>
        </p:grpSpPr>
        <p:sp>
          <p:nvSpPr>
            <p:cNvPr id="120" name=""/>
            <p:cNvSpPr/>
            <p:nvPr/>
          </p:nvSpPr>
          <p:spPr>
            <a:xfrm>
              <a:off x="127080" y="177840"/>
              <a:ext cx="1143000" cy="7171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1480" y="197280"/>
              <a:ext cx="935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Métho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vagi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54160" y="564840"/>
              <a:ext cx="914400" cy="342720"/>
              <a:chOff x="254160" y="564840"/>
              <a:chExt cx="914400" cy="34272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3880" y="596520"/>
                <a:ext cx="814680" cy="31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4160" y="5648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" name=""/>
          <p:cNvSpPr/>
          <p:nvPr/>
        </p:nvSpPr>
        <p:spPr>
          <a:xfrm>
            <a:off x="128520" y="55450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8360" y="2608200"/>
            <a:ext cx="203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Mettez une grande quantité de crème ou de gelée spermicide dans le diaphragme et autour de l'ann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3440" y="2852640"/>
            <a:ext cx="215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Joignez les bords du diaphragme et introduisez-le dans le vagin aussi haut que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35440" y="3971880"/>
            <a:ext cx="23767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Touchez le diaphragme pour vérifier qu'il recouvre le 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1440" y="5124600"/>
            <a:ext cx="554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TTENTION : à chaque nouveau rapport sexuel, utilisez un applicateur pour rajouter du spermicide dans le vagin. N'ENLEVEZ PAS le diaphrag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27800" y="1197000"/>
            <a:ext cx="2430720" cy="374472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6440" y="1197000"/>
            <a:ext cx="2133720" cy="374472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7200" y="1197000"/>
            <a:ext cx="2136960" cy="374472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8520" y="1197000"/>
            <a:ext cx="2376360" cy="374472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Mode d'emploi du diaphrag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16520" y="5157720"/>
            <a:ext cx="3943440" cy="145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ssayer cette méthode pour voir si elle vous convien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56160" y="5823000"/>
            <a:ext cx="1219320" cy="946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43080" y="1341360"/>
            <a:ext cx="1828800" cy="109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863800" y="1341360"/>
            <a:ext cx="1600200" cy="997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440" y="11113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55920" y="111132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35440" y="111132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56520" y="11113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370480" y="1239840"/>
            <a:ext cx="1416240" cy="2712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327800" y="1197000"/>
            <a:ext cx="2376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Après le rapport sexuel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aissez le diaphragme en place pendant AU MOINS 6 heures mais PAS PLUS de 24 he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our l'enlever, glissez délicatement un doigt sous l'anneau et tirez vers le bas et l'exté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718160" y="1322280"/>
            <a:ext cx="170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Touchez le diaphragme pour vérifier qu'il recouvre le 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3040" y="1322280"/>
            <a:ext cx="1868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Mettez une grande quantité de crème ou de gelée spermicide dans le diaphragme et autour de l'ann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3080" y="3645000"/>
            <a:ext cx="1617480" cy="69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ettre environ une cuillère à soupe de gelée ou de crè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1800" y="3645000"/>
            <a:ext cx="2952720" cy="201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enlever le diaphragme délicatement pour ne pas le déchir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près chaque utilisation, laver le diaphragme à l'eau et au savon do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Vérifier que le diaphragme n'est pas troué en le remplissant d'eau ou en le mettant à la lumière à contre-j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Faire sécher le diaphragme et le ranger, si possible, dans un endroit propre, à l'abri de la lumière et de la chaleu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2920" y="4619520"/>
            <a:ext cx="466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A chaque nouveau rapport sexuel, utilisez un applicateur pour rajouter du spermicide dans le vag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07080" y="1063800"/>
            <a:ext cx="3168720" cy="20048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18800" bIns="118800" anchor="t">
            <a:noAutofit/>
          </a:bodyPr>
          <a:p>
            <a:pPr marL="171360" indent="-171360" algn="ctr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Après le ra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aissez le diaphragme en place pendant AU MOINS 6 heures mais PAS PLUS DE 24 heu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our l'enlever, glissez délicatement un doigt sous l'anneau et tirez vers le bas et l'extéri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64240" y="3645000"/>
            <a:ext cx="1569960" cy="1584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personne doit vérifier qu'elle sent le col de l'utérus à travers le dôme du diaphragme; au toucher le col utérin est comme le bout du ne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726160"/>
            <a:ext cx="990612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a cliente comprend-elle comment utiliser le diaphragme ? Est-elle prête à choisir cette méthod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6093000"/>
            <a:ext cx="4267080" cy="685800"/>
          </a:xfrm>
          <a:prstGeom prst="downArrowCallout">
            <a:avLst>
              <a:gd name="adj1" fmla="val 622262"/>
              <a:gd name="adj2" fmla="val 31110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la cliente a décidé d'utiliser cette méthode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, passez à la page suivante pour parler des spermicides, si nécess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11800" y="6093000"/>
            <a:ext cx="388620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non,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poursuivez le dialogue ou envisagez d'autres méth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81400" y="1322280"/>
            <a:ext cx="1949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Joignez les bords du diaphragme et introduisez-le dans le vagin aussi haut que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360" y="1060560"/>
            <a:ext cx="179712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24160" y="1060560"/>
            <a:ext cx="200664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18080" y="1060560"/>
            <a:ext cx="182880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950400" y="3216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8040240" y="3216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Mode d'emploi du diaphrag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5760" y="981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14720" y="98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22680" y="981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21400" y="981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5400360" y="32162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272520" y="5697360"/>
            <a:ext cx="576000" cy="468360"/>
            <a:chOff x="9272520" y="5697360"/>
            <a:chExt cx="576000" cy="468360"/>
          </a:xfrm>
        </p:grpSpPr>
        <p:sp>
          <p:nvSpPr>
            <p:cNvPr id="169" name=""/>
            <p:cNvSpPr/>
            <p:nvPr/>
          </p:nvSpPr>
          <p:spPr>
            <a:xfrm>
              <a:off x="9272520" y="56973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9412200" y="58230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-233280" y="5911920"/>
            <a:ext cx="1218960" cy="94608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208080" y="58680"/>
            <a:ext cx="1143000" cy="730440"/>
            <a:chOff x="208080" y="58680"/>
            <a:chExt cx="1143000" cy="730440"/>
          </a:xfrm>
        </p:grpSpPr>
        <p:sp>
          <p:nvSpPr>
            <p:cNvPr id="173" name=""/>
            <p:cNvSpPr/>
            <p:nvPr/>
          </p:nvSpPr>
          <p:spPr>
            <a:xfrm>
              <a:off x="208080" y="586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480" y="78840"/>
              <a:ext cx="935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Métho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vagi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35160" y="446040"/>
              <a:ext cx="914400" cy="343080"/>
              <a:chOff x="335160" y="446040"/>
              <a:chExt cx="914400" cy="343080"/>
            </a:xfrm>
          </p:grpSpPr>
          <p:pic>
            <p:nvPicPr>
              <p:cNvPr id="1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4880" y="47772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5160" y="4460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" name=""/>
          <p:cNvSpPr/>
          <p:nvPr/>
        </p:nvSpPr>
        <p:spPr>
          <a:xfrm>
            <a:off x="128520" y="544500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rot="21522600">
            <a:off x="7819560" y="1368000"/>
            <a:ext cx="1143000" cy="993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1522600">
            <a:off x="6172200" y="1371240"/>
            <a:ext cx="1371600" cy="990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1522600">
            <a:off x="2666880" y="1269720"/>
            <a:ext cx="1371600" cy="1143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1522600">
            <a:off x="622080" y="1266480"/>
            <a:ext cx="1751040" cy="1003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1522600">
            <a:off x="7497360" y="2742840"/>
            <a:ext cx="1676520" cy="24130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Mode d'emploi des spermici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889840" y="157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19440" y="19890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Comprimés ou supposito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746840" y="1447920"/>
            <a:ext cx="1143000" cy="912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248520" y="1589040"/>
            <a:ext cx="1295280" cy="644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1752480" cy="860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921040" y="1295280"/>
            <a:ext cx="957240" cy="1228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360" y="2874960"/>
            <a:ext cx="68407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A mettre avant le rapport sexuel (jusqu'à une heure av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A placer profondément dans le vagin, à l'aide d'un applicateur ou avec les doig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Ne pas se laver le vagin pendant 6 heures au moins après le ra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A ranger, si possible, dans un endroit sec à l'abri de la ch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43440" y="5386320"/>
            <a:ext cx="3943440" cy="145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ssayer cette méthode pour voir si elle vous convien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303800" y="5734080"/>
            <a:ext cx="1218960" cy="946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327800" y="2708280"/>
            <a:ext cx="16732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Arial"/>
              </a:rPr>
              <a:t>La cliente comprend-elle comment utiliser les spermicides ? Est-elle prête à choisir cette méthod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30760" y="4149720"/>
            <a:ext cx="4073760" cy="3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our que les comprimés moussants ne fondent p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6200" y="4149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Mode d'emploi des spermic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7080" y="1268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 mettre avant le rapport sexuel (jusqu'à une heure av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7080" y="2060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 placer profondément dans le vagin, à l'aide d'un applicateur ou avec les doig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7080" y="31417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e pas se laver le vagin pendant 6 heures au moins après le rap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7080" y="40705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 ranger, si possible, dans un endroit sec à l'abri de la chal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0760" y="1413000"/>
            <a:ext cx="4073760" cy="1584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Les comprimés, les suppositoires ou le fi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ont à mettre 10 minutes au moins avant le rapport sex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 film doit être plié en deux et placé avec les doigts (secs) près du col.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La mou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oit être agitée avant u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92680" y="1628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326520" y="5589720"/>
            <a:ext cx="576000" cy="468360"/>
            <a:chOff x="9326520" y="5589720"/>
            <a:chExt cx="576000" cy="468360"/>
          </a:xfrm>
        </p:grpSpPr>
        <p:sp>
          <p:nvSpPr>
            <p:cNvPr id="208" name=""/>
            <p:cNvSpPr/>
            <p:nvPr/>
          </p:nvSpPr>
          <p:spPr>
            <a:xfrm>
              <a:off x="9326520" y="55897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9466200" y="57153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"/>
          <p:cNvSpPr/>
          <p:nvPr/>
        </p:nvSpPr>
        <p:spPr>
          <a:xfrm>
            <a:off x="919080" y="6172200"/>
            <a:ext cx="4267440" cy="685800"/>
          </a:xfrm>
          <a:prstGeom prst="downArrowCallout">
            <a:avLst>
              <a:gd name="adj1" fmla="val 622315"/>
              <a:gd name="adj2" fmla="val 3111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la cliente a décidé d'utiliser cette méthode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, passez à la page suivante pour parler des spermicides, si nécess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83080" y="6165720"/>
            <a:ext cx="38862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non,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poursuivez le dialogue ou envisagez d'autres méth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08080" y="58680"/>
            <a:ext cx="1143000" cy="730440"/>
            <a:chOff x="208080" y="58680"/>
            <a:chExt cx="1143000" cy="730440"/>
          </a:xfrm>
        </p:grpSpPr>
        <p:sp>
          <p:nvSpPr>
            <p:cNvPr id="213" name=""/>
            <p:cNvSpPr/>
            <p:nvPr/>
          </p:nvSpPr>
          <p:spPr>
            <a:xfrm>
              <a:off x="208080" y="586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80" y="78840"/>
              <a:ext cx="935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Métho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vagi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35160" y="446040"/>
              <a:ext cx="914400" cy="343080"/>
              <a:chOff x="335160" y="446040"/>
              <a:chExt cx="914400" cy="3430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4880" y="47772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5160" y="4460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8" name=""/>
          <p:cNvSpPr/>
          <p:nvPr/>
        </p:nvSpPr>
        <p:spPr>
          <a:xfrm>
            <a:off x="128520" y="550080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20679600">
            <a:off x="5715000" y="2819160"/>
            <a:ext cx="1903320" cy="1008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4200">
            <a:off x="7315200" y="4041720"/>
            <a:ext cx="1905120" cy="1596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522600">
            <a:off x="4874760" y="1752480"/>
            <a:ext cx="1903680" cy="1008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413000"/>
            <a:ext cx="5257800" cy="41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Revenez si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vous avez encore besoin de spermici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316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le diaphragme est raide, fin ou trou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316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vous ou votre partenaire avez des démangeaisons, des boutons, une irrit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316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vous avez mal quand vous urin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236800">
            <a:off x="5318280" y="4102200"/>
            <a:ext cx="1692000" cy="2133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724280" y="1913040"/>
            <a:ext cx="1905120" cy="934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1676520" cy="905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416560" y="4114800"/>
            <a:ext cx="1200240" cy="2743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33520" y="1206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65160" y="5600880"/>
            <a:ext cx="411480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600" spc="-1" strike="noStrike">
                <a:solidFill>
                  <a:srgbClr val="ff3300"/>
                </a:solidFill>
                <a:latin typeface="Arial"/>
              </a:rPr>
              <a:t>Voulez-vous que je répète ou que je vous explique quelque chose? Avez-vous des questions à poser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365960" y="4048200"/>
            <a:ext cx="1746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181480" y="1413000"/>
            <a:ext cx="4523040" cy="84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Voyez avec la cliente où elle peut se réapprovisionner </a:t>
            </a:r>
            <a:r>
              <a:rPr b="0" lang="fr-CH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au dispensaire ou à la pharmac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absolument se réapprovisionner avant de ne plus avoir de spermic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3108240"/>
            <a:ext cx="4523040" cy="836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euvent être dus au spermicide, au latex, à une infection ou à une vagin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peut-être changer de marque de spermicide ou de méth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67440" y="4076640"/>
            <a:ext cx="45226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'est un signe d'infection urin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2390760"/>
            <a:ext cx="4523040" cy="585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es diaphragmes doivent être remplacé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aussi vérifier l'ajustement du diaphragme après un accouchement ou un avort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756400"/>
            <a:ext cx="9909000" cy="111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43480" y="1830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3480" y="2535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720" y="3429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720" y="4076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07664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mal quand vous urin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904160" y="6056280"/>
            <a:ext cx="576000" cy="468360"/>
            <a:chOff x="7904160" y="6056280"/>
            <a:chExt cx="576000" cy="468360"/>
          </a:xfrm>
        </p:grpSpPr>
        <p:sp>
          <p:nvSpPr>
            <p:cNvPr id="244" name=""/>
            <p:cNvSpPr/>
            <p:nvPr/>
          </p:nvSpPr>
          <p:spPr>
            <a:xfrm>
              <a:off x="7904160" y="60562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8043840" y="61819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/>
          <p:cNvSpPr/>
          <p:nvPr/>
        </p:nvSpPr>
        <p:spPr>
          <a:xfrm>
            <a:off x="0" y="328464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ou votre partenaire avez des démangeaisons, des boutons, une irri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480" y="23922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le diaphragme est raide, fin ou trou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480" y="1773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avez encore besoin de spermic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480" y="12621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Revenez s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96880" y="5810400"/>
            <a:ext cx="7761600" cy="97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Pensez-vous que cette méthode vous conviendra ? </a:t>
            </a:r>
            <a:br>
              <a:rPr sz="1200"/>
            </a:b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Voulez-vous que je répète ou que je vous explique quelque chose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200" spc="-1" strike="noStrike">
                <a:solidFill>
                  <a:srgbClr val="ff3399"/>
                </a:solidFill>
                <a:latin typeface="Arial"/>
              </a:rPr>
              <a:t>Attention ! Proposez des préservatifs pour la double protection et/ou comme moyen de remplacement.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Enfin, le message le plus i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portant :  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Utilisez cette méthode de façon systématique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8520" y="5487840"/>
            <a:ext cx="1582920" cy="289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s étap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8080" y="58680"/>
            <a:ext cx="1143000" cy="730440"/>
            <a:chOff x="208080" y="58680"/>
            <a:chExt cx="1143000" cy="730440"/>
          </a:xfrm>
        </p:grpSpPr>
        <p:sp>
          <p:nvSpPr>
            <p:cNvPr id="253" name=""/>
            <p:cNvSpPr/>
            <p:nvPr/>
          </p:nvSpPr>
          <p:spPr>
            <a:xfrm>
              <a:off x="208080" y="586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2480" y="78840"/>
              <a:ext cx="935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Métho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vagi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35160" y="446040"/>
              <a:ext cx="914400" cy="343080"/>
              <a:chOff x="335160" y="446040"/>
              <a:chExt cx="914400" cy="343080"/>
            </a:xfrm>
          </p:grpSpPr>
          <p:pic>
            <p:nvPicPr>
              <p:cNvPr id="2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880" y="47772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160" y="4460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/>
  <dc:description/>
  <dc:language>en-US</dc:language>
  <cp:lastModifiedBy>meynentc</cp:lastModifiedBy>
  <cp:lastPrinted>2002-06-10T08:51:06Z</cp:lastPrinted>
  <dcterms:modified xsi:type="dcterms:W3CDTF">2007-07-23T12:26:36Z</dcterms:modified>
  <cp:revision>476</cp:revision>
  <dc:subject/>
  <dc:title>Les méthodes vaginales</dc:title>
</cp:coreProperties>
</file>