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907588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709560" y="746280"/>
            <a:ext cx="5376960" cy="372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6480" y="4716360"/>
            <a:ext cx="4981680" cy="446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2B2E1-C12D-424F-B205-19F6E28F6D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709560" y="744480"/>
            <a:ext cx="5380200" cy="37242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txBody>
          <a:bodyPr lIns="90720" rIns="90720" tIns="45360" bIns="45360" anchor="t">
            <a:noAutofit/>
          </a:bodyPr>
          <a:p>
            <a:pPr marL="856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Adaptation Notes: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or production of the tool the “Tab markers” on each new section can be removed (so long as tabs will be used).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709560" y="744480"/>
            <a:ext cx="5380200" cy="37242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daptation Notes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709560" y="744480"/>
            <a:ext cx="5380200" cy="37242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marL="856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Adaptation Notes: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If Levonorgestrel-only ECPs are readily available in the country programme, can remove references to combined estrogen-progestogen ECPs (since they are less effective and cause more nausea and vomiting).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lternative images of ECPs are contained in the adaptation CD Rom. 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ossible addition: guidance on use of combined oral contraceptive pills (COCs) for emergency contraception.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709560" y="744480"/>
            <a:ext cx="5380200" cy="37242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daptation notes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709560" y="744480"/>
            <a:ext cx="5380200" cy="37242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06480" y="4716360"/>
            <a:ext cx="4981680" cy="446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daptation notes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dd any relevant referral informa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709560" y="744480"/>
            <a:ext cx="5380200" cy="37242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daptation notes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709560" y="744480"/>
            <a:ext cx="5380200" cy="37242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daptation notes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formation on length of use refers to Copper IUD. Adapt text for other IUDs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709560" y="746280"/>
            <a:ext cx="5376960" cy="3722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06480" y="4716360"/>
            <a:ext cx="4981680" cy="446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daptation not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information applies to Copper-releasing IUDs. The image is of a Copper T IUD. If different types of IUD are used, then these pages may need to be adapted (including both images and technical information)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GB" sz="1200" spc="-1" strike="noStrike">
                <a:solidFill>
                  <a:srgbClr val="ff66cc"/>
                </a:solidFill>
                <a:latin typeface="Arial"/>
              </a:rPr>
              <a:t>adaptation CD Rom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ins an alternate file for the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vonorgestrel-releasing (hormonal) IUD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8DA9-CB39-4DF2-9125-B8F817B7C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7AA1-72D2-4DFA-8A96-1B6BDE1D2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A03E-D2FC-4A49-943B-6EB8EE80C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F9E0-AF68-4A98-AC1A-1CB73EAA2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9D08-B479-4D98-9C46-1A5752941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E0D6-1241-441D-ABC5-A6E00A767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222C-5954-40F7-AD97-85FFE4E37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D003-90E4-48F3-A5B9-6775B14AC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B75D-AF71-444C-8607-F9A88CE91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D83F-01A6-4EC7-B6AD-54104AB64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4E21-748D-46BC-A91B-3789BBF53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4976-007B-4FC2-80E9-E2E0A9417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3112E-3C82-453B-8042-033C573587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-6840"/>
            <a:ext cx="9907560" cy="838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fr-CH" sz="4000" spc="-1" strike="noStrike">
                <a:solidFill>
                  <a:srgbClr val="000000"/>
                </a:solidFill>
                <a:latin typeface="Arial"/>
              </a:rPr>
              <a:t>La contraception d'urgence (CU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9480" y="1037880"/>
            <a:ext cx="335772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-177840">
              <a:lnSpc>
                <a:spcPct val="100000"/>
              </a:lnSpc>
              <a:spcBef>
                <a:spcPts val="4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600" spc="-1" strike="noStrike">
                <a:solidFill>
                  <a:srgbClr val="000000"/>
                </a:solidFill>
                <a:latin typeface="Arial"/>
              </a:rPr>
              <a:t>Il existe des méthodes sûres pour éviter la grossesse après un rapport sexuel non protég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944880" y="3078000"/>
            <a:ext cx="5897520" cy="538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01520" indent="-101520">
              <a:lnSpc>
                <a:spcPct val="9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100" spc="-1" strike="noStrike">
                <a:solidFill>
                  <a:srgbClr val="ff3300"/>
                </a:solidFill>
                <a:latin typeface="Arial"/>
              </a:rPr>
              <a:t>Pilule pour la contraception d'urgence</a:t>
            </a:r>
            <a:r>
              <a:rPr b="0" lang="fr-CH" sz="11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95000"/>
              </a:lnSpc>
              <a:spcBef>
                <a:spcPts val="2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La cliente doit </a:t>
            </a:r>
            <a:r>
              <a:rPr b="1" i="1" lang="fr-CH" sz="1100" spc="-1" strike="noStrike">
                <a:solidFill>
                  <a:srgbClr val="000000"/>
                </a:solidFill>
                <a:latin typeface="Arial"/>
              </a:rPr>
              <a:t>prendre la pilule dès que possible </a:t>
            </a: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après un rapport sexuel non protégé et jusqu'à 5  jours après. Voir page suivant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944880" y="4595760"/>
            <a:ext cx="5897520" cy="304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01520" indent="-101520">
              <a:lnSpc>
                <a:spcPct val="100000"/>
              </a:lnSpc>
              <a:spcBef>
                <a:spcPts val="27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Donnez les conseils qui s'imposent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44880" y="919080"/>
            <a:ext cx="5897520" cy="638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marL="114480" indent="-114480">
              <a:lnSpc>
                <a:spcPct val="95000"/>
              </a:lnSpc>
              <a:spcBef>
                <a:spcPts val="2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«</a:t>
            </a:r>
            <a:r>
              <a:rPr b="0" i="1" lang="fr-CH" sz="1100" spc="-1" strike="noStrike">
                <a:solidFill>
                  <a:srgbClr val="000000"/>
                </a:solidFill>
                <a:latin typeface="Arial"/>
              </a:rPr>
              <a:t>Ça peut arriver à tout le monde.</a:t>
            </a:r>
            <a:r>
              <a:rPr b="0" i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»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2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Laisser la cliente présenter son cas, si elle le souhait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2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Proposez un soutien, sans juger le comportement de la cliente. </a:t>
            </a: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510000" y="1227240"/>
            <a:ext cx="380880" cy="304560"/>
          </a:xfrm>
          <a:prstGeom prst="rightArrow">
            <a:avLst>
              <a:gd name="adj1" fmla="val 44444"/>
              <a:gd name="adj2" fmla="val 48634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510000" y="313848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1759800">
            <a:off x="3492000" y="4483080"/>
            <a:ext cx="381240" cy="304920"/>
          </a:xfrm>
          <a:prstGeom prst="rightArrow">
            <a:avLst>
              <a:gd name="adj1" fmla="val 44444"/>
              <a:gd name="adj2" fmla="val 48622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5867280"/>
            <a:ext cx="9909000" cy="1014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fr-CH" sz="1600" spc="-1" strike="noStrike">
                <a:solidFill>
                  <a:srgbClr val="000000"/>
                </a:solidFill>
                <a:latin typeface="Arial"/>
              </a:rPr>
              <a:t>La cliente veut-elle recourir à la contraception d'urgence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9440" y="6151680"/>
            <a:ext cx="3962160" cy="693720"/>
          </a:xfrm>
          <a:prstGeom prst="downArrowCallout">
            <a:avLst>
              <a:gd name="adj1" fmla="val 571199"/>
              <a:gd name="adj2" fmla="val 285573"/>
              <a:gd name="adj3" fmla="val 33333"/>
              <a:gd name="adj4" fmla="val 66667"/>
            </a:avLst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Arial"/>
              </a:rPr>
              <a:t>Pour avoir des informations sur la </a:t>
            </a:r>
            <a:r>
              <a:rPr b="1" lang="fr-CH" sz="1400" spc="-1" strike="noStrike">
                <a:solidFill>
                  <a:srgbClr val="000000"/>
                </a:solidFill>
                <a:latin typeface="Arial"/>
              </a:rPr>
              <a:t>pilule</a:t>
            </a:r>
            <a:r>
              <a:rPr b="0" lang="fr-CH" sz="1400" spc="-1" strike="noStrike">
                <a:solidFill>
                  <a:srgbClr val="000000"/>
                </a:solidFill>
                <a:latin typeface="Arial"/>
              </a:rPr>
              <a:t>, passez à la </a:t>
            </a:r>
            <a:r>
              <a:rPr b="1" lang="fr-CH" sz="1400" spc="-1" strike="noStrike">
                <a:solidFill>
                  <a:srgbClr val="000000"/>
                </a:solidFill>
                <a:latin typeface="Arial"/>
              </a:rPr>
              <a:t>page suivant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297400" y="6146640"/>
            <a:ext cx="3962520" cy="693720"/>
          </a:xfrm>
          <a:prstGeom prst="downArrowCallout">
            <a:avLst>
              <a:gd name="adj1" fmla="val 571251"/>
              <a:gd name="adj2" fmla="val 285599"/>
              <a:gd name="adj3" fmla="val 33333"/>
              <a:gd name="adj4" fmla="val 66667"/>
            </a:avLst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Arial"/>
              </a:rPr>
              <a:t>Pour avoir des informations sur </a:t>
            </a:r>
            <a:r>
              <a:rPr b="1" lang="fr-CH" sz="1400" spc="-1" strike="noStrike">
                <a:solidFill>
                  <a:srgbClr val="000000"/>
                </a:solidFill>
                <a:latin typeface="Arial"/>
              </a:rPr>
              <a:t>le stérilet au cuivre, </a:t>
            </a:r>
            <a:r>
              <a:rPr b="0" lang="fr-CH" sz="1400" spc="-1" strike="noStrike">
                <a:solidFill>
                  <a:srgbClr val="000000"/>
                </a:solidFill>
                <a:latin typeface="Arial"/>
              </a:rPr>
              <a:t>allez à la </a:t>
            </a:r>
            <a:r>
              <a:rPr b="1" lang="fr-CH" sz="1400" spc="-1" strike="noStrike">
                <a:solidFill>
                  <a:srgbClr val="000000"/>
                </a:solidFill>
                <a:latin typeface="Arial"/>
              </a:rPr>
              <a:t>page CU4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16080" y="3083040"/>
            <a:ext cx="4292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77840" indent="-177840">
              <a:lnSpc>
                <a:spcPct val="10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6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fr-CH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CH" sz="1600" spc="-1" strike="noStrike">
                <a:solidFill>
                  <a:srgbClr val="000000"/>
                </a:solidFill>
                <a:latin typeface="Arial"/>
              </a:rPr>
              <a:t>il y a 5 jours ou moins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6080" y="4295880"/>
            <a:ext cx="3124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77840" indent="-177840">
              <a:lnSpc>
                <a:spcPct val="10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6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fr-CH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CH" sz="1600" spc="-1" strike="noStrike">
                <a:solidFill>
                  <a:srgbClr val="000000"/>
                </a:solidFill>
                <a:latin typeface="Arial"/>
              </a:rPr>
              <a:t>il y a plus de 5 jours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410760" y="6464160"/>
            <a:ext cx="457200" cy="355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CU</a:t>
            </a:r>
            <a:br>
              <a:rPr sz="1200"/>
            </a:b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9840" y="2262240"/>
            <a:ext cx="38750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154440" indent="-154440">
              <a:lnSpc>
                <a:spcPct val="100000"/>
              </a:lnSpc>
              <a:spcBef>
                <a:spcPts val="15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600" spc="-1" strike="noStrike">
                <a:solidFill>
                  <a:srgbClr val="000000"/>
                </a:solidFill>
                <a:latin typeface="Arial"/>
              </a:rPr>
              <a:t>Quand avez-vous eu un rapport sexuel non protégé pour la dernière fois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9053280" y="1022400"/>
            <a:ext cx="635040" cy="468360"/>
            <a:chOff x="9053280" y="1022400"/>
            <a:chExt cx="635040" cy="468360"/>
          </a:xfrm>
        </p:grpSpPr>
        <p:sp>
          <p:nvSpPr>
            <p:cNvPr id="64" name=""/>
            <p:cNvSpPr/>
            <p:nvPr/>
          </p:nvSpPr>
          <p:spPr>
            <a:xfrm flipH="1">
              <a:off x="9052920" y="1022400"/>
              <a:ext cx="613080" cy="468360"/>
            </a:xfrm>
            <a:prstGeom prst="rect">
              <a:avLst/>
            </a:prstGeom>
            <a:solidFill>
              <a:srgbClr val="83e3a8"/>
            </a:solidFill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5" name="" descr=""/>
            <p:cNvPicPr/>
            <p:nvPr/>
          </p:nvPicPr>
          <p:blipFill>
            <a:blip r:embed="rId1"/>
            <a:stretch/>
          </p:blipFill>
          <p:spPr>
            <a:xfrm>
              <a:off x="9068760" y="1030680"/>
              <a:ext cx="619560" cy="44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" name=""/>
          <p:cNvSpPr/>
          <p:nvPr/>
        </p:nvSpPr>
        <p:spPr>
          <a:xfrm>
            <a:off x="3944880" y="3656160"/>
            <a:ext cx="5897520" cy="898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ctr">
            <a:noAutofit/>
          </a:bodyPr>
          <a:p>
            <a:pPr marL="101520" indent="-101520">
              <a:lnSpc>
                <a:spcPct val="9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100" spc="-1" strike="noStrike">
                <a:solidFill>
                  <a:srgbClr val="ff3300"/>
                </a:solidFill>
                <a:latin typeface="Arial"/>
              </a:rPr>
              <a:t>Le stérilet au cuivre 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95000"/>
              </a:lnSpc>
              <a:spcBef>
                <a:spcPts val="2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Plus efficace que les pilules mais à ne pas utiliser chez les femmes très exposées au </a:t>
            </a:r>
            <a:br>
              <a:rPr sz="1100"/>
            </a:b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risque d'IST (voir l'onglet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«</a:t>
            </a: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Stérilet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»</a:t>
            </a: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, page S2)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95000"/>
              </a:lnSpc>
              <a:spcBef>
                <a:spcPts val="2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Peut aussi être utilisé jusqu'à 5 jours après un rapport sexuel non protégé (voir page CU4)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95000"/>
              </a:lnSpc>
              <a:spcBef>
                <a:spcPts val="2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Un bon choix pour les femmes qui veulent continuer à porter un stérilet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rot="1422000">
            <a:off x="3506760" y="351432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5000" y="44280"/>
            <a:ext cx="1256760" cy="752760"/>
            <a:chOff x="135000" y="44280"/>
            <a:chExt cx="1256760" cy="752760"/>
          </a:xfrm>
        </p:grpSpPr>
        <p:sp>
          <p:nvSpPr>
            <p:cNvPr id="69" name=""/>
            <p:cNvSpPr/>
            <p:nvPr/>
          </p:nvSpPr>
          <p:spPr>
            <a:xfrm>
              <a:off x="163440" y="52560"/>
              <a:ext cx="1143000" cy="74448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35000" y="44280"/>
              <a:ext cx="1256760" cy="40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85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ntraception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'urgen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1" name="" descr=""/>
            <p:cNvPicPr/>
            <p:nvPr/>
          </p:nvPicPr>
          <p:blipFill>
            <a:blip r:embed="rId2"/>
            <a:stretch/>
          </p:blipFill>
          <p:spPr>
            <a:xfrm>
              <a:off x="200160" y="461880"/>
              <a:ext cx="633240" cy="25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" descr=""/>
            <p:cNvPicPr/>
            <p:nvPr/>
          </p:nvPicPr>
          <p:blipFill>
            <a:blip r:embed="rId3"/>
            <a:stretch/>
          </p:blipFill>
          <p:spPr>
            <a:xfrm>
              <a:off x="920880" y="433440"/>
              <a:ext cx="234720" cy="336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" name=""/>
          <p:cNvSpPr/>
          <p:nvPr/>
        </p:nvSpPr>
        <p:spPr>
          <a:xfrm>
            <a:off x="69840" y="4979880"/>
            <a:ext cx="364500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165240" indent="-165240">
              <a:lnSpc>
                <a:spcPct val="100000"/>
              </a:lnSpc>
              <a:spcBef>
                <a:spcPts val="4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600" spc="-1" strike="noStrike">
                <a:solidFill>
                  <a:srgbClr val="000000"/>
                </a:solidFill>
                <a:latin typeface="Arial"/>
              </a:rPr>
              <a:t>Est-il possible que vous ayez été exposée à une IST ou au VIH 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944880" y="4941720"/>
            <a:ext cx="5897520" cy="8715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01520" indent="-101520">
              <a:lnSpc>
                <a:spcPct val="100000"/>
              </a:lnSpc>
              <a:spcBef>
                <a:spcPts val="27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En cas de suspicion de transmission du VIH ou d'une IST au cours d'un rapport sexuel non protégé, proposez d'entamer </a:t>
            </a:r>
            <a:r>
              <a:rPr b="1" lang="fr-CH" sz="1100" spc="-1" strike="noStrike">
                <a:solidFill>
                  <a:srgbClr val="000000"/>
                </a:solidFill>
                <a:latin typeface="Arial"/>
              </a:rPr>
              <a:t>immédiatement (dans les 72 heures) une prophylaxie post-exposition contre le VIH</a:t>
            </a: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 et/ou un traitement présomptif des IST, si possible ou orientez la personne pour qu'elle bénéficie de conseils, d'un soutien et d'un traitement supplémentaire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513240" y="537372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9167760" y="5699160"/>
            <a:ext cx="576000" cy="468360"/>
            <a:chOff x="9167760" y="5699160"/>
            <a:chExt cx="576000" cy="468360"/>
          </a:xfrm>
        </p:grpSpPr>
        <p:sp>
          <p:nvSpPr>
            <p:cNvPr id="77" name=""/>
            <p:cNvSpPr/>
            <p:nvPr/>
          </p:nvSpPr>
          <p:spPr>
            <a:xfrm>
              <a:off x="9167760" y="5699160"/>
              <a:ext cx="576000" cy="46836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8" name="" descr=""/>
            <p:cNvPicPr/>
            <p:nvPr/>
          </p:nvPicPr>
          <p:blipFill>
            <a:blip r:embed="rId4"/>
            <a:stretch/>
          </p:blipFill>
          <p:spPr>
            <a:xfrm>
              <a:off x="9307440" y="5824800"/>
              <a:ext cx="334800" cy="249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9" name=""/>
          <p:cNvSpPr/>
          <p:nvPr/>
        </p:nvSpPr>
        <p:spPr>
          <a:xfrm>
            <a:off x="0" y="6886440"/>
            <a:ext cx="1353960" cy="43812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Contraception d'urg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-119160" y="5940360"/>
            <a:ext cx="1219320" cy="9460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560520" y="5616720"/>
            <a:ext cx="1447560" cy="30456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Prochaine étape 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3944880" y="1596960"/>
            <a:ext cx="5961240" cy="1440000"/>
            <a:chOff x="3944880" y="1596960"/>
            <a:chExt cx="5961240" cy="1440000"/>
          </a:xfrm>
        </p:grpSpPr>
        <p:sp>
          <p:nvSpPr>
            <p:cNvPr id="83" name=""/>
            <p:cNvSpPr/>
            <p:nvPr/>
          </p:nvSpPr>
          <p:spPr>
            <a:xfrm>
              <a:off x="3944880" y="1596960"/>
              <a:ext cx="5897520" cy="14400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72000" tIns="46800" bIns="46800" anchor="ctr">
              <a:noAutofit/>
            </a:bodyPr>
            <a:p>
              <a:pPr marL="114480" indent="-114480">
                <a:lnSpc>
                  <a:spcPct val="95000"/>
                </a:lnSpc>
                <a:spcBef>
                  <a:spcPts val="201"/>
                </a:spcBef>
                <a:buClr>
                  <a:srgbClr val="ff33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1100" spc="-1" strike="noStrike">
                  <a:solidFill>
                    <a:srgbClr val="000000"/>
                  </a:solidFill>
                  <a:latin typeface="Arial"/>
                </a:rPr>
                <a:t>La cliente peut envisager de recourir à la contraception d'urgence si :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14480" indent="-114480">
                <a:lnSpc>
                  <a:spcPct val="95000"/>
                </a:lnSpc>
                <a:spcBef>
                  <a:spcPts val="201"/>
                </a:spcBef>
                <a:buClr>
                  <a:srgbClr val="ff33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14480" indent="-114480">
                <a:lnSpc>
                  <a:spcPct val="95000"/>
                </a:lnSpc>
                <a:spcBef>
                  <a:spcPts val="201"/>
                </a:spcBef>
                <a:buClr>
                  <a:srgbClr val="ff33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14480" indent="-114480">
                <a:lnSpc>
                  <a:spcPct val="95000"/>
                </a:lnSpc>
                <a:spcBef>
                  <a:spcPts val="201"/>
                </a:spcBef>
                <a:buClr>
                  <a:srgbClr val="ff33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14480" indent="-114480">
                <a:lnSpc>
                  <a:spcPct val="95000"/>
                </a:lnSpc>
                <a:spcBef>
                  <a:spcPts val="201"/>
                </a:spcBef>
                <a:buClr>
                  <a:srgbClr val="ff33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14480" indent="-114480">
                <a:lnSpc>
                  <a:spcPct val="95000"/>
                </a:lnSpc>
                <a:spcBef>
                  <a:spcPts val="201"/>
                </a:spcBef>
                <a:buClr>
                  <a:srgbClr val="ff33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1100" spc="-1" strike="noStrike">
                  <a:solidFill>
                    <a:srgbClr val="000000"/>
                  </a:solidFill>
                  <a:latin typeface="Arial"/>
                </a:rPr>
                <a:t>Si la cliente répond oui à l'une des questions figurant à l'annexe 1, elle n'est probablement pas féconde et n'a donc pas besoin d'une contraception d'urgence. Elle peut néanmoins en bénéficier si elle est inquiète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103640" y="1773360"/>
              <a:ext cx="5802480" cy="78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5000"/>
                </a:lnSpc>
                <a:spcBef>
                  <a:spcPts val="201"/>
                </a:spcBef>
                <a:buClr>
                  <a:srgbClr val="ff33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1100" spc="-1" strike="noStrike">
                  <a:solidFill>
                    <a:srgbClr val="000000"/>
                  </a:solidFill>
                  <a:latin typeface="Arial"/>
                </a:rPr>
                <a:t>aucune méthode n'a été utilisé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5000"/>
                </a:lnSpc>
                <a:spcBef>
                  <a:spcPts val="201"/>
                </a:spcBef>
                <a:buClr>
                  <a:srgbClr val="ff33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1100" spc="-1" strike="noStrike">
                  <a:solidFill>
                    <a:srgbClr val="000000"/>
                  </a:solidFill>
                  <a:latin typeface="Arial"/>
                </a:rPr>
                <a:t>une méthode n'a pas été utilisée correctement (par exemple : oubli de la pilule, retard dans une injection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5000"/>
                </a:lnSpc>
                <a:spcBef>
                  <a:spcPts val="201"/>
                </a:spcBef>
                <a:buClr>
                  <a:srgbClr val="ff33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1100" spc="-1" strike="noStrike">
                  <a:solidFill>
                    <a:srgbClr val="000000"/>
                  </a:solidFill>
                  <a:latin typeface="Arial"/>
                </a:rPr>
                <a:t>la méthode a échoué (par exemple, déchirure du préservatif, expulsion du stérilet)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 rot="21468000">
            <a:off x="7635960" y="4348080"/>
            <a:ext cx="1866960" cy="129384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rot="20042400">
            <a:off x="5410080" y="4114440"/>
            <a:ext cx="1905120" cy="167652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rot="21232200">
            <a:off x="6172200" y="1626840"/>
            <a:ext cx="3276720" cy="205740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28520" y="1177560"/>
            <a:ext cx="5943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177840" indent="-177840">
              <a:lnSpc>
                <a:spcPct val="90000"/>
              </a:lnSpc>
              <a:spcBef>
                <a:spcPts val="233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200" spc="-1" strike="noStrike">
                <a:solidFill>
                  <a:srgbClr val="000000"/>
                </a:solidFill>
                <a:latin typeface="Arial"/>
              </a:rPr>
              <a:t>A prendre dès que possible après un rapport sexuel non protég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90000"/>
              </a:lnSpc>
              <a:spcBef>
                <a:spcPts val="233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200" spc="-1" strike="noStrike">
                <a:solidFill>
                  <a:srgbClr val="000000"/>
                </a:solidFill>
                <a:latin typeface="Arial"/>
              </a:rPr>
              <a:t>Ne provoque pas d'avortemen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90000"/>
              </a:lnSpc>
              <a:spcBef>
                <a:spcPts val="233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200" spc="-1" strike="noStrike">
                <a:solidFill>
                  <a:srgbClr val="000000"/>
                </a:solidFill>
                <a:latin typeface="Arial"/>
              </a:rPr>
              <a:t>Peut entraîner des nausées, des vomissements, des saignotements ou des saigne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90000"/>
              </a:lnSpc>
              <a:spcBef>
                <a:spcPts val="233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200" spc="-1" strike="noStrike">
                <a:solidFill>
                  <a:srgbClr val="000000"/>
                </a:solidFill>
                <a:latin typeface="Arial"/>
              </a:rPr>
              <a:t>N'évite pas la grossesse lors de rapports sexuels ultérieu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90000"/>
              </a:lnSpc>
              <a:spcBef>
                <a:spcPts val="233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200" spc="-1" strike="noStrike">
                <a:solidFill>
                  <a:srgbClr val="000000"/>
                </a:solidFill>
                <a:latin typeface="Arial"/>
              </a:rPr>
              <a:t>A ne pas utiliser régulière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-360" y="-3600"/>
            <a:ext cx="9907560" cy="101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400" spc="-1" strike="noStrike">
                <a:solidFill>
                  <a:srgbClr val="000000"/>
                </a:solidFill>
                <a:latin typeface="Arial"/>
              </a:rPr>
              <a:t>Contraception d'urgence : la pilu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6184800" y="1981080"/>
            <a:ext cx="3505320" cy="17780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7551720" y="4751280"/>
            <a:ext cx="2049480" cy="13194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5718240" y="4199040"/>
            <a:ext cx="1206360" cy="20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4680"/>
            <a:ext cx="9907560" cy="838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fr-CH" sz="4000" spc="-1" strike="noStrike">
                <a:solidFill>
                  <a:srgbClr val="000000"/>
                </a:solidFill>
                <a:latin typeface="Arial"/>
              </a:rPr>
              <a:t>Contraception d'urgence : la pilu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76880" y="909720"/>
            <a:ext cx="5384520" cy="1295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95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100" spc="-1" strike="noStrike">
                <a:solidFill>
                  <a:srgbClr val="ff3300"/>
                </a:solidFill>
                <a:latin typeface="Arial"/>
              </a:rPr>
              <a:t>La cliente doit prendre </a:t>
            </a:r>
            <a:r>
              <a:rPr b="1" i="1" lang="fr-CH" sz="1100" spc="-1" strike="noStrike">
                <a:solidFill>
                  <a:srgbClr val="ff3300"/>
                </a:solidFill>
                <a:latin typeface="Arial"/>
              </a:rPr>
              <a:t>la pilule dès que possible </a:t>
            </a:r>
            <a:r>
              <a:rPr b="1" lang="fr-CH" sz="1100" spc="-1" strike="noStrike">
                <a:solidFill>
                  <a:srgbClr val="ff3300"/>
                </a:solidFill>
                <a:latin typeface="Arial"/>
              </a:rPr>
              <a:t>après un rapport sexuel non protégé, idéalement dans les 72 heures (3 jours). </a:t>
            </a: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La pilule peut être prise jusqu'à 120 heures (5 jours) après le rapport sexuel mais plus le temps passe, moins elle est efficac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Si la cliente a eu </a:t>
            </a:r>
            <a:r>
              <a:rPr b="0" i="1" lang="fr-CH" sz="1100" spc="-1" strike="noStrike">
                <a:solidFill>
                  <a:srgbClr val="000000"/>
                </a:solidFill>
                <a:latin typeface="Arial"/>
              </a:rPr>
              <a:t>d'autres rapports </a:t>
            </a: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non protégés depuis ses dernières règles, elle est peut-être déjà enceinte et la pilule n'aura alors aucun effet. La pilule n'a pas d'effet nocif sur la grossesse. </a:t>
            </a:r>
            <a:r>
              <a:rPr b="1" lang="fr-CH" sz="1100" spc="-1" strike="noStrike">
                <a:solidFill>
                  <a:srgbClr val="000000"/>
                </a:solidFill>
                <a:latin typeface="Arial"/>
              </a:rPr>
              <a:t>La cliente doit revenir si elle a un retard de règles de plus d'une semain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952800" y="1289160"/>
            <a:ext cx="381240" cy="304560"/>
          </a:xfrm>
          <a:prstGeom prst="rightArrow">
            <a:avLst>
              <a:gd name="adj1" fmla="val 44444"/>
              <a:gd name="adj2" fmla="val 48680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rot="2005800">
            <a:off x="3935520" y="434484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2238000">
            <a:off x="3938760" y="508428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6021360"/>
            <a:ext cx="9909000" cy="8366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49440" y="6170760"/>
            <a:ext cx="3962160" cy="650880"/>
          </a:xfrm>
          <a:prstGeom prst="downArrowCallout">
            <a:avLst>
              <a:gd name="adj1" fmla="val 608794"/>
              <a:gd name="adj2" fmla="val 304369"/>
              <a:gd name="adj3" fmla="val 33333"/>
              <a:gd name="adj4" fmla="val 66667"/>
            </a:avLst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Arial"/>
              </a:rPr>
              <a:t>Si la cliente choisit la pilule, </a:t>
            </a:r>
            <a:r>
              <a:rPr b="0" lang="fr-CH" sz="1400" spc="-1" strike="noStrike">
                <a:solidFill>
                  <a:srgbClr val="000000"/>
                </a:solidFill>
                <a:latin typeface="Arial"/>
              </a:rPr>
              <a:t>donnez-lui en et passez à la </a:t>
            </a:r>
            <a:r>
              <a:rPr b="1" lang="fr-CH" sz="1400" spc="-1" strike="noStrike">
                <a:solidFill>
                  <a:srgbClr val="000000"/>
                </a:solidFill>
                <a:latin typeface="Arial"/>
              </a:rPr>
              <a:t>page suivant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297400" y="6165720"/>
            <a:ext cx="3962520" cy="650880"/>
          </a:xfrm>
          <a:prstGeom prst="downArrowCallout">
            <a:avLst>
              <a:gd name="adj1" fmla="val 608850"/>
              <a:gd name="adj2" fmla="val 304397"/>
              <a:gd name="adj3" fmla="val 33333"/>
              <a:gd name="adj4" fmla="val 66667"/>
            </a:avLst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Arial"/>
              </a:rPr>
              <a:t>Pour avoir des informations sur le </a:t>
            </a:r>
            <a:r>
              <a:rPr b="1" lang="fr-CH" sz="1400" spc="-1" strike="noStrike">
                <a:solidFill>
                  <a:srgbClr val="000000"/>
                </a:solidFill>
                <a:latin typeface="Arial"/>
              </a:rPr>
              <a:t>stérilet au cuivre, </a:t>
            </a:r>
            <a:r>
              <a:rPr b="0" lang="fr-CH" sz="1400" spc="-1" strike="noStrike">
                <a:solidFill>
                  <a:srgbClr val="000000"/>
                </a:solidFill>
                <a:latin typeface="Arial"/>
              </a:rPr>
              <a:t>passez à la </a:t>
            </a:r>
            <a:r>
              <a:rPr b="1" lang="fr-CH" sz="1400" spc="-1" strike="noStrike">
                <a:solidFill>
                  <a:srgbClr val="000000"/>
                </a:solidFill>
                <a:latin typeface="Arial"/>
              </a:rPr>
              <a:t>page CU4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376880" y="5300640"/>
            <a:ext cx="5384520" cy="614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marL="114480" indent="-114480">
              <a:lnSpc>
                <a:spcPct val="90000"/>
              </a:lnSpc>
              <a:spcBef>
                <a:spcPts val="2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100" spc="-1" strike="noStrike">
                <a:solidFill>
                  <a:srgbClr val="ff3300"/>
                </a:solidFill>
                <a:latin typeface="Arial"/>
              </a:rPr>
              <a:t>Point à aborder :</a:t>
            </a:r>
            <a:r>
              <a:rPr b="1" lang="fr-CH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Prise en contraception d'urgence, la pilule n'évite pas les grossesses ultérieures. (voir à la page suivante pour un maintien de la protection)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0000"/>
              </a:lnSpc>
              <a:spcBef>
                <a:spcPts val="2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Est moins efficace que la majorité des méthodes régulière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5240" y="1136520"/>
            <a:ext cx="350496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rmAutofit fontScale="77000"/>
          </a:bodyPr>
          <a:p>
            <a:pPr marL="131760" indent="-13176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600" spc="-1" strike="noStrike">
                <a:solidFill>
                  <a:srgbClr val="000000"/>
                </a:solidFill>
                <a:latin typeface="Arial"/>
              </a:rPr>
              <a:t>A prendre dès que possible après un rapport sexuel non protég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31760" indent="-13176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00160" y="465300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600" spc="-1" strike="noStrike">
                <a:solidFill>
                  <a:srgbClr val="000000"/>
                </a:solidFill>
                <a:latin typeface="Arial"/>
              </a:rPr>
              <a:t>N'évite pas la grossesse lors de rapports sexuels ultérieu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5240" y="5338800"/>
            <a:ext cx="3274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600" spc="-1" strike="noStrike">
                <a:solidFill>
                  <a:srgbClr val="000000"/>
                </a:solidFill>
                <a:latin typeface="Arial"/>
              </a:rPr>
              <a:t>A ne pas utiliser régulièr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0160" y="3716280"/>
            <a:ext cx="3657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rmAutofit fontScale="74000"/>
          </a:bodyPr>
          <a:p>
            <a:pPr marL="126720" indent="-1267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126720" indent="-12672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600" spc="-1" strike="noStrike">
                <a:solidFill>
                  <a:srgbClr val="000000"/>
                </a:solidFill>
                <a:latin typeface="Arial"/>
              </a:rPr>
              <a:t>Peut entraîner des nausées, des vomissements, des saignotements ou des saign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26720" indent="-1267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0160" y="3429000"/>
            <a:ext cx="478764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600" spc="-1" strike="noStrike">
                <a:solidFill>
                  <a:srgbClr val="000000"/>
                </a:solidFill>
                <a:latin typeface="Arial"/>
              </a:rPr>
              <a:t>Ne provoque pas d'avort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376880" y="3657600"/>
            <a:ext cx="5384520" cy="4190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95000"/>
              </a:lnSpc>
              <a:spcBef>
                <a:spcPts val="2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«</a:t>
            </a:r>
            <a:r>
              <a:rPr b="0" i="1" lang="fr-CH" sz="1100" spc="-1" strike="noStrike">
                <a:solidFill>
                  <a:srgbClr val="000000"/>
                </a:solidFill>
                <a:latin typeface="Arial"/>
              </a:rPr>
              <a:t>La pilule empêche la grossesse. </a:t>
            </a:r>
            <a:r>
              <a:rPr b="1" i="1" lang="fr-CH" sz="1100" spc="-1" strike="noStrike">
                <a:solidFill>
                  <a:srgbClr val="000000"/>
                </a:solidFill>
                <a:latin typeface="Arial"/>
              </a:rPr>
              <a:t>Elle ne provoque pas d'avortement.</a:t>
            </a:r>
            <a:r>
              <a:rPr b="0" i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»</a:t>
            </a:r>
            <a:r>
              <a:rPr b="0" i="1" lang="fr-CH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Elle agit principalement en arrêtant l'ovulation (voir les annexes 4 et 5)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376880" y="4125960"/>
            <a:ext cx="5384520" cy="1125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ctr">
            <a:noAutofit/>
          </a:bodyPr>
          <a:p>
            <a:pPr marL="114480" indent="-114480">
              <a:lnSpc>
                <a:spcPct val="90000"/>
              </a:lnSpc>
              <a:spcBef>
                <a:spcPts val="13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Si la cliente prend des contraceptifs oraux combinés oestrogène-progestérone, elle peut prendre aussi des antiémétiques (chlorhydrate de méclozine) pour éviter les nausées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0000"/>
              </a:lnSpc>
              <a:spcBef>
                <a:spcPts val="13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En cas de vomissements dans les 2 heures suivant la prise de la pilule, la cliente doit revenir dans les meilleurs délais pour recevoir une autre dos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0000"/>
              </a:lnSpc>
              <a:spcBef>
                <a:spcPts val="13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Des saignotements ou des saignements sont possibles dans les quelques jours qui suivent la prise de la pilul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410760" y="6464160"/>
            <a:ext cx="457200" cy="355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CU</a:t>
            </a:r>
            <a:br>
              <a:rPr sz="1200"/>
            </a:b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376880" y="2252520"/>
            <a:ext cx="5384520" cy="13557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95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100" spc="-1" strike="noStrike">
                <a:solidFill>
                  <a:srgbClr val="ff3300"/>
                </a:solidFill>
                <a:latin typeface="Arial"/>
              </a:rPr>
              <a:t>Pilule au lévonorgestrel seul</a:t>
            </a:r>
            <a:r>
              <a:rPr b="0" lang="fr-CH" sz="11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62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Plus efficace et entraîne moins de nausées et de vomissements que les contraceptifs oraux combiné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62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100" spc="-1" strike="noStrike">
                <a:solidFill>
                  <a:srgbClr val="000000"/>
                </a:solidFill>
                <a:latin typeface="Arial"/>
              </a:rPr>
              <a:t>Posologie :</a:t>
            </a: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1,5 mg de lévonorgestrel en une seule prise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100" spc="-1" strike="noStrike">
                <a:solidFill>
                  <a:srgbClr val="ff3300"/>
                </a:solidFill>
                <a:latin typeface="Arial"/>
              </a:rPr>
              <a:t>Contraceptifs oraux oestroprogestatifs combiné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62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A utiliser si la pilule au lévonorgestrel n'est pas disponibl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62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100" spc="-1" strike="noStrike">
                <a:solidFill>
                  <a:srgbClr val="000000"/>
                </a:solidFill>
                <a:latin typeface="Arial"/>
              </a:rPr>
              <a:t>Posologie : </a:t>
            </a: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2 doses de 100 microgrammes d'éthinylestradiol + 0,5 mg de lévonorgestrel à 12 heures d'intervalle.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949400">
            <a:off x="3936600" y="365400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9274320" y="5734080"/>
            <a:ext cx="576000" cy="468360"/>
            <a:chOff x="9274320" y="5734080"/>
            <a:chExt cx="576000" cy="468360"/>
          </a:xfrm>
        </p:grpSpPr>
        <p:sp>
          <p:nvSpPr>
            <p:cNvPr id="113" name=""/>
            <p:cNvSpPr/>
            <p:nvPr/>
          </p:nvSpPr>
          <p:spPr>
            <a:xfrm>
              <a:off x="9274320" y="5734080"/>
              <a:ext cx="576000" cy="46836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9414000" y="5859720"/>
              <a:ext cx="334800" cy="249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5" name=""/>
          <p:cNvSpPr/>
          <p:nvPr/>
        </p:nvSpPr>
        <p:spPr>
          <a:xfrm>
            <a:off x="3959280" y="541332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135000" y="44280"/>
            <a:ext cx="1256760" cy="752760"/>
            <a:chOff x="135000" y="44280"/>
            <a:chExt cx="1256760" cy="752760"/>
          </a:xfrm>
        </p:grpSpPr>
        <p:sp>
          <p:nvSpPr>
            <p:cNvPr id="117" name=""/>
            <p:cNvSpPr/>
            <p:nvPr/>
          </p:nvSpPr>
          <p:spPr>
            <a:xfrm>
              <a:off x="163440" y="52560"/>
              <a:ext cx="1143000" cy="74448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35000" y="44280"/>
              <a:ext cx="1256760" cy="40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85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ntraception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'urgen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200160" y="461880"/>
              <a:ext cx="633240" cy="25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" descr=""/>
            <p:cNvPicPr/>
            <p:nvPr/>
          </p:nvPicPr>
          <p:blipFill>
            <a:blip r:embed="rId3"/>
            <a:stretch/>
          </p:blipFill>
          <p:spPr>
            <a:xfrm>
              <a:off x="920880" y="433440"/>
              <a:ext cx="234720" cy="336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1" name=""/>
          <p:cNvSpPr/>
          <p:nvPr/>
        </p:nvSpPr>
        <p:spPr>
          <a:xfrm>
            <a:off x="171360" y="5743440"/>
            <a:ext cx="1447920" cy="3049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Prochaine étape 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 rot="19867800">
            <a:off x="5638680" y="1752120"/>
            <a:ext cx="3657600" cy="274320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240"/>
            <a:ext cx="9907560" cy="101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000000"/>
                </a:solidFill>
                <a:latin typeface="Arial"/>
              </a:rPr>
              <a:t>Devez-vous continuer à vous protéger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0120" y="1981080"/>
            <a:ext cx="4457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rmAutofit/>
          </a:bodyPr>
          <a:p>
            <a:pPr marL="177840" indent="-177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" y="1052640"/>
            <a:ext cx="5156280" cy="43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87200" indent="-187200">
              <a:lnSpc>
                <a:spcPct val="100000"/>
              </a:lnSpc>
              <a:spcBef>
                <a:spcPts val="1100"/>
              </a:spcBef>
              <a:spcAft>
                <a:spcPts val="550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200" spc="-1" strike="noStrike">
                <a:solidFill>
                  <a:srgbClr val="000000"/>
                </a:solidFill>
                <a:latin typeface="Arial"/>
              </a:rPr>
              <a:t>Pourrait-il vous arriver d'avoir encore des rapports sexuels non protégés 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1100"/>
              </a:spcBef>
              <a:spcAft>
                <a:spcPts val="550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200" spc="-1" strike="noStrike">
                <a:solidFill>
                  <a:srgbClr val="000000"/>
                </a:solidFill>
                <a:latin typeface="Arial"/>
              </a:rPr>
              <a:t>Devez-vous vous prémunir à la fois de la grossesse et des IST ou du VIH/SIDA ?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1100"/>
              </a:spcBef>
              <a:spcAft>
                <a:spcPts val="550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200" spc="-1" strike="noStrike">
                <a:solidFill>
                  <a:srgbClr val="000000"/>
                </a:solidFill>
                <a:latin typeface="Arial"/>
              </a:rPr>
              <a:t>Pouvez-vous toujours choisir le moment de vos rapports sexuels 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1100"/>
              </a:spcBef>
              <a:spcAft>
                <a:spcPts val="550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200" spc="-1" strike="noStrike">
                <a:solidFill>
                  <a:srgbClr val="000000"/>
                </a:solidFill>
                <a:latin typeface="Arial"/>
              </a:rPr>
              <a:t>Employez-vous une méthode régulièrement ? En êtes-vous satisfaite 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6378480" y="1752480"/>
            <a:ext cx="2529000" cy="37339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2057400" y="5346720"/>
            <a:ext cx="5056200" cy="11937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H" sz="1800" spc="-1" strike="noStrike">
                <a:solidFill>
                  <a:srgbClr val="ff3300"/>
                </a:solidFill>
                <a:latin typeface="Arial"/>
              </a:rPr>
              <a:t>Voulez-vous savoir quelles méthodes de planification familiale vous pouvez choisir 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1828800" y="5676840"/>
            <a:ext cx="144792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5867280"/>
            <a:ext cx="9909000" cy="990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-3240"/>
            <a:ext cx="9907560" cy="838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fr-CH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fr-CH" sz="3400" spc="-1" strike="noStrike">
                <a:solidFill>
                  <a:srgbClr val="000000"/>
                </a:solidFill>
                <a:latin typeface="Arial"/>
              </a:rPr>
              <a:t>Devez-vous continuer à vous protéger ?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30120" y="1981080"/>
            <a:ext cx="4457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rmAutofit/>
          </a:bodyPr>
          <a:p>
            <a:pPr marL="177840" indent="-177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240160" y="1413000"/>
            <a:ext cx="4513320" cy="809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100000"/>
              </a:lnSpc>
              <a:spcAft>
                <a:spcPts val="300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Invitez la cliente à présenter son ca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Aft>
                <a:spcPts val="300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Si ses antécédents laissent supposer qu'elle a été exposée à une IST, orientez-la pour un traitement. Abordez l'utilisation du préservatif, si nécessai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240160" y="2349360"/>
            <a:ext cx="4513320" cy="65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10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En cas de risque d'IST, abordez la nécessité d'une double protection, contre la grossesse ET contre les IST ou le VIH/SIDA. Allez à l'ongle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«</a:t>
            </a: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Double prote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»</a:t>
            </a: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240160" y="3220920"/>
            <a:ext cx="4513320" cy="1071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spcBef>
                <a:spcPts val="15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Consultez l'annexe 9 pour aborder la communication </a:t>
            </a:r>
            <a:br>
              <a:rPr sz="1200"/>
            </a:b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avec le partenai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15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Si les antécédents de la personne laissent supposer qu'elle a été contrainte ou qu'elle a été victime de violence, orientez-la pour qu'elle bénéficie d'aide, si possible. Voir l'annexe 1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39680" y="1143000"/>
            <a:ext cx="449568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87200" indent="-187200">
              <a:lnSpc>
                <a:spcPct val="100000"/>
              </a:lnSpc>
              <a:tabLst>
                <a:tab algn="l" pos="0"/>
                <a:tab algn="l" pos="10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240160" y="4419720"/>
            <a:ext cx="4513320" cy="1025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95000"/>
              </a:lnSpc>
              <a:spcBef>
                <a:spcPts val="82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La cliente </a:t>
            </a: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peut commencer à utiliser une méthode immédiatement</a:t>
            </a: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, y compris la pilu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Si la cliente ne choisit pas de méthode régulière, proposez-lui des pilules à utiliser en cas d'urgence et des préservatifs, accompagnés d'un mode d'emplo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65600" y="1765440"/>
            <a:ext cx="381240" cy="304560"/>
          </a:xfrm>
          <a:prstGeom prst="rightArrow">
            <a:avLst>
              <a:gd name="adj1" fmla="val 44444"/>
              <a:gd name="adj2" fmla="val 48680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665600" y="3443400"/>
            <a:ext cx="381240" cy="304560"/>
          </a:xfrm>
          <a:prstGeom prst="rightArrow">
            <a:avLst>
              <a:gd name="adj1" fmla="val 44444"/>
              <a:gd name="adj2" fmla="val 48680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665600" y="2540160"/>
            <a:ext cx="381240" cy="304560"/>
          </a:xfrm>
          <a:prstGeom prst="rightArrow">
            <a:avLst>
              <a:gd name="adj1" fmla="val 44444"/>
              <a:gd name="adj2" fmla="val 48680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665600" y="4495680"/>
            <a:ext cx="381240" cy="304920"/>
          </a:xfrm>
          <a:prstGeom prst="rightArrow">
            <a:avLst>
              <a:gd name="adj1" fmla="val 44444"/>
              <a:gd name="adj2" fmla="val 48622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97400" y="6000840"/>
            <a:ext cx="3962520" cy="815760"/>
          </a:xfrm>
          <a:prstGeom prst="downArrowCallout">
            <a:avLst>
              <a:gd name="adj1" fmla="val 485790"/>
              <a:gd name="adj2" fmla="val 242872"/>
              <a:gd name="adj3" fmla="val 33333"/>
              <a:gd name="adj4" fmla="val 66667"/>
            </a:avLst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Arial"/>
              </a:rPr>
              <a:t>Pour avoir des informations sur le </a:t>
            </a:r>
            <a:r>
              <a:rPr b="1" lang="fr-CH" sz="1400" spc="-1" strike="noStrike">
                <a:solidFill>
                  <a:srgbClr val="000000"/>
                </a:solidFill>
                <a:latin typeface="Arial"/>
              </a:rPr>
              <a:t>stérilet au cuivre, </a:t>
            </a:r>
            <a:r>
              <a:rPr b="0" lang="fr-CH" sz="1400" spc="-1" strike="noStrike">
                <a:solidFill>
                  <a:srgbClr val="000000"/>
                </a:solidFill>
                <a:latin typeface="Arial"/>
              </a:rPr>
              <a:t>passez à la page suivante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49240" y="5985000"/>
            <a:ext cx="3976920" cy="635040"/>
          </a:xfrm>
          <a:prstGeom prst="rect">
            <a:avLst/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Arial"/>
              </a:rPr>
              <a:t>Si la cliente choisit de poursuivre la contraception, allez à l'ongl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«</a:t>
            </a:r>
            <a:r>
              <a:rPr b="1" lang="fr-CH" sz="1400" spc="-1" strike="noStrike">
                <a:solidFill>
                  <a:srgbClr val="000000"/>
                </a:solidFill>
                <a:latin typeface="Arial"/>
              </a:rPr>
              <a:t>Choix de la méthod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»</a:t>
            </a:r>
            <a:r>
              <a:rPr b="1" lang="fr-CH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9201240" y="1125360"/>
            <a:ext cx="576000" cy="468360"/>
            <a:chOff x="9201240" y="1125360"/>
            <a:chExt cx="576000" cy="468360"/>
          </a:xfrm>
        </p:grpSpPr>
        <p:sp>
          <p:nvSpPr>
            <p:cNvPr id="144" name=""/>
            <p:cNvSpPr/>
            <p:nvPr/>
          </p:nvSpPr>
          <p:spPr>
            <a:xfrm>
              <a:off x="9201240" y="1125360"/>
              <a:ext cx="576000" cy="4683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5" name="" descr=""/>
            <p:cNvPicPr/>
            <p:nvPr/>
          </p:nvPicPr>
          <p:blipFill>
            <a:blip r:embed="rId1"/>
            <a:stretch/>
          </p:blipFill>
          <p:spPr>
            <a:xfrm>
              <a:off x="9350280" y="1172880"/>
              <a:ext cx="288360" cy="384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6" name=""/>
          <p:cNvSpPr/>
          <p:nvPr/>
        </p:nvSpPr>
        <p:spPr>
          <a:xfrm>
            <a:off x="152280" y="2722680"/>
            <a:ext cx="4496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87200" indent="-187200"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10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</a:rPr>
              <a:t>Devez-vous vous prémunir à la fois de la grossesse et des IST ou du VIH/SIDA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52280" y="3340080"/>
            <a:ext cx="44960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87200" indent="-187200"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10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</a:rPr>
              <a:t>Pouvez-vous toujours choisir le moment de vos rapports sexuels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2280" y="4343400"/>
            <a:ext cx="44960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87200" indent="-187200"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10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</a:rPr>
              <a:t>Employez-vous une méthode régulièrement ? En êtes-vous satisfaite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52280" y="1666800"/>
            <a:ext cx="44960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87200" indent="-187200"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10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</a:rPr>
              <a:t>Pourrait-il vous arriver d'avoir encore des rapports sexuels non protégés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-127080" y="5911920"/>
            <a:ext cx="1219320" cy="9460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9410760" y="6464160"/>
            <a:ext cx="457200" cy="355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CU</a:t>
            </a:r>
            <a:br>
              <a:rPr sz="1200"/>
            </a:b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9142560" y="3105000"/>
            <a:ext cx="634320" cy="468360"/>
            <a:chOff x="9142560" y="3105000"/>
            <a:chExt cx="634320" cy="468360"/>
          </a:xfrm>
        </p:grpSpPr>
        <p:sp>
          <p:nvSpPr>
            <p:cNvPr id="153" name=""/>
            <p:cNvSpPr/>
            <p:nvPr/>
          </p:nvSpPr>
          <p:spPr>
            <a:xfrm flipH="1">
              <a:off x="9142560" y="3105000"/>
              <a:ext cx="612720" cy="468360"/>
            </a:xfrm>
            <a:prstGeom prst="rect">
              <a:avLst/>
            </a:prstGeom>
            <a:solidFill>
              <a:srgbClr val="83e3a8"/>
            </a:solidFill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4" name="" descr=""/>
            <p:cNvPicPr/>
            <p:nvPr/>
          </p:nvPicPr>
          <p:blipFill>
            <a:blip r:embed="rId3"/>
            <a:stretch/>
          </p:blipFill>
          <p:spPr>
            <a:xfrm>
              <a:off x="9157680" y="3113280"/>
              <a:ext cx="619200" cy="446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5" name=""/>
          <p:cNvGrpSpPr/>
          <p:nvPr/>
        </p:nvGrpSpPr>
        <p:grpSpPr>
          <a:xfrm>
            <a:off x="135000" y="44280"/>
            <a:ext cx="1256760" cy="752760"/>
            <a:chOff x="135000" y="44280"/>
            <a:chExt cx="1256760" cy="752760"/>
          </a:xfrm>
        </p:grpSpPr>
        <p:sp>
          <p:nvSpPr>
            <p:cNvPr id="156" name=""/>
            <p:cNvSpPr/>
            <p:nvPr/>
          </p:nvSpPr>
          <p:spPr>
            <a:xfrm>
              <a:off x="163440" y="52560"/>
              <a:ext cx="1143000" cy="74448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35000" y="44280"/>
              <a:ext cx="1256760" cy="40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85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ntraception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'urgen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8" name="" descr=""/>
            <p:cNvPicPr/>
            <p:nvPr/>
          </p:nvPicPr>
          <p:blipFill>
            <a:blip r:embed="rId4"/>
            <a:stretch/>
          </p:blipFill>
          <p:spPr>
            <a:xfrm>
              <a:off x="200160" y="461880"/>
              <a:ext cx="633240" cy="25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" descr=""/>
            <p:cNvPicPr/>
            <p:nvPr/>
          </p:nvPicPr>
          <p:blipFill>
            <a:blip r:embed="rId5"/>
            <a:stretch/>
          </p:blipFill>
          <p:spPr>
            <a:xfrm>
              <a:off x="920880" y="433440"/>
              <a:ext cx="234720" cy="336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0" name=""/>
          <p:cNvSpPr/>
          <p:nvPr/>
        </p:nvSpPr>
        <p:spPr>
          <a:xfrm>
            <a:off x="108000" y="5616720"/>
            <a:ext cx="1447920" cy="30456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Prochaine étape 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-360" y="6480"/>
            <a:ext cx="9907560" cy="1334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800" spc="-1" strike="noStrike">
                <a:solidFill>
                  <a:srgbClr val="000000"/>
                </a:solidFill>
                <a:latin typeface="Arial"/>
              </a:rPr>
              <a:t>Contraception d'urgence : </a:t>
            </a:r>
            <a:br>
              <a:rPr sz="4800"/>
            </a:br>
            <a:r>
              <a:rPr b="1" lang="fr-CH" sz="4800" spc="-1" strike="noStrike">
                <a:solidFill>
                  <a:srgbClr val="000000"/>
                </a:solidFill>
                <a:latin typeface="Arial"/>
              </a:rPr>
              <a:t>le stérilet au cuivr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29760" y="1258920"/>
            <a:ext cx="5079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rmAutofit/>
          </a:bodyPr>
          <a:p>
            <a:pPr marL="177840" indent="-177840">
              <a:lnSpc>
                <a:spcPct val="90000"/>
              </a:lnSpc>
              <a:spcBef>
                <a:spcPts val="165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200" spc="-1" strike="noStrike">
                <a:solidFill>
                  <a:srgbClr val="000000"/>
                </a:solidFill>
                <a:latin typeface="Arial"/>
              </a:rPr>
              <a:t>Utilisable en cas de rapport sexuel non protégé au cours des 5 derniers jou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90000"/>
              </a:lnSpc>
              <a:spcBef>
                <a:spcPts val="165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200" spc="-1" strike="noStrike">
                <a:solidFill>
                  <a:srgbClr val="000000"/>
                </a:solidFill>
                <a:latin typeface="Arial"/>
              </a:rPr>
              <a:t>Le stérilet est posé dans l'utérus par un médecin, une infirmière ou une sage-femme. Il peut provoquer quelques crampes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90000"/>
              </a:lnSpc>
              <a:spcBef>
                <a:spcPts val="165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200" spc="-1" strike="noStrike">
                <a:solidFill>
                  <a:srgbClr val="000000"/>
                </a:solidFill>
                <a:latin typeface="Arial"/>
              </a:rPr>
              <a:t>Le stérilet peut être ensuite retiré, ou laissé en place pour poursuivre la contracep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5486400" y="3263760"/>
            <a:ext cx="3200400" cy="286884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 flipH="1">
            <a:off x="7086240" y="3124080"/>
            <a:ext cx="1219320" cy="129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rot="3342000">
            <a:off x="7556400" y="1962000"/>
            <a:ext cx="1958760" cy="134928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7905600" y="1916280"/>
            <a:ext cx="1138320" cy="163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4680"/>
            <a:ext cx="9907560" cy="112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000000"/>
                </a:solidFill>
                <a:latin typeface="Arial"/>
              </a:rPr>
              <a:t>Contraception d'urgence :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000000"/>
                </a:solidFill>
                <a:latin typeface="Arial"/>
              </a:rPr>
              <a:t>le stérilet au cuiv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438880" y="3213000"/>
            <a:ext cx="4267080" cy="1511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marL="114480" indent="-114480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Utilisable comme méthode contraceptive au long cours s'il n'y a pas de contre-indication médicale. Peut être retiré à tout momen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S'il n'est pas retiré, le stérilet reste efficace pendant 10 ans au maxim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Si, utilisé en urgence, le stérilet n'empêche pas la grossesse, il devra être retiré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228240" y="1628640"/>
            <a:ext cx="4724280" cy="936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rmAutofit/>
          </a:bodyPr>
          <a:p>
            <a:pPr marL="177840" indent="-177840">
              <a:lnSpc>
                <a:spcPct val="95000"/>
              </a:lnSpc>
              <a:spcBef>
                <a:spcPts val="18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</a:rPr>
              <a:t>Utilisable en cas de rapport sexuel non protégé au cours des 5 derniers jou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5878440"/>
            <a:ext cx="9909000" cy="990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857240" y="6039000"/>
            <a:ext cx="6577200" cy="634680"/>
          </a:xfrm>
          <a:prstGeom prst="rect">
            <a:avLst/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Arial"/>
              </a:rPr>
              <a:t>Si la cliente choisit le stérilet au cuivre, allez à </a:t>
            </a:r>
            <a:r>
              <a:rPr b="1" lang="fr-CH" sz="1400" spc="-1" strike="noStrike">
                <a:solidFill>
                  <a:srgbClr val="000000"/>
                </a:solidFill>
                <a:latin typeface="Arial"/>
              </a:rPr>
              <a:t>l'ongl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«</a:t>
            </a:r>
            <a:r>
              <a:rPr b="1" lang="fr-CH" sz="1400" spc="-1" strike="noStrike">
                <a:solidFill>
                  <a:srgbClr val="000000"/>
                </a:solidFill>
                <a:latin typeface="Arial"/>
              </a:rPr>
              <a:t>Stérilet au cuivr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»</a:t>
            </a:r>
            <a:r>
              <a:rPr b="1" lang="fr-CH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H" sz="1400" spc="-1" strike="noStrike">
                <a:solidFill>
                  <a:srgbClr val="000000"/>
                </a:solidFill>
                <a:latin typeface="Arial"/>
              </a:rPr>
              <a:t>pour connaître les critères de recevabilité médicale (page S2) et avoir des informations sur la pos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800600" y="358128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819680" y="2057400"/>
            <a:ext cx="361800" cy="304920"/>
          </a:xfrm>
          <a:prstGeom prst="rightArrow">
            <a:avLst>
              <a:gd name="adj1" fmla="val 44444"/>
              <a:gd name="adj2" fmla="val 46143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410080" y="1557360"/>
            <a:ext cx="4267440" cy="1496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95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Très efficace ; plus efficace que la pilul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S'il est possible d'estimer le moment de l'ovulation, le stérilet peut aussi être posé plus de 5 jours après un rapport sexuel non protégé à condition qu'il ne se soit pas écoulé plus de 5 jours depuis l'ovu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Aucune recherche n'a été faite sur le mécanisme d'action du stérilet utilisé en urge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410760" y="6464160"/>
            <a:ext cx="457200" cy="355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CU</a:t>
            </a:r>
            <a:br>
              <a:rPr sz="1200"/>
            </a:b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72880" y="3645000"/>
            <a:ext cx="4724640" cy="75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rmAutofit fontScale="91000"/>
          </a:bodyPr>
          <a:p>
            <a:pPr marL="161640" indent="-161640">
              <a:lnSpc>
                <a:spcPct val="95000"/>
              </a:lnSpc>
              <a:spcBef>
                <a:spcPts val="18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</a:rPr>
              <a:t>Le stérilet peut être ensuite retiré, ou laissé en place pour poursuivre la contra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28600" y="2427120"/>
            <a:ext cx="4724280" cy="12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rmAutofit/>
          </a:bodyPr>
          <a:p>
            <a:pPr marL="177840" indent="-177840">
              <a:lnSpc>
                <a:spcPct val="95000"/>
              </a:lnSpc>
              <a:spcBef>
                <a:spcPts val="22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</a:rPr>
              <a:t>Le stérilet est posé dans l'utérus par un médecin, une infirmière ou une sage-femme. Il peut provoquer quelques crampes</a:t>
            </a:r>
            <a:r>
              <a:rPr b="1" lang="fr-CH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135000" y="155520"/>
            <a:ext cx="1256760" cy="752040"/>
            <a:chOff x="135000" y="155520"/>
            <a:chExt cx="1256760" cy="752040"/>
          </a:xfrm>
        </p:grpSpPr>
        <p:sp>
          <p:nvSpPr>
            <p:cNvPr id="179" name=""/>
            <p:cNvSpPr/>
            <p:nvPr/>
          </p:nvSpPr>
          <p:spPr>
            <a:xfrm>
              <a:off x="163440" y="163440"/>
              <a:ext cx="1143000" cy="74412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35000" y="155520"/>
              <a:ext cx="1256760" cy="40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85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ntraception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'urgen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1" name="" descr=""/>
            <p:cNvPicPr/>
            <p:nvPr/>
          </p:nvPicPr>
          <p:blipFill>
            <a:blip r:embed="rId1"/>
            <a:stretch/>
          </p:blipFill>
          <p:spPr>
            <a:xfrm>
              <a:off x="200160" y="572760"/>
              <a:ext cx="633240" cy="25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" descr=""/>
            <p:cNvPicPr/>
            <p:nvPr/>
          </p:nvPicPr>
          <p:blipFill>
            <a:blip r:embed="rId2"/>
            <a:stretch/>
          </p:blipFill>
          <p:spPr>
            <a:xfrm>
              <a:off x="920880" y="544320"/>
              <a:ext cx="234720" cy="33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3" name=""/>
          <p:cNvSpPr/>
          <p:nvPr/>
        </p:nvSpPr>
        <p:spPr>
          <a:xfrm>
            <a:off x="264960" y="5616720"/>
            <a:ext cx="1447920" cy="30456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Prochaine étape 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0" y="-3240"/>
            <a:ext cx="9910800" cy="1011240"/>
          </a:xfrm>
          <a:prstGeom prst="rect">
            <a:avLst/>
          </a:prstGeom>
          <a:solidFill>
            <a:srgbClr val="83e3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800" spc="-1" strike="noStrike">
                <a:solidFill>
                  <a:srgbClr val="000000"/>
                </a:solidFill>
                <a:latin typeface="Arial"/>
              </a:rPr>
              <a:t>Le stérilet au cuivr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rot="3342000">
            <a:off x="7998480" y="1464120"/>
            <a:ext cx="2057400" cy="1379520"/>
          </a:xfrm>
          <a:prstGeom prst="ellipse">
            <a:avLst/>
          </a:prstGeom>
          <a:solidFill>
            <a:srgbClr val="83e3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219320" y="5334120"/>
            <a:ext cx="5333760" cy="1269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H" sz="1800" spc="-1" strike="noStrike">
                <a:solidFill>
                  <a:srgbClr val="ff3300"/>
                </a:solidFill>
                <a:latin typeface="Arial"/>
              </a:rPr>
              <a:t>Voulez-vous en savoir plus sur le stérilet ou préférez-vous parler d'une autre méthode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990720" y="5657760"/>
            <a:ext cx="1447560" cy="112392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2520" y="2997360"/>
            <a:ext cx="3200400" cy="286848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 flipH="1">
            <a:off x="7635960" y="2868480"/>
            <a:ext cx="1218960" cy="129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8337600" y="1414440"/>
            <a:ext cx="1138320" cy="163044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174600" y="979560"/>
            <a:ext cx="593100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marL="173160" indent="-173160"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000000"/>
                </a:solidFill>
                <a:latin typeface="Arial"/>
              </a:rPr>
              <a:t>Petit dispositif placé dans l'utér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3160" indent="-173160"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000000"/>
                </a:solidFill>
                <a:latin typeface="Arial"/>
              </a:rPr>
              <a:t>Très effic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3160" indent="-173160"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000000"/>
                </a:solidFill>
                <a:latin typeface="Arial"/>
              </a:rPr>
              <a:t>Efficace pendant 10 ans au maximum, selon le type de stérile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3160" indent="-173160"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000000"/>
                </a:solidFill>
                <a:latin typeface="Arial"/>
              </a:rPr>
              <a:t>Nous pouvons vous le retirer quand vous le souhaite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3160" indent="-173160"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000000"/>
                </a:solidFill>
                <a:latin typeface="Arial"/>
              </a:rPr>
              <a:t>Sans dang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3160" indent="-173160"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000000"/>
                </a:solidFill>
                <a:latin typeface="Arial"/>
              </a:rPr>
              <a:t>Peut entraîner des règles abondantes ou des cramp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3160" indent="-173160"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000000"/>
                </a:solidFill>
                <a:latin typeface="Arial"/>
              </a:rPr>
              <a:t>Ne protège ni des IST ni du VIH/S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9T13:04:27Z</dcterms:created>
  <dc:creator/>
  <dc:description/>
  <dc:language>en-US</dc:language>
  <cp:lastModifiedBy>meynentc</cp:lastModifiedBy>
  <cp:lastPrinted>2002-06-14T07:08:54Z</cp:lastPrinted>
  <dcterms:modified xsi:type="dcterms:W3CDTF">2007-07-23T12:22:20Z</dcterms:modified>
  <cp:revision>140</cp:revision>
  <dc:subject/>
  <dc:title>Emergency contraceptive pills</dc:title>
</cp:coreProperties>
</file>