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B1AC-8C08-4244-B58E-127D6AF3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Levonorgestrel-only ECPs are readily available in the country programme, can remove references to combined estrogen-progestogen ECPs (since they are less effective and cause more nausea and vomiting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ternative images of ECPs are contained in the adaptation CD Rom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ssible addition: guidance on use of combined oral contraceptive pills (COCs) for emergency contraception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ny relevant referral inform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on length of use refers to Copper IUD. Adapt text for other IU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nformation applies to Copper-releasing IUDs. The image is of a Copper T IUD. If different types of IUD are used, then these pages may need to be adapted (including both images and technical information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n alternate file for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vonorgestrel-releasing (hormonal) IU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1FA-F07A-4CF5-8639-6C162A7B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1EF-91E4-4328-A2D6-8950679C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B70-0CFA-4DF0-A62A-F861091E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1E4-CBF5-4529-AA5F-2307166F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852-9BEE-4F20-800A-D3183A04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B42-95F3-4034-971B-BC57E7D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26B-09C9-412C-B571-C2B8F0B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7FA-B6A7-4CB8-84B8-3E51BB8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8A2-BCFA-4AEE-9C68-6C7FC4F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69E-81E6-4FCA-851E-1DC95EC4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B80-07DF-4263-8B7E-CEA5DF0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79C-3B75-4040-B419-8BDCCE1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B47-B59D-448E-B347-7ED1156A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a contraception d'urgence (C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480" y="1037880"/>
            <a:ext cx="33577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existe des méthodes sûres pour éviter la grossesse après un rapport sexuel non protég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4880" y="3078000"/>
            <a:ext cx="5897520" cy="53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ilule pour la contraception d'urgence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cliente doit 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prendre la pilule dès que possible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près un rapport sexuel non protégé et jusqu'à 5  jours après. Voir page suiv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44880" y="4595760"/>
            <a:ext cx="5897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onnez les conseils qui s'impos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4880" y="919080"/>
            <a:ext cx="58975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Ça peut arriver à tout le monde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isser la cliente présenter son cas, si elle le souha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oposez un soutien, sans juger le comportement de la cliente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0000" y="12272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0000" y="3138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59800">
            <a:off x="3492000" y="4483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867280"/>
            <a:ext cx="990900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 cliente veut-elle recourir à la contraception d'urge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6151680"/>
            <a:ext cx="3962160" cy="693720"/>
          </a:xfrm>
          <a:prstGeom prst="downArrowCallout">
            <a:avLst>
              <a:gd name="adj1" fmla="val 571199"/>
              <a:gd name="adj2" fmla="val 28557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ilule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97400" y="6146640"/>
            <a:ext cx="3962520" cy="693720"/>
          </a:xfrm>
          <a:prstGeom prst="downArrowCallout">
            <a:avLst>
              <a:gd name="adj1" fmla="val 571251"/>
              <a:gd name="adj2" fmla="val 28559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e 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CU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" y="3083040"/>
            <a:ext cx="4292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y a 5 jours ou moin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080" y="42958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y a plus de 5 jour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2262240"/>
            <a:ext cx="387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54440" indent="-154440">
              <a:lnSpc>
                <a:spcPct val="100000"/>
              </a:lnSpc>
              <a:spcBef>
                <a:spcPts val="15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Quand avez-vous eu un rapport sexuel non protégé pour la dernière fo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053280" y="1022400"/>
            <a:ext cx="635040" cy="468360"/>
            <a:chOff x="9053280" y="1022400"/>
            <a:chExt cx="635040" cy="468360"/>
          </a:xfrm>
        </p:grpSpPr>
        <p:sp>
          <p:nvSpPr>
            <p:cNvPr id="64" name=""/>
            <p:cNvSpPr/>
            <p:nvPr/>
          </p:nvSpPr>
          <p:spPr>
            <a:xfrm flipH="1">
              <a:off x="9052920" y="102240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9068760" y="103068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3944880" y="3656160"/>
            <a:ext cx="5897520" cy="89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e stérilet au cuivr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efficace que les pilules mais à ne pas utiliser chez les femmes très exposées au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risque d'IST (voir l'ongl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téril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, page S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eut aussi être utilisé jusqu'à 5 jours après un rapport sexuel non protégé (voir page CU4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Un bon choix pour les femmes qui veulent continuer à porter un stérile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422000">
            <a:off x="3506760" y="3514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69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69840" y="4979880"/>
            <a:ext cx="364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st-il possible que vous ayez été exposée à une IST ou au VIH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4880" y="4941720"/>
            <a:ext cx="5897520" cy="87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suspicion de transmission du VIH ou d'une IST au cours d'un rapport sexuel non protégé, proposez d'entamer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immédiatement (dans les 72 heures) une prophylaxie post-exposition contre le VIH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et/ou un traitement présomptif des IST, si possible ou orientez la personne pour qu'elle bénéficie de conseils, d'un soutien et d'un traitement supplémenta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13240" y="5373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167760" y="5699160"/>
            <a:ext cx="576000" cy="468360"/>
            <a:chOff x="9167760" y="5699160"/>
            <a:chExt cx="576000" cy="468360"/>
          </a:xfrm>
        </p:grpSpPr>
        <p:sp>
          <p:nvSpPr>
            <p:cNvPr id="77" name=""/>
            <p:cNvSpPr/>
            <p:nvPr/>
          </p:nvSpPr>
          <p:spPr>
            <a:xfrm>
              <a:off x="9167760" y="56991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9307440" y="58248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0" y="6886440"/>
            <a:ext cx="13539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ontraception d'u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-119160" y="594036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0520" y="56167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44880" y="1596960"/>
            <a:ext cx="5961240" cy="1440000"/>
            <a:chOff x="3944880" y="1596960"/>
            <a:chExt cx="5961240" cy="1440000"/>
          </a:xfrm>
        </p:grpSpPr>
        <p:sp>
          <p:nvSpPr>
            <p:cNvPr id="83" name=""/>
            <p:cNvSpPr/>
            <p:nvPr/>
          </p:nvSpPr>
          <p:spPr>
            <a:xfrm>
              <a:off x="3944880" y="1596960"/>
              <a:ext cx="5897520" cy="144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" tIns="46800" bIns="46800" anchor="ctr">
              <a:noAutofit/>
            </a:bodyPr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a cliente peut envisager de recourir à la contraception d'urgence si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Si la cliente répond oui à l'une des questions figurant à l'annexe 1, elle n'est probablement pas féconde et n'a donc pas besoin d'une contraception d'urgence. Elle peut néanmoins en bénéficier si elle est inquièt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03640" y="1773360"/>
              <a:ext cx="58024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aucune méthode n'a été uti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une méthode n'a pas été utilisée correctement (par exemple : oubli de la pilule, retard dans une injec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a méthode a échoué (par exemple, déchirure du préservatif, expulsion du stérilet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21468000">
            <a:off x="7635960" y="4348080"/>
            <a:ext cx="1866960" cy="1293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42400">
            <a:off x="5410080" y="4114440"/>
            <a:ext cx="1905120" cy="1676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232200">
            <a:off x="6172200" y="1626840"/>
            <a:ext cx="3276720" cy="2057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8520" y="11775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 prendre dès que possible après un rapport sexuel non protég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e provoque pas d'avor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eut entraîner des nausées, des vomissements, des saignotements ou des saign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'évite pas la grossesse lors de rapports sexuels ultéri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 ne pas utiliser réguliè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-360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Contraception d'urgence : la pil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84800" y="1981080"/>
            <a:ext cx="350532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1720" y="4751280"/>
            <a:ext cx="2049480" cy="131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8240" y="4199040"/>
            <a:ext cx="1206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68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ntraception d'urgence : la pil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76880" y="909720"/>
            <a:ext cx="53845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cliente doit prendre </a:t>
            </a:r>
            <a:r>
              <a:rPr b="1" i="1" lang="fr-CH" sz="1100" spc="-1" strike="noStrike">
                <a:solidFill>
                  <a:srgbClr val="ff3300"/>
                </a:solidFill>
                <a:latin typeface="Arial"/>
              </a:rPr>
              <a:t>la pilule dès que possible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près un rapport sexuel non protégé, idéalement dans les 72 heures (3 jours)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ilule peut être prise jusqu'à 120 heures (5 jours) après le rapport sexuel mais plus le temps passe, moins elle est effic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a eu 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d'autres rapports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non protégés depuis ses dernières règles, elle est peut-être déjà enceinte et la pilule n'aura alors aucun effet. La pilule n'a pas d'effet nocif sur la grossesse.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a cliente doit revenir si elle a un retard de règles de plus d'une sema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0" y="12891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05800">
            <a:off x="3935520" y="4344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238000">
            <a:off x="3938760" y="5084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21360"/>
            <a:ext cx="990900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9440" y="6170760"/>
            <a:ext cx="3962160" cy="650880"/>
          </a:xfrm>
          <a:prstGeom prst="downArrowCallout">
            <a:avLst>
              <a:gd name="adj1" fmla="val 608794"/>
              <a:gd name="adj2" fmla="val 30436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choisit la pilul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onnez-lui en et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7400" y="6165720"/>
            <a:ext cx="3962520" cy="650880"/>
          </a:xfrm>
          <a:prstGeom prst="downArrowCallout">
            <a:avLst>
              <a:gd name="adj1" fmla="val 608850"/>
              <a:gd name="adj2" fmla="val 30439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CU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5300640"/>
            <a:ext cx="538452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int à aborder :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ise en contraception d'urgence, la pilule n'évite pas les grossesses ultérieures. (voir à la page suivante pour un maintien de la protection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st moins efficace que la majorité des méthodes réguliè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1136520"/>
            <a:ext cx="350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7000"/>
          </a:bodyPr>
          <a:p>
            <a:pPr marL="131760" indent="-1317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prendre dès que possible après un rapport sexuel non protég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465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'évite pas la grossesse lors de rapports sexuels ultéri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240" y="5338800"/>
            <a:ext cx="3274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ne pas utiliser réguliè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0160" y="37162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4000"/>
          </a:bodyPr>
          <a:p>
            <a:pPr marL="126720" indent="-1267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eut entraîner des nausées, des vomissements, des saignotements ou des saig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160" y="3429000"/>
            <a:ext cx="47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voque pas d'avor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6880" y="3657600"/>
            <a:ext cx="538452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a pilule empêche la grossesse. 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Elle ne provoque pas d'avortement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agit principalement en arrêtant l'ovulation (voir les annexes 4 et 5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6880" y="4125960"/>
            <a:ext cx="53845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prend des contraceptifs oraux combinés oestrogène-progestérone, elle peut prendre aussi des antiémétiques (chlorhydrate de méclozine) pour éviter les nausé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vomissements dans les 2 heures suivant la prise de la pilule, la cliente doit revenir dans les meilleurs délais pour recevoir une autre do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es saignotements ou des saignements sont possibles dans les quelques jours qui suivent la prise de la pilu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76880" y="2252520"/>
            <a:ext cx="5384520" cy="1355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ilule au lévonorgestrel seul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efficace et entraîne moins de nausées et de vomissements que les contraceptifs oraux combiné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osologie :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1,5 mg de lévonorgestrel en une seule pri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Contraceptifs oraux oestroprogestatifs combiné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 utiliser si la pilule au lévonorgestrel n'est pas dispon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osologie :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2 doses de 100 microgrammes d'éthinylestradiol + 0,5 mg de lévonorgestrel à 12 heures d'intervall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49400">
            <a:off x="3936600" y="3654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274320" y="5734080"/>
            <a:ext cx="576000" cy="468360"/>
            <a:chOff x="9274320" y="5734080"/>
            <a:chExt cx="576000" cy="468360"/>
          </a:xfrm>
        </p:grpSpPr>
        <p:sp>
          <p:nvSpPr>
            <p:cNvPr id="113" name=""/>
            <p:cNvSpPr/>
            <p:nvPr/>
          </p:nvSpPr>
          <p:spPr>
            <a:xfrm>
              <a:off x="9274320" y="5734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9414000" y="5859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959280" y="5413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117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71360" y="57434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867800">
            <a:off x="5638680" y="1752120"/>
            <a:ext cx="3657600" cy="2743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evez-vous continuer à vous protég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052640"/>
            <a:ext cx="51562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urrait-il vous arriver d'avoir encore des rapports sexuels non protégé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Devez-vous vous prémunir à la fois de la grossesse et des IST ou du VIH/SIDA 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uvez-vous toujours choisir le moment de vos rapports sexuel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Employez-vous une méthode régulièrement ? En êtes-vous satisfait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8480" y="1752480"/>
            <a:ext cx="2529000" cy="3733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57400" y="5346720"/>
            <a:ext cx="5056200" cy="1193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savoir quelles méthodes de planification familiale vous pouvez choisir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567684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32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Devez-vous continuer à vous protéger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0160" y="1413000"/>
            <a:ext cx="4513320" cy="80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nvitez la cliente à présenter son c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ses antécédents laissent supposer qu'elle a été exposée à une IST, orientez-la pour un traitement. Abordez l'utilisation du préservatif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0160" y="2349360"/>
            <a:ext cx="4513320" cy="65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e risque d'IST, abordez la nécessité d'une double protection, contre la grossesse ET contre les IST ou le VIH/SIDA. Allez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uble prot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0160" y="3220920"/>
            <a:ext cx="4513320" cy="107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nsultez l'annexe 9 pour aborder la communication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c le parte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antécédents de la personne laissent supposer qu'elle a été contrainte ou qu'elle a été victime de violence, orientez-la pour qu'elle bénéficie d'aide, si possible. Voir l'annexe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680" y="1143000"/>
            <a:ext cx="4495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40160" y="4419720"/>
            <a:ext cx="4513320" cy="102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client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eut commencer à utiliser une méthode immédiatement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y compris la pil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ne choisit pas de méthode régulière, proposez-lui des pilules à utiliser en cas d'urgence et des préservatifs, accompagnés d'un mode d'empl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0" y="17654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6560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0" y="25401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0" y="44956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6000840"/>
            <a:ext cx="3962520" cy="815760"/>
          </a:xfrm>
          <a:prstGeom prst="downArrowCallout">
            <a:avLst>
              <a:gd name="adj1" fmla="val 485790"/>
              <a:gd name="adj2" fmla="val 24287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9240" y="5985000"/>
            <a:ext cx="397692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a cliente choisit de poursuivre la contraception, allez à l'ongl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201240" y="1125360"/>
            <a:ext cx="576000" cy="468360"/>
            <a:chOff x="9201240" y="1125360"/>
            <a:chExt cx="576000" cy="468360"/>
          </a:xfrm>
        </p:grpSpPr>
        <p:sp>
          <p:nvSpPr>
            <p:cNvPr id="144" name=""/>
            <p:cNvSpPr/>
            <p:nvPr/>
          </p:nvSpPr>
          <p:spPr>
            <a:xfrm>
              <a:off x="9201240" y="1125360"/>
              <a:ext cx="57600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9350280" y="1172880"/>
              <a:ext cx="28836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52280" y="2722680"/>
            <a:ext cx="449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vez-vous vous prémunir à la fois de la grossesse et des IST ou du VIH/SID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3340080"/>
            <a:ext cx="4496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vez-vous toujours choisir le moment de vos rapports sexuel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343400"/>
            <a:ext cx="4496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mployez-vous une méthode régulièrement ? En êtes-vous satisfai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66680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rait-il vous arriver d'avoir encore des rapports sexuels non protégé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2560" y="3105000"/>
            <a:ext cx="634320" cy="468360"/>
            <a:chOff x="9142560" y="3105000"/>
            <a:chExt cx="634320" cy="468360"/>
          </a:xfrm>
        </p:grpSpPr>
        <p:sp>
          <p:nvSpPr>
            <p:cNvPr id="153" name=""/>
            <p:cNvSpPr/>
            <p:nvPr/>
          </p:nvSpPr>
          <p:spPr>
            <a:xfrm flipH="1">
              <a:off x="9142560" y="3105000"/>
              <a:ext cx="61272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9157680" y="3113280"/>
              <a:ext cx="619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156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108000" y="5616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480"/>
            <a:ext cx="9907560" cy="1334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Contraception d'urgence : </a:t>
            </a:r>
            <a:br>
              <a:rPr sz="4800"/>
            </a:b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1258920"/>
            <a:ext cx="507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Utilisable en cas de rapport sexuel non protégé au cours des 5 derniers j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stérilet est posé dans l'utérus par un médecin, une infirmière ou une sage-femme. Il peut provoquer quelques cramp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stérilet peut être ensuite retiré, ou laissé en place pour poursuivre la contra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86400" y="3263760"/>
            <a:ext cx="3200400" cy="286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7086240" y="3124080"/>
            <a:ext cx="1219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42000">
            <a:off x="7556400" y="1962000"/>
            <a:ext cx="1958760" cy="1349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905600" y="1916280"/>
            <a:ext cx="11383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680"/>
            <a:ext cx="9907560" cy="112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ntraception d'urgence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8880" y="3213000"/>
            <a:ext cx="426708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Utilisable comme méthode contraceptive au long cours s'il n'y a pas de contre-indication médicale. Peut être retiré à tout mo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'il n'est pas retiré, le stérilet reste efficace pendant 10 ans au maxim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, utilisé en urgence, le stérilet n'empêche pas la grossesse, il devra être retir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1628640"/>
            <a:ext cx="4724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tilisable en cas de rapport sexuel non protégé au cours des 5 derniers j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87844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57240" y="6039000"/>
            <a:ext cx="6577200" cy="63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a cliente choisit le stérilet au cuivre, allez à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'ongl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connaître les critères de recevabilité médicale (page S2) et avoir des informations sur la 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581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19680" y="2057400"/>
            <a:ext cx="361800" cy="304920"/>
          </a:xfrm>
          <a:prstGeom prst="rightArrow">
            <a:avLst>
              <a:gd name="adj1" fmla="val 44444"/>
              <a:gd name="adj2" fmla="val 4614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557360"/>
            <a:ext cx="426744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rès efficace ; plus efficace que la pilu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'il est possible d'estimer le moment de l'ovulation, le stérilet peut aussi être posé plus de 5 jours après un rapport sexuel non protégé à condition qu'il ne se soit pas écoulé plus de 5 jours depuis l'ov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cune recherche n'a été faite sur le mécanisme d'action du stérilet utilisé en ur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2880" y="3645000"/>
            <a:ext cx="47246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 fontScale="91000"/>
          </a:bodyPr>
          <a:p>
            <a:pPr marL="161640" indent="-1616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stérilet peut être ensuite retiré, ou laissé en place pour poursuivre la contra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427120"/>
            <a:ext cx="4724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22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stérilet est posé dans l'utérus par un médecin, une infirmière ou une sage-femme. Il peut provoquer quelques crampes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5000" y="155520"/>
            <a:ext cx="1256760" cy="752040"/>
            <a:chOff x="135000" y="155520"/>
            <a:chExt cx="1256760" cy="752040"/>
          </a:xfrm>
        </p:grpSpPr>
        <p:sp>
          <p:nvSpPr>
            <p:cNvPr id="179" name=""/>
            <p:cNvSpPr/>
            <p:nvPr/>
          </p:nvSpPr>
          <p:spPr>
            <a:xfrm>
              <a:off x="163440" y="163440"/>
              <a:ext cx="1143000" cy="7441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000" y="15552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00160" y="572760"/>
              <a:ext cx="63324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920880" y="544320"/>
              <a:ext cx="234720" cy="33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264960" y="5616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-3240"/>
            <a:ext cx="991080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3342000">
            <a:off x="7998480" y="1464120"/>
            <a:ext cx="2057400" cy="13795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334120"/>
            <a:ext cx="5333760" cy="126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le stérilet ou préférez-vous parler d'une autr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5657760"/>
            <a:ext cx="1447560" cy="112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2520" y="2997360"/>
            <a:ext cx="3200400" cy="2868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7635960" y="2868480"/>
            <a:ext cx="121896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337600" y="1414440"/>
            <a:ext cx="1138320" cy="1630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4600" y="979560"/>
            <a:ext cx="5931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etit dispositif placé dans l'uté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rès effic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fficace pendant 10 ans au maximum, selon le type de stéri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ous pouvons vous le retirer quand vous le souhait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ans dan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eut entraîner des règles abondantes ou des cram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3:04:27Z</dcterms:created>
  <dc:creator/>
  <dc:description/>
  <dc:language>en-US</dc:language>
  <cp:lastModifiedBy>meynentc</cp:lastModifiedBy>
  <cp:lastPrinted>2002-06-14T07:08:54Z</cp:lastPrinted>
  <dcterms:modified xsi:type="dcterms:W3CDTF">2007-07-23T12:22:20Z</dcterms:modified>
  <cp:revision>140</cp:revision>
  <dc:subject/>
  <dc:title>Emergency contraceptive pills</dc:title>
</cp:coreProperties>
</file>