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81F7-EAE7-45C2-A895-C3AF4E3A4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0556-4E98-4821-B927-F54089B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184A-54F9-4C55-965D-FD12C15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C78A-0CF4-4EB8-B1D6-2C360924C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9295-0354-4680-A920-19AD6A0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32E2-6B5A-43BC-9C22-AC910DE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E353-5A22-40EB-B097-56388B4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D19B-5C0D-47D9-BD24-57136671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E492-4F09-4EEB-8F4E-C3BE93CB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9802-BCEB-466D-BDB1-0A1CA51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8822-639F-427E-975E-7D6301E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4A68-26CB-43E3-9FAF-BBE2F4BC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7BB-45EC-494B-9A40-CE48FC60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440" y="1440"/>
            <a:ext cx="99075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d'allaitement maternel et d'amén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0320" y="125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contraceptive basée sur l'allaitement au s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76920" y="1038240"/>
            <a:ext cx="4876560" cy="84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A propos de la méthode M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C'est une méthode qui repose sur l'allaitement maternel et l'aménorrhée (l'absence de règl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ppliquer la méthode MAMA, c'est choisir une méthode d'allaitement pour éviter la grossesse. Cette méthode arrête l'ovulation (voir annexes 4 et 5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979640"/>
            <a:ext cx="4876560" cy="107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our une protection optimale contre la grossesse et pour la santé du bébé, il ne faut donner QUE du lait maternel (à l'exclusion, ou presque, de toute autre alimentation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Consultez la page MA3 pour savoir comment allaiter pour bénéficier d'une protection optima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Est-ce que ça vous convient d'allaiter votre bébé de cette   manière ?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152880"/>
            <a:ext cx="4876560" cy="56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Si les règles n'ont pas réapparu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Très efficace si elle est correctement appliqué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Mais moins efficace telle qu'elle est appliquée courammen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821040"/>
            <a:ext cx="4876560" cy="125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'allaitement est le mode d'alimentation le plus sain pendant les 6 premiers mois. Le lait maternel contient tous les nutriments nécessaires au nourrisson et le protège des infections. L'allaitement est aussi bon pour la santé de la mè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faut commencer à allaiter dans l'heure qui suit la naissance et il ne faut donner </a:t>
            </a:r>
            <a:br>
              <a:rPr sz="1000"/>
            </a:b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u nourrisson aucune autre alimentation solide ou liquide avant qu'il n'atteigne l'âge de 6 mo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e lait maternel peut constituer l'essentiel du régime alimentaire pendant 2 ans ou plu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173560"/>
            <a:ext cx="4876560" cy="399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our se protéger du VIH/SIDA et des IST, la mère doit aussi utiliser le préservatif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e VIH peut être transmis par le lait maternel.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Would you like to discuss LAM more, or would you like to think about another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146640"/>
            <a:ext cx="4191120" cy="684360"/>
          </a:xfrm>
          <a:prstGeom prst="downArrowCallout">
            <a:avLst>
              <a:gd name="adj1" fmla="val 612471"/>
              <a:gd name="adj2" fmla="val 306207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o discuss another method, go to method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10760" y="6564240"/>
            <a:ext cx="38088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Voulez-vous en savoir plus sur la méthode MAMA ou préférez-vous parler d'une autre méthode 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636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veut en savoir plus sur la méthode MAMA,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5800" y="1407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5800" y="337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401000">
            <a:off x="415404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5800" y="22924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5800" y="4349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520" y="184464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 appliquer la méthode MAMA, il faut allaiter souvent, jour et nuit, et ne donner pratiquement aucune autre alimentation au béb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320" y="329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57320" indent="-157320">
              <a:lnSpc>
                <a:spcPct val="100000"/>
              </a:lnSpc>
              <a:spcBef>
                <a:spcPts val="25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fficace pendant les 6 mois qui suivent l'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320" y="4216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lait maternel est la meilleure alimentation pour le béb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320" y="486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5200" y="119520"/>
            <a:ext cx="1147320" cy="718560"/>
            <a:chOff x="205200" y="119520"/>
            <a:chExt cx="1147320" cy="718560"/>
          </a:xfrm>
        </p:grpSpPr>
        <p:sp>
          <p:nvSpPr>
            <p:cNvPr id="62" name=""/>
            <p:cNvSpPr/>
            <p:nvPr/>
          </p:nvSpPr>
          <p:spPr>
            <a:xfrm>
              <a:off x="209520" y="120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200" y="11952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68240" y="17136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741528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8880" y="6165720"/>
            <a:ext cx="3960720" cy="52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20" y="551664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17015400">
            <a:off x="7918200" y="3327120"/>
            <a:ext cx="1938240" cy="1490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015400">
            <a:off x="5620320" y="1902600"/>
            <a:ext cx="2946240" cy="2122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907560" cy="141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Dans quels cas pouvez-vous appliquer la méthode MAMA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5560" y="1743480"/>
            <a:ext cx="56336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Si vous allaitez et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tre enfant a moins de 6 moi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QU'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e s'alimente que de lait mater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ET 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s règles n'ont pas réappa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627080"/>
            <a:ext cx="68403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ais n'oubliez pas de me d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avez le SIDA ou si vous êtes infectée 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ar le VIH (le virus du SI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35800" y="3860640"/>
            <a:ext cx="1186200" cy="184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81560" y="1684440"/>
            <a:ext cx="1811520" cy="271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408880" y="3716280"/>
            <a:ext cx="100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0"/>
            <a:ext cx="9907560" cy="11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ans quels cas pouvez-vous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appliquer la méthode MAM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0160" y="3716280"/>
            <a:ext cx="4343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Mais n'oubliez pas de me dire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le SIDA ou si vous êtes infectée par le VIH (le virus du SI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89680" y="1889280"/>
            <a:ext cx="4641840" cy="128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st préférable d'allaiter son enfant pendant au moins 2 a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ès que l'enfant a 6 moi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faut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utiliser une autre méthode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de planification familia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poursuite de l'allaitement, les méthodes non hormonales sont préférables mais on peut aussi utiliser des contraceptifs progestatifs seuls (pilule minidosée, contraceptifs injectables retard ou implant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89680" y="3305160"/>
            <a:ext cx="4640040" cy="57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e faut pas appliquer la méthode MAMA en cas de règles pendant 2 jours consécutifs ou plus (les saignements pendant les 8 semaines suivant l'accouchement ne comptent pas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958000"/>
            <a:ext cx="9906120" cy="91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6019920"/>
            <a:ext cx="4190760" cy="655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ne peut pas ou plus appliquer la méthode MAMA, aidez-la à en choisir une aut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00" y="6019920"/>
            <a:ext cx="4092480" cy="825480"/>
          </a:xfrm>
          <a:prstGeom prst="downArrowCallout">
            <a:avLst>
              <a:gd name="adj1" fmla="val 495815"/>
              <a:gd name="adj2" fmla="val 24788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peut appliquer la méthode immédiatement ou dès qu'elle accouchera, passez à la page suivante pour la marche à suivre.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1240" y="32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3480" y="1190520"/>
            <a:ext cx="4643640" cy="57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femmes qui allaitent peuvent appliquer la méthode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MA immédiatement à condition de respecter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es 3 </a:t>
            </a:r>
            <a:br>
              <a:rPr sz="1100"/>
            </a:b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énoncées ci-cont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0440" y="1342440"/>
            <a:ext cx="4164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Si vous allaitez et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6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tre enfant a moins de 6 mo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QU'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s'alimente que de lait mater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fr-CH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règles n'ont pas réappa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64080" y="1828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25920" y="438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5200" y="118080"/>
            <a:ext cx="1147320" cy="718560"/>
            <a:chOff x="205200" y="118080"/>
            <a:chExt cx="1147320" cy="718560"/>
          </a:xfrm>
        </p:grpSpPr>
        <p:sp>
          <p:nvSpPr>
            <p:cNvPr id="90" name=""/>
            <p:cNvSpPr/>
            <p:nvPr/>
          </p:nvSpPr>
          <p:spPr>
            <a:xfrm>
              <a:off x="209520" y="1191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00" y="11808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768240" y="16956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9056520" y="1243080"/>
            <a:ext cx="576000" cy="468360"/>
            <a:chOff x="9056520" y="1243080"/>
            <a:chExt cx="576000" cy="468360"/>
          </a:xfrm>
        </p:grpSpPr>
        <p:sp>
          <p:nvSpPr>
            <p:cNvPr id="94" name=""/>
            <p:cNvSpPr/>
            <p:nvPr/>
          </p:nvSpPr>
          <p:spPr>
            <a:xfrm>
              <a:off x="9056520" y="1243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9196200" y="1368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128520" y="5670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097600" y="4005360"/>
            <a:ext cx="4679640" cy="1767240"/>
            <a:chOff x="5097600" y="4005360"/>
            <a:chExt cx="4679640" cy="1767240"/>
          </a:xfrm>
        </p:grpSpPr>
        <p:sp>
          <p:nvSpPr>
            <p:cNvPr id="98" name=""/>
            <p:cNvSpPr/>
            <p:nvPr/>
          </p:nvSpPr>
          <p:spPr>
            <a:xfrm>
              <a:off x="5097600" y="4005360"/>
              <a:ext cx="4640040" cy="17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e VIH peut se transmettre par le lait materne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Si la mère est infectée par le VIH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Pour obtenir des conseils concernant les femmes qui ont le VIH/SIDA, allez à l'onglet "Besoins spéciaux" (page BS1).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0160" y="4365720"/>
              <a:ext cx="4537080" cy="10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orsqu'il est possible d'opter pour une alimentation de substitution préparée à domicile ou achetée), elle ne doit pas allaiter et elle doit utiliser une autre méthode de planification familiale.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orsque c'est impossible, elle doit allaiter au sein exclusivement. Quand l'enfant a atteint l'âge de 6 mois ou avant s'il devient possible de choisir une alimentation de substitution, elle doit arrêter d'allaite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0733000">
            <a:off x="6608520" y="1268280"/>
            <a:ext cx="2330280" cy="2071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mment appliquer la méthode MAM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" y="2637000"/>
            <a:ext cx="54864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orsque l'enfant atteint l'âge de 6 mois, il faut commencer à lui donner d'autres aliments tout en continuant à l'alla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l faut commencer à utiliser une autre méthode au bon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59520" y="1486080"/>
            <a:ext cx="1685880" cy="235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2880" y="4581360"/>
            <a:ext cx="302580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0120" y="5446800"/>
            <a:ext cx="44784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 ? 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080" y="938160"/>
            <a:ext cx="5486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peut appliquer la méthode MAMA dès la naissance de l'enf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l faut allaiter souv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" y="2492280"/>
            <a:ext cx="39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Que faire aprè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72560" y="3526920"/>
            <a:ext cx="2701440" cy="2307600"/>
            <a:chOff x="5272560" y="3526920"/>
            <a:chExt cx="2701440" cy="2307600"/>
          </a:xfrm>
        </p:grpSpPr>
        <p:sp>
          <p:nvSpPr>
            <p:cNvPr id="109" name=""/>
            <p:cNvSpPr/>
            <p:nvPr/>
          </p:nvSpPr>
          <p:spPr>
            <a:xfrm rot="20733000">
              <a:off x="5457960" y="3789360"/>
              <a:ext cx="2330280" cy="1782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54680" y="4946400"/>
              <a:ext cx="62388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300720" y="3863880"/>
              <a:ext cx="874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359400" y="4483080"/>
              <a:ext cx="59220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931080" y="4592520"/>
              <a:ext cx="4809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5614920" y="4268520"/>
              <a:ext cx="600120" cy="45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Comment appliquer la méthode MAMA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680" y="922320"/>
            <a:ext cx="3967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On peut appliquer la méthode MAMA dès la naissance de l'enf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1600" y="1603440"/>
            <a:ext cx="4910040" cy="143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mère doit allaiter l'enfant jour et nuit, dès qu'il a fa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'intervalle entre les tétées est de plus de 4 heures le jour et de plus de 6 heures la nuit, il faut envisager une autre méthode de planification familia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mère doit continuer à allaiter même si elle est malade ou si l'enfant est mal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Etes-vous prête à toujours allaiter de cette manière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onnez des conseils sur les techniques d'allaitement et sur le régime aliment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81600" y="3664080"/>
            <a:ext cx="4910040" cy="143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Quand les règles réapparaissent (on ne tient pas compte des saignements au cours des 8 semaines qui suivent la grossess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a mère arrête l'allaitement exclusif ou presque exclusif (l'enfant reçoit régulièrement une autre alimentation solide ou liqui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'enfant atteint l'âge de 6 mois (à peu près au moment où l'enfant commence à se tenir assi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a mère veut abandonner la méthode M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(dès que l'une de ces trois conditions est remplie)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1974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49200">
            <a:off x="4241520" y="4780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4335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53080"/>
            <a:ext cx="9909000" cy="121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1600" y="965160"/>
            <a:ext cx="4910040" cy="59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Après l'accouchement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, il faut commencer à allaiter dès que possible, pour la santé de l'enfant et pour se protéger de la grossesse de manière optima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81600" y="3078000"/>
            <a:ext cx="4910040" cy="545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u moment de l'introduction d'une alimentation autre que le lait maternel, il faut continuer à allaiter avant chaque prise alimentaire (solide ou liquide).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0040" y="328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81600" y="5138640"/>
            <a:ext cx="4910040" cy="39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oposez dès maintenant des moyens de contraception (tels que le préservatif) à utiliser au moment voul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5200" y="68760"/>
            <a:ext cx="1147320" cy="718560"/>
            <a:chOff x="205200" y="68760"/>
            <a:chExt cx="1147320" cy="718560"/>
          </a:xfrm>
        </p:grpSpPr>
        <p:sp>
          <p:nvSpPr>
            <p:cNvPr id="130" name=""/>
            <p:cNvSpPr/>
            <p:nvPr/>
          </p:nvSpPr>
          <p:spPr>
            <a:xfrm>
              <a:off x="209520" y="6984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200" y="6876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768240" y="12024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193680" y="1650960"/>
            <a:ext cx="2743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l faut allaiter sou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" y="2549520"/>
            <a:ext cx="396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Que faire aprè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3680" y="3068640"/>
            <a:ext cx="396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orsque l'enfant atteint l'âge de 6 mois, il faut commencer à lui donner d'autres aliments tout en continuant à l'alla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680" y="4292640"/>
            <a:ext cx="3967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l faut commencer à utiliser une autre méthode au bon mo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048520" y="5840280"/>
            <a:ext cx="576000" cy="468360"/>
            <a:chOff x="8048520" y="5840280"/>
            <a:chExt cx="576000" cy="468360"/>
          </a:xfrm>
        </p:grpSpPr>
        <p:sp>
          <p:nvSpPr>
            <p:cNvPr id="138" name=""/>
            <p:cNvSpPr/>
            <p:nvPr/>
          </p:nvSpPr>
          <p:spPr>
            <a:xfrm>
              <a:off x="8048520" y="5840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8188200" y="5965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2960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8520" y="5734080"/>
            <a:ext cx="7761240" cy="97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que cette méthode vous conviendra ? Avez-vous besoin d'autres conseils sur l'allaitement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mportant : 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Revenez quand votre enfant aura 6 mois, que vos aurez à nouveau vos règles ou que votre enfant commence à avoir une alimentation autre que le lai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520" y="538632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15000" y="1600200"/>
            <a:ext cx="4114800" cy="3276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40"/>
            <a:ext cx="9910800" cy="12668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éthodes basées sur la connaissance de la fécondi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1568520"/>
            <a:ext cx="5545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tenez les jours du cycle menstruel où vous pouvez tomber encei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our éviter la grossesse, vous devez vous abstenir d'avoir des rapports sexuels OU utiliser un préservatif les jours où vous êtes fert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efficace si elle est correctement appliq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ans effets second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6280" y="2163600"/>
            <a:ext cx="3354120" cy="294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0360" y="2046240"/>
            <a:ext cx="2060640" cy="138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4600" y="5340240"/>
            <a:ext cx="53355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s méthodes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/>
  <dc:description/>
  <dc:language>en-US</dc:language>
  <cp:lastModifiedBy>meynentc</cp:lastModifiedBy>
  <cp:lastPrinted>2002-07-03T12:43:25Z</cp:lastPrinted>
  <dcterms:modified xsi:type="dcterms:W3CDTF">2007-07-23T12:26:33Z</dcterms:modified>
  <cp:revision>2453</cp:revision>
  <dc:subject/>
  <dc:title>Méthode d'allaitement maternel et d'aménorrhée</dc:title>
</cp:coreProperties>
</file>