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2825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552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0756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9435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49840" y="9435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B3ED1E-9A73-4629-80F2-2EF4B38DC4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5520" cy="37224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07560" y="4716000"/>
            <a:ext cx="4978440" cy="4800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57320" y="6620040"/>
            <a:ext cx="422748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1360" indent="-171360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old for use elsewher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You and your sex partner should see a doctor or nurse if either of you hav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res on or near your genita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in when pee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ipping, itching, rash, irrita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are signs of sexually transmitted diseas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06480" y="8028000"/>
            <a:ext cx="5132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7840" indent="-177840">
              <a:spcAft>
                <a:spcPts val="300"/>
              </a:spcAft>
              <a:tabLst>
                <a:tab algn="l" pos="0"/>
                <a:tab algn="l" pos="17784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Move to training guid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7784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xplain when to use and why us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7784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VERY TIME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 import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7784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protected sex just once—even the first time—can lead to pregnancy and/or ST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7784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cannot tell, by the way people look, whether they have an STI, including HIV. They often look health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7784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person does not always know if he or she has an STI, including HIV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56112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2684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0080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108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190080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42108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28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84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spcBef>
                <a:spcPts val="400"/>
              </a:spcBef>
              <a:buClr>
                <a:srgbClr val="000000"/>
              </a:buClr>
              <a:buFont typeface="Wingdings 3" charset="2"/>
              <a:buChar char="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image" Target="../media/image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189400" y="2571840"/>
            <a:ext cx="4569120" cy="45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3300"/>
                </a:solidFill>
                <a:latin typeface="Arial"/>
              </a:rPr>
              <a:t>Effets secondaires éventuels : 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irritation, brûlures, infection de la vess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18200" y="4500720"/>
            <a:ext cx="4568760" cy="460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L'efficacité du diaphragme (et des spermicides) est maximale lorsqu'ils sont utilisés correctement et systématiquemen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95880" y="3984480"/>
            <a:ext cx="4568760" cy="436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3300"/>
                </a:solidFill>
                <a:latin typeface="Arial"/>
              </a:rPr>
              <a:t>Pour la protection contre les IST et le VIH/SIDA, utiliser aussi le préservat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867280"/>
            <a:ext cx="9906120" cy="990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i="1" lang="fr-CH" sz="1400" spc="-1" strike="noStrike">
                <a:solidFill>
                  <a:srgbClr val="000000"/>
                </a:solidFill>
                <a:latin typeface="Arial"/>
              </a:rPr>
              <a:t>Voulez-vous en savoir plus sur les méthodes vaginales ou préférez-vous parler d'une autre méthode ?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9240" y="6143760"/>
            <a:ext cx="3886200" cy="714240"/>
          </a:xfrm>
          <a:prstGeom prst="downArrowCallout">
            <a:avLst>
              <a:gd name="adj1" fmla="val 544152"/>
              <a:gd name="adj2" fmla="val 272051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Si la cliente veut en savoir plus sur les méthodes vaginales,</a:t>
            </a: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 passez à la page suiva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8920" y="170028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98920" y="514368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7080" y="981000"/>
            <a:ext cx="48686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90440" indent="-190440">
              <a:lnSpc>
                <a:spcPct val="95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Les méthodes vaginales sont les spermicides et le diaphrag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18200" y="5040360"/>
            <a:ext cx="4568760" cy="620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Il n'est pas sûr que le diaphragme protège du VIH/SIDA. </a:t>
            </a:r>
            <a:r>
              <a:rPr b="1" lang="fr-CH" sz="1200" spc="-1" strike="noStrike">
                <a:solidFill>
                  <a:srgbClr val="ff3300"/>
                </a:solidFill>
                <a:latin typeface="Arial"/>
              </a:rPr>
              <a:t>Pour la protection contre les IST et le VIH/SIDA, utiliser aussi le préservati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9400" y="3102120"/>
            <a:ext cx="4569120" cy="80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i="1" lang="fr-CH" sz="1200" spc="-1" strike="noStrike">
                <a:solidFill>
                  <a:srgbClr val="000000"/>
                </a:solidFill>
                <a:latin typeface="Arial"/>
              </a:rPr>
              <a:t>Seriez-vous gênée par l'utilisation de moyens contraceptifs à mettre dans le vagin ?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i="1" lang="fr-CH" sz="1200" spc="-1" strike="noStrike">
                <a:solidFill>
                  <a:srgbClr val="000000"/>
                </a:solidFill>
                <a:latin typeface="Arial"/>
              </a:rPr>
              <a:t>Seriez-vous satisfaite d'une méthode qui peut être salissante après les rapports sexuels ?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817400">
            <a:off x="4448160" y="30542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8920" y="442440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Les méthodes vagina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162000" y="591192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MV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08080" y="58680"/>
            <a:ext cx="1143000" cy="730440"/>
            <a:chOff x="208080" y="58680"/>
            <a:chExt cx="1143000" cy="730440"/>
          </a:xfrm>
        </p:grpSpPr>
        <p:sp>
          <p:nvSpPr>
            <p:cNvPr id="60" name=""/>
            <p:cNvSpPr/>
            <p:nvPr/>
          </p:nvSpPr>
          <p:spPr>
            <a:xfrm>
              <a:off x="208080" y="58680"/>
              <a:ext cx="1143000" cy="717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12480" y="78840"/>
              <a:ext cx="93528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200" spc="-1" strike="noStrike">
                  <a:solidFill>
                    <a:srgbClr val="000000"/>
                  </a:solidFill>
                  <a:latin typeface="Arial"/>
                </a:rPr>
                <a:t>Méthod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200" spc="-1" strike="noStrike">
                  <a:solidFill>
                    <a:srgbClr val="000000"/>
                  </a:solidFill>
                  <a:latin typeface="Arial"/>
                </a:rPr>
                <a:t>vagin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335160" y="446040"/>
              <a:ext cx="914400" cy="343080"/>
              <a:chOff x="335160" y="446040"/>
              <a:chExt cx="914400" cy="343080"/>
            </a:xfrm>
          </p:grpSpPr>
          <p:pic>
            <p:nvPicPr>
              <p:cNvPr id="6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34880" y="477720"/>
                <a:ext cx="814680" cy="31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35160" y="446040"/>
                <a:ext cx="415800" cy="177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5" name=""/>
          <p:cNvSpPr/>
          <p:nvPr/>
        </p:nvSpPr>
        <p:spPr>
          <a:xfrm>
            <a:off x="5189400" y="911160"/>
            <a:ext cx="4569120" cy="1581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3300"/>
                </a:solidFill>
                <a:latin typeface="Arial"/>
              </a:rPr>
              <a:t>A propos des méthodes vaginale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diaphragme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 est un objet en caoutchouc doux et souple qui empêche les spermatozoïdes de pénétrer dans l'utér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Les 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spermicides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 se présentent sous forme de gel, de crème, de comprimé moussant, de suppositoire ou de film résorbable qui détruisent les spermatozoïd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Tous les deux doivent être mis à l'avance dans le vagin et n'impliquent pas, par conséquent, d'interruption du rappo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9680" y="3024360"/>
            <a:ext cx="486900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90440" indent="-19044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fr-CH" sz="1600" spc="-1" strike="noStrike">
                <a:solidFill>
                  <a:srgbClr val="ff3300"/>
                </a:solidFill>
                <a:latin typeface="Arial"/>
              </a:rPr>
              <a:t>Les spermicides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Moins efficaces que les autres méth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Ne protègent ni des IST ni du VIH/S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9680" y="3948120"/>
            <a:ext cx="48690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fr-CH" sz="1600" spc="-1" strike="noStrike">
                <a:solidFill>
                  <a:srgbClr val="ff3300"/>
                </a:solidFill>
                <a:latin typeface="Arial"/>
              </a:rPr>
              <a:t>Le diaphragm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Efficace s'il est utilisé correctement et systématiqu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Il faut pratiquer un examen gynécologique pour vérifier la taille nécessai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Protège éventuellement de certaines 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7080" y="1413000"/>
            <a:ext cx="324000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90440" indent="-190440">
              <a:lnSpc>
                <a:spcPct val="95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A mettre dans le vagin avant chaque rapport sexu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7080" y="1989000"/>
            <a:ext cx="48686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90440" indent="-190440">
              <a:lnSpc>
                <a:spcPct val="95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Certaines personnes ressentent des effets secondai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7080" y="2687760"/>
            <a:ext cx="299700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90440" indent="-190440">
              <a:lnSpc>
                <a:spcPct val="95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Parfois saliss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46720" y="25653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19440" y="126828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59440" y="6858000"/>
            <a:ext cx="1354320" cy="438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Méthodes vagi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38720" y="6143760"/>
            <a:ext cx="3960720" cy="691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Pour aborder une autre méthode, </a:t>
            </a: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allez à l'onglet de la méthode concernée ou à l'ongle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Choix de la méthod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8360" y="5589720"/>
            <a:ext cx="1447920" cy="3045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rochaine étap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817400">
            <a:off x="4448160" y="37893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095880" y="1981080"/>
            <a:ext cx="3200400" cy="312444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0"/>
            <a:ext cx="9907560" cy="1125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800" spc="-1" strike="noStrike">
                <a:solidFill>
                  <a:srgbClr val="000000"/>
                </a:solidFill>
                <a:latin typeface="Arial"/>
              </a:rPr>
              <a:t>MAM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Méthode d'allaitement maternel et d'aménorrh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257800" y="2895480"/>
            <a:ext cx="4114800" cy="8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43080" y="1308240"/>
            <a:ext cx="571320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Méthode contraceptive basée sur l'allaitement au s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Pour appliquer la méthode MAMA, il faut allaiter souvent, jour et nuit, et ne donner pratiquement aucune autre alimentation au béb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Efficace pendant les 6 mois qui suivent l'accouch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Le lait maternel est la meilleure alimentation pour le béb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Ne protège ni des IST ni du VIH/S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4600" y="5340240"/>
            <a:ext cx="5333760" cy="1270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1800" spc="-1" strike="noStrike">
                <a:solidFill>
                  <a:srgbClr val="ff3300"/>
                </a:solidFill>
                <a:latin typeface="Arial"/>
              </a:rPr>
              <a:t>Voulez-vous en savoir plus sur cette méthode ou préférez-vous parler d'une méthode différent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5657760"/>
            <a:ext cx="1447920" cy="11239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6629400" y="2133720"/>
            <a:ext cx="224460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 rot="369000">
            <a:off x="6195600" y="5524200"/>
            <a:ext cx="862200" cy="133344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8360" y="5392800"/>
            <a:ext cx="216072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vous avez un problème de santé qui poserait un risque sérieux en cas de grosse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440"/>
            <a:ext cx="9906120" cy="1332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00"/>
                </a:solidFill>
                <a:latin typeface="Arial"/>
              </a:rPr>
              <a:t>Qui peut et qui ne doit pas utilis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00"/>
                </a:solidFill>
                <a:latin typeface="Arial"/>
              </a:rPr>
              <a:t>les méthodes vaginale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888160" y="3543480"/>
            <a:ext cx="379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3300"/>
                </a:solidFill>
                <a:latin typeface="Arial"/>
              </a:rPr>
              <a:t>Et si vous envisagez d'utiliser le DIAPHRAGME, avertissez-moi en ca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1625760"/>
            <a:ext cx="378288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75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ff3300"/>
                </a:solidFill>
                <a:latin typeface="Arial"/>
              </a:rPr>
              <a:t>La plupart des femmes peuvent utiliser les méthodes vaginales, </a:t>
            </a:r>
            <a:br>
              <a:rPr sz="2200"/>
            </a:br>
            <a:r>
              <a:rPr b="1" lang="fr-CH" sz="2200" spc="-1" strike="noStrike">
                <a:solidFill>
                  <a:srgbClr val="ff3300"/>
                </a:solidFill>
                <a:latin typeface="Arial"/>
              </a:rPr>
              <a:t>sans ris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21522600">
            <a:off x="3924000" y="1431720"/>
            <a:ext cx="5143320" cy="19335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178160" y="1461960"/>
            <a:ext cx="4419720" cy="1881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98360" y="3068640"/>
            <a:ext cx="430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3300"/>
                </a:solidFill>
                <a:latin typeface="Arial"/>
              </a:rPr>
              <a:t>Mais il ne faut généralement pas utiliser les SPERMICIDES, avec ou sans DIAPHRAGME si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20766000">
            <a:off x="558720" y="4005000"/>
            <a:ext cx="1228680" cy="9651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847800" y="4149720"/>
            <a:ext cx="730080" cy="12654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430360" y="5076720"/>
            <a:ext cx="331164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00000"/>
              </a:lnSpc>
              <a:spcBef>
                <a:spcPts val="33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vous avez plusieurs partenaires sexuels ou votre partenaire en a plusieurs (risque élevé d'infection à VI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33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vous avez le VIH/S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20766000">
            <a:off x="3438360" y="3789360"/>
            <a:ext cx="1371600" cy="9619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583080" y="3860640"/>
            <a:ext cx="1120680" cy="1252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270920" y="4603680"/>
            <a:ext cx="257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6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d'accouchement ou d'avortement réc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741000">
            <a:off x="5979600" y="4508640"/>
            <a:ext cx="1132200" cy="9111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267600" y="4437000"/>
            <a:ext cx="736560" cy="1033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26360" y="5611680"/>
            <a:ext cx="257652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95000"/>
              </a:lnSpc>
              <a:spcBef>
                <a:spcPts val="56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d'allergie au lat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95000"/>
              </a:lnSpc>
              <a:spcBef>
                <a:spcPts val="56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d'antécédents de syndrome de choc tox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6267600" y="5551560"/>
            <a:ext cx="57132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5805360"/>
            <a:ext cx="9906120" cy="1052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72160" y="3735360"/>
            <a:ext cx="4043520" cy="82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Après un accouchement ou un avortement au deuxième trimestre, il faut généralement attendre 6 à 12 semaines pour que l'utérus et le col retrouvent une taille normale avant de mettre un diaphrag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72160" y="4697280"/>
            <a:ext cx="4043520" cy="34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Il ne faut pas utiliser un diaphragme en late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72160" y="5176800"/>
            <a:ext cx="4043520" cy="330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Il ne faut généralement pas utiliser un diaphragm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72160" y="2773440"/>
            <a:ext cx="4043520" cy="82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Il ne faut PAS utiliser de spermicides en cas de risque élevé d'infection à VI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On ne connaît pas l'efficacité du diaphragme </a:t>
            </a:r>
            <a:r>
              <a:rPr b="0" i="1" lang="fr-CH" sz="1200" spc="-1" strike="noStrike">
                <a:solidFill>
                  <a:srgbClr val="000000"/>
                </a:solidFill>
                <a:latin typeface="Arial"/>
              </a:rPr>
              <a:t>sans 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spermic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5950080"/>
            <a:ext cx="4114800" cy="6872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Si la cliente ne peut pas utiliser ces méthodes,</a:t>
            </a: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aidez-la à en choisir une autr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2760" y="5978520"/>
            <a:ext cx="4470120" cy="866880"/>
          </a:xfrm>
          <a:prstGeom prst="downArrowCallout">
            <a:avLst>
              <a:gd name="adj1" fmla="val 515704"/>
              <a:gd name="adj2" fmla="val 257828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Si la cliente peut utiliser ces méthodes, </a:t>
            </a: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pour le diaphragme, passez à la page suivante ; pour les spermicides, passez à la page</a:t>
            </a:r>
            <a:br>
              <a:rPr sz="1400"/>
            </a:b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 MV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75280" y="23493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52960" y="290844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20328600">
            <a:off x="5027760" y="426420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52960" y="472140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52960" y="51577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440"/>
            <a:ext cx="9906120" cy="1150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Qui peut et qui ne doit pas utilis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les méthodes vaginale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3920" y="1198440"/>
            <a:ext cx="5159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ff3300"/>
                </a:solidFill>
                <a:latin typeface="Arial"/>
              </a:rPr>
              <a:t>La plupart des femmes peuvent utiliser les méthodes vaginales, sans risqu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MV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0600" y="2162160"/>
            <a:ext cx="526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vous avez un problème de santé qui poserait </a:t>
            </a:r>
            <a:br>
              <a:rPr sz="1600"/>
            </a:b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un risque sérieux en cas de grosse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7080" y="1652760"/>
            <a:ext cx="490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ff3300"/>
                </a:solidFill>
                <a:latin typeface="Arial"/>
              </a:rPr>
              <a:t>Mais il ne faut généralement pas utiliser les SPERMICIDES, avec ou sans diaphragme si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7080" y="2685960"/>
            <a:ext cx="526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vous avez plusieurs partenaires sexuels ou </a:t>
            </a:r>
            <a:br>
              <a:rPr sz="1600"/>
            </a:b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votre partenaire en a plusieurs (risque élevé </a:t>
            </a:r>
            <a:br>
              <a:rPr sz="1600"/>
            </a:b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de VIH/SIDA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0600" y="3452760"/>
            <a:ext cx="526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vous avez le VIH/S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0600" y="3745080"/>
            <a:ext cx="526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3300"/>
                </a:solidFill>
                <a:latin typeface="Arial"/>
              </a:rPr>
              <a:t>Et si vous envisagez d'utiliser le DIAPHRAGME, avertissez-moi en ca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0600" y="4365720"/>
            <a:ext cx="526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d'accouchement ou d'avortement réc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0600" y="4732200"/>
            <a:ext cx="526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d'allergie au lat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0600" y="5119560"/>
            <a:ext cx="526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d'antécédents de syndrome de choc tox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72160" y="1557360"/>
            <a:ext cx="4043520" cy="1079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Hypertension artérielle, diabète, cardiopathie, accident vasculaire cérébral, certains cancers, IST (dont le VIH/SIDA), maladie du foie, anémie, tuberculo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Une méthode plus efficace conviendra peut-être mieux aux femmes qui ont ces problèmes de santé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27080" y="177840"/>
            <a:ext cx="1143000" cy="729720"/>
            <a:chOff x="127080" y="177840"/>
            <a:chExt cx="1143000" cy="729720"/>
          </a:xfrm>
        </p:grpSpPr>
        <p:sp>
          <p:nvSpPr>
            <p:cNvPr id="120" name=""/>
            <p:cNvSpPr/>
            <p:nvPr/>
          </p:nvSpPr>
          <p:spPr>
            <a:xfrm>
              <a:off x="127080" y="177840"/>
              <a:ext cx="1143000" cy="7171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1480" y="197280"/>
              <a:ext cx="93528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200" spc="-1" strike="noStrike">
                  <a:solidFill>
                    <a:srgbClr val="000000"/>
                  </a:solidFill>
                  <a:latin typeface="Arial"/>
                </a:rPr>
                <a:t>Méthod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200" spc="-1" strike="noStrike">
                  <a:solidFill>
                    <a:srgbClr val="000000"/>
                  </a:solidFill>
                  <a:latin typeface="Arial"/>
                </a:rPr>
                <a:t>vagin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254160" y="564840"/>
              <a:ext cx="914400" cy="342720"/>
              <a:chOff x="254160" y="564840"/>
              <a:chExt cx="914400" cy="342720"/>
            </a:xfrm>
          </p:grpSpPr>
          <p:pic>
            <p:nvPicPr>
              <p:cNvPr id="12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53880" y="596520"/>
                <a:ext cx="814680" cy="311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54160" y="564840"/>
                <a:ext cx="415800" cy="177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5" name=""/>
          <p:cNvSpPr/>
          <p:nvPr/>
        </p:nvSpPr>
        <p:spPr>
          <a:xfrm>
            <a:off x="128520" y="5545080"/>
            <a:ext cx="144792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rochaine étap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98360" y="2608200"/>
            <a:ext cx="2032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Mettez une grande quantité de crème ou de gelée spermicide dans le diaphragme et autour de l'anne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03440" y="2852640"/>
            <a:ext cx="2151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Joignez les bords du diaphragme et introduisez-le dans le vagin aussi haut que pos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35440" y="3971880"/>
            <a:ext cx="2376720" cy="10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Touchez le diaphragme pour vérifier qu'il recouvre le c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1440" y="5124600"/>
            <a:ext cx="554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ATTENTION : à chaque nouveau rapport sexuel, utilisez un applicateur pour rajouter du spermicide dans le vagin. N'ENLEVEZ PAS le diaphrag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27800" y="1197000"/>
            <a:ext cx="2430720" cy="3744720"/>
          </a:xfrm>
          <a:prstGeom prst="rect">
            <a:avLst/>
          </a:prstGeom>
          <a:noFill/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6440" y="1197000"/>
            <a:ext cx="2133720" cy="3744720"/>
          </a:xfrm>
          <a:prstGeom prst="rect">
            <a:avLst/>
          </a:prstGeom>
          <a:noFill/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27200" y="1197000"/>
            <a:ext cx="2136960" cy="3744720"/>
          </a:xfrm>
          <a:prstGeom prst="rect">
            <a:avLst/>
          </a:prstGeom>
          <a:noFill/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8520" y="1197000"/>
            <a:ext cx="2376360" cy="3744720"/>
          </a:xfrm>
          <a:prstGeom prst="rect">
            <a:avLst/>
          </a:prstGeom>
          <a:noFill/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-1440" y="1440"/>
            <a:ext cx="9907560" cy="101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800" spc="-1" strike="noStrike">
                <a:solidFill>
                  <a:srgbClr val="000000"/>
                </a:solidFill>
                <a:latin typeface="Arial"/>
              </a:rPr>
              <a:t>Mode d'emploi du diaphrag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16520" y="5157720"/>
            <a:ext cx="3943440" cy="1459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1800" spc="-1" strike="noStrike">
                <a:solidFill>
                  <a:srgbClr val="ff3300"/>
                </a:solidFill>
                <a:latin typeface="Arial"/>
              </a:rPr>
              <a:t>Voulez-vous essayer cette méthode pour voir si elle vous convient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56160" y="5823000"/>
            <a:ext cx="1219320" cy="946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43080" y="1341360"/>
            <a:ext cx="1828800" cy="10940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2863800" y="1341360"/>
            <a:ext cx="1600200" cy="9972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5440" y="111132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66ccff"/>
                </a:solidFill>
                <a:latin typeface="Wingdings"/>
                <a:ea typeface="Wingdings"/>
              </a:rPr>
              <a:t>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55920" y="1111320"/>
            <a:ext cx="3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66ccff"/>
                </a:solidFill>
                <a:latin typeface="Wingdings"/>
                <a:ea typeface="Wingdings"/>
              </a:rPr>
              <a:t>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35440" y="1111320"/>
            <a:ext cx="43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66ccff"/>
                </a:solidFill>
                <a:latin typeface="Wingdings"/>
                <a:ea typeface="Wingdings"/>
              </a:rPr>
              <a:t>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256520" y="111132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66ccff"/>
                </a:solidFill>
                <a:latin typeface="Wingdings"/>
                <a:ea typeface="Wingdings"/>
              </a:rPr>
              <a:t>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5370480" y="1239840"/>
            <a:ext cx="1416240" cy="27129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7327800" y="1197000"/>
            <a:ext cx="237672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3300"/>
                </a:solidFill>
                <a:latin typeface="Arial"/>
              </a:rPr>
              <a:t>Après le rapport sexuel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ctr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Laissez le diaphragme en place pendant AU MOINS 6 heures mais PAS PLUS de 24 he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ctr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Pour l'enlever, glissez délicatement un doigt sous l'anneau et tirez vers le bas et l'extéri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718160" y="1322280"/>
            <a:ext cx="1708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Touchez le diaphragme pour vérifier qu'il recouvre le 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3040" y="1322280"/>
            <a:ext cx="1868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Mettez une grande quantité de crème ou de gelée spermicide dans le diaphragme et autour de l'annea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3080" y="3645000"/>
            <a:ext cx="1617480" cy="695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Mettre environ une cuillère à soupe de gelée ou de crè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51800" y="3645000"/>
            <a:ext cx="2952720" cy="201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Il faut enlever le diaphragme délicatement pour ne pas le déchir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Après chaque utilisation, laver le diaphragme à l'eau et au savon dou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Vérifier que le diaphragme n'est pas troué en le remplissant d'eau ou en le mettant à la lumière à contre-jo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Faire sécher le diaphragme et le ranger, si possible, dans un endroit propre, à l'abri de la lumière et de la chaleu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2920" y="4619520"/>
            <a:ext cx="466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A chaque nouveau rapport sexuel, utilisez un applicateur pour rajouter du spermicide dans le vagi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07080" y="1063800"/>
            <a:ext cx="3168720" cy="200484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18800" bIns="118800" anchor="t">
            <a:noAutofit/>
          </a:bodyPr>
          <a:p>
            <a:pPr marL="171360" indent="-171360" algn="ctr">
              <a:lnSpc>
                <a:spcPct val="9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ff3300"/>
                </a:solidFill>
                <a:latin typeface="Arial"/>
              </a:rPr>
              <a:t>Après le rappor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ctr">
              <a:lnSpc>
                <a:spcPct val="95000"/>
              </a:lnSpc>
              <a:spcBef>
                <a:spcPts val="43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Laissez le diaphragme en place pendant AU MOINS 6 heures mais PAS PLUS DE 24 heur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ctr">
              <a:lnSpc>
                <a:spcPct val="95000"/>
              </a:lnSpc>
              <a:spcBef>
                <a:spcPts val="43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Pour l'enlever, glissez délicatement un doigt sous l'anneau et tirez vers le bas et l'extéri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64240" y="3645000"/>
            <a:ext cx="1569960" cy="1584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La personne doit vérifier qu'elle sent le col de l'utérus à travers le dôme du diaphragme; au toucher le col utérin est comme le bout du nez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5726160"/>
            <a:ext cx="990612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La cliente comprend-elle comment utiliser le diaphragme ? Est-elle prête à choisir cette méthode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6093000"/>
            <a:ext cx="4267080" cy="685800"/>
          </a:xfrm>
          <a:prstGeom prst="downArrowCallout">
            <a:avLst>
              <a:gd name="adj1" fmla="val 622262"/>
              <a:gd name="adj2" fmla="val 311102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Si la cliente a décidé d'utiliser cette méthode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, passez à la page suivante pour parler des spermicides, si nécessai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11800" y="6093000"/>
            <a:ext cx="3886200" cy="5331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Sinon,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 poursuivez le dialogue ou envisagez d'autres métho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81400" y="1322280"/>
            <a:ext cx="1949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Joignez les bords du diaphragme et introduisez-le dans le vagin aussi haut que pos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2360" y="1060560"/>
            <a:ext cx="1797120" cy="20080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24160" y="1060560"/>
            <a:ext cx="2006640" cy="20080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18080" y="1060560"/>
            <a:ext cx="1828800" cy="20080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5400000">
            <a:off x="950400" y="321624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5400000">
            <a:off x="8040240" y="321624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440"/>
            <a:ext cx="9906120" cy="838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Mode d'emploi du diaphrag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MV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5760" y="9810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66ccff"/>
                </a:solidFill>
                <a:latin typeface="Wingdings"/>
                <a:ea typeface="Wingdings"/>
              </a:rPr>
              <a:t>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14720" y="981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66ccff"/>
                </a:solidFill>
                <a:latin typeface="Wingdings"/>
                <a:ea typeface="Wingdings"/>
              </a:rPr>
              <a:t>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22680" y="98100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66ccff"/>
                </a:solidFill>
                <a:latin typeface="Wingdings"/>
                <a:ea typeface="Wingdings"/>
              </a:rPr>
              <a:t>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21400" y="981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66ccff"/>
                </a:solidFill>
                <a:latin typeface="Wingdings"/>
                <a:ea typeface="Wingdings"/>
              </a:rPr>
              <a:t>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5400000">
            <a:off x="5400360" y="321624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9272520" y="5697360"/>
            <a:ext cx="576000" cy="468360"/>
            <a:chOff x="9272520" y="5697360"/>
            <a:chExt cx="576000" cy="468360"/>
          </a:xfrm>
        </p:grpSpPr>
        <p:sp>
          <p:nvSpPr>
            <p:cNvPr id="169" name=""/>
            <p:cNvSpPr/>
            <p:nvPr/>
          </p:nvSpPr>
          <p:spPr>
            <a:xfrm>
              <a:off x="9272520" y="569736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9412200" y="582300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-233280" y="5911920"/>
            <a:ext cx="1218960" cy="946080"/>
          </a:xfrm>
          <a:prstGeom prst="rect">
            <a:avLst/>
          </a:prstGeom>
          <a:ln w="0">
            <a:noFill/>
          </a:ln>
        </p:spPr>
      </p:pic>
      <p:grpSp>
        <p:nvGrpSpPr>
          <p:cNvPr id="172" name=""/>
          <p:cNvGrpSpPr/>
          <p:nvPr/>
        </p:nvGrpSpPr>
        <p:grpSpPr>
          <a:xfrm>
            <a:off x="208080" y="58680"/>
            <a:ext cx="1143000" cy="730440"/>
            <a:chOff x="208080" y="58680"/>
            <a:chExt cx="1143000" cy="730440"/>
          </a:xfrm>
        </p:grpSpPr>
        <p:sp>
          <p:nvSpPr>
            <p:cNvPr id="173" name=""/>
            <p:cNvSpPr/>
            <p:nvPr/>
          </p:nvSpPr>
          <p:spPr>
            <a:xfrm>
              <a:off x="208080" y="58680"/>
              <a:ext cx="1143000" cy="717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2480" y="78840"/>
              <a:ext cx="93528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200" spc="-1" strike="noStrike">
                  <a:solidFill>
                    <a:srgbClr val="000000"/>
                  </a:solidFill>
                  <a:latin typeface="Arial"/>
                </a:rPr>
                <a:t>Méthod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200" spc="-1" strike="noStrike">
                  <a:solidFill>
                    <a:srgbClr val="000000"/>
                  </a:solidFill>
                  <a:latin typeface="Arial"/>
                </a:rPr>
                <a:t>vagin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335160" y="446040"/>
              <a:ext cx="914400" cy="343080"/>
              <a:chOff x="335160" y="446040"/>
              <a:chExt cx="914400" cy="343080"/>
            </a:xfrm>
          </p:grpSpPr>
          <p:pic>
            <p:nvPicPr>
              <p:cNvPr id="17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34880" y="477720"/>
                <a:ext cx="814680" cy="31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35160" y="446040"/>
                <a:ext cx="415800" cy="177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8" name=""/>
          <p:cNvSpPr/>
          <p:nvPr/>
        </p:nvSpPr>
        <p:spPr>
          <a:xfrm>
            <a:off x="128520" y="5445000"/>
            <a:ext cx="144792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rochaine étap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 rot="21522600">
            <a:off x="7819560" y="1368000"/>
            <a:ext cx="1143000" cy="9939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21522600">
            <a:off x="6172200" y="1371240"/>
            <a:ext cx="1371600" cy="9907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21522600">
            <a:off x="2666880" y="1269720"/>
            <a:ext cx="1371600" cy="11430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21522600">
            <a:off x="622080" y="1266480"/>
            <a:ext cx="1751040" cy="1003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21522600">
            <a:off x="7497360" y="2742840"/>
            <a:ext cx="1676520" cy="241308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-1440" y="1440"/>
            <a:ext cx="9907560" cy="101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800" spc="-1" strike="noStrike">
                <a:solidFill>
                  <a:srgbClr val="000000"/>
                </a:solidFill>
                <a:latin typeface="Arial"/>
              </a:rPr>
              <a:t>Mode d'emploi des spermicid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889840" y="15732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Fil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19440" y="198900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Comprimés ou supposito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746840" y="1447920"/>
            <a:ext cx="1143000" cy="9126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248520" y="1589040"/>
            <a:ext cx="1295280" cy="6444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533520" y="1371600"/>
            <a:ext cx="1752480" cy="8604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2921040" y="1295280"/>
            <a:ext cx="957240" cy="12286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98360" y="2874960"/>
            <a:ext cx="68407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262080" indent="-262080"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A mettre avant le rapport sexuel (jusqu'à une heure ava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A placer profondément dans le vagin, à l'aide d'un applicateur ou avec les doig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Ne pas se laver le vagin pendant 6 heures au moins après le ra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A ranger, si possible, dans un endroit sec à l'abri de la chal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43440" y="5386320"/>
            <a:ext cx="3943440" cy="1459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1800" spc="-1" strike="noStrike">
                <a:solidFill>
                  <a:srgbClr val="ff3300"/>
                </a:solidFill>
                <a:latin typeface="Arial"/>
              </a:rPr>
              <a:t>Voulez-vous essayer cette méthode pour voir si elle vous convient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4303800" y="5734080"/>
            <a:ext cx="1218960" cy="9460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7327800" y="2708280"/>
            <a:ext cx="167328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5791320"/>
            <a:ext cx="990612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  <a:ea typeface="Arial"/>
              </a:rPr>
              <a:t>La cliente comprend-elle comment utiliser les spermicides ? Est-elle prête à choisir cette méthode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630760" y="4149720"/>
            <a:ext cx="4073760" cy="385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pour que les comprimés moussants ne fondent p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86200" y="414972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440"/>
            <a:ext cx="9906120" cy="838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Mode d'emploi des spermici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-114480" y="591192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MV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7080" y="126828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6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A mettre avant le rapport sexuel (jusqu'à une heure ava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7080" y="206064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6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A placer profondément dans le vagin, à l'aide d'un applicateur ou avec les doig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7080" y="314172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6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Ne pas se laver le vagin pendant 6 heures au moins après le rappo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7080" y="407052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6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A ranger, si possible, dans un endroit sec à l'abri de la chal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630760" y="1413000"/>
            <a:ext cx="4073760" cy="1584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3300"/>
                </a:solidFill>
                <a:latin typeface="Arial"/>
              </a:rPr>
              <a:t>Les comprimés, les suppositoires ou le fi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sont à mettre 10 minutes au moins avant le rapport sexu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le film doit être plié en deux et placé avec les doigts (secs) près du col.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3300"/>
                </a:solidFill>
                <a:latin typeface="Arial"/>
              </a:rPr>
              <a:t>La mous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doit être agitée avant us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92680" y="16286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9326520" y="5589720"/>
            <a:ext cx="576000" cy="468360"/>
            <a:chOff x="9326520" y="5589720"/>
            <a:chExt cx="576000" cy="468360"/>
          </a:xfrm>
        </p:grpSpPr>
        <p:sp>
          <p:nvSpPr>
            <p:cNvPr id="208" name=""/>
            <p:cNvSpPr/>
            <p:nvPr/>
          </p:nvSpPr>
          <p:spPr>
            <a:xfrm>
              <a:off x="9326520" y="558972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9" name="" descr=""/>
            <p:cNvPicPr/>
            <p:nvPr/>
          </p:nvPicPr>
          <p:blipFill>
            <a:blip r:embed="rId2"/>
            <a:stretch/>
          </p:blipFill>
          <p:spPr>
            <a:xfrm>
              <a:off x="9466200" y="571536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"/>
          <p:cNvSpPr/>
          <p:nvPr/>
        </p:nvSpPr>
        <p:spPr>
          <a:xfrm>
            <a:off x="919080" y="6172200"/>
            <a:ext cx="4267440" cy="685800"/>
          </a:xfrm>
          <a:prstGeom prst="downArrowCallout">
            <a:avLst>
              <a:gd name="adj1" fmla="val 622315"/>
              <a:gd name="adj2" fmla="val 311128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Si la cliente a décidé d'utiliser cette méthode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, passez à la page suivante pour parler des spermicides, si nécessai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83080" y="6165720"/>
            <a:ext cx="3886200" cy="5335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Sinon,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 poursuivez le dialogue ou envisagez d'autres métho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08080" y="58680"/>
            <a:ext cx="1143000" cy="730440"/>
            <a:chOff x="208080" y="58680"/>
            <a:chExt cx="1143000" cy="730440"/>
          </a:xfrm>
        </p:grpSpPr>
        <p:sp>
          <p:nvSpPr>
            <p:cNvPr id="213" name=""/>
            <p:cNvSpPr/>
            <p:nvPr/>
          </p:nvSpPr>
          <p:spPr>
            <a:xfrm>
              <a:off x="208080" y="58680"/>
              <a:ext cx="1143000" cy="717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2480" y="78840"/>
              <a:ext cx="93528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200" spc="-1" strike="noStrike">
                  <a:solidFill>
                    <a:srgbClr val="000000"/>
                  </a:solidFill>
                  <a:latin typeface="Arial"/>
                </a:rPr>
                <a:t>Méthod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200" spc="-1" strike="noStrike">
                  <a:solidFill>
                    <a:srgbClr val="000000"/>
                  </a:solidFill>
                  <a:latin typeface="Arial"/>
                </a:rPr>
                <a:t>vagin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335160" y="446040"/>
              <a:ext cx="914400" cy="343080"/>
              <a:chOff x="335160" y="446040"/>
              <a:chExt cx="914400" cy="343080"/>
            </a:xfrm>
          </p:grpSpPr>
          <p:pic>
            <p:nvPicPr>
              <p:cNvPr id="21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34880" y="477720"/>
                <a:ext cx="814680" cy="31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35160" y="446040"/>
                <a:ext cx="415800" cy="177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18" name=""/>
          <p:cNvSpPr/>
          <p:nvPr/>
        </p:nvSpPr>
        <p:spPr>
          <a:xfrm>
            <a:off x="128520" y="5500800"/>
            <a:ext cx="1447920" cy="3045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rochaine étap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 rot="20679600">
            <a:off x="5715000" y="2819160"/>
            <a:ext cx="1903320" cy="10080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4200">
            <a:off x="7315200" y="4041720"/>
            <a:ext cx="1905120" cy="15969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21522600">
            <a:off x="4874760" y="1752480"/>
            <a:ext cx="1903680" cy="10083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1413000"/>
            <a:ext cx="5257800" cy="41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ff3300"/>
                </a:solidFill>
                <a:latin typeface="Arial"/>
              </a:rPr>
              <a:t>Revenez si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1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vous avez encore besoin de spermici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3163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le diaphragme est raide, fin ou trou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3163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vous ou votre partenaire avez des démangeaisons, des boutons, une irrita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3163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vous avez mal quand vous urin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-1440" y="1440"/>
            <a:ext cx="9907560" cy="101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800" spc="-1" strike="noStrike">
                <a:solidFill>
                  <a:srgbClr val="000000"/>
                </a:solidFill>
                <a:latin typeface="Arial"/>
              </a:rPr>
              <a:t>A reteni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2236800">
            <a:off x="5318280" y="4102200"/>
            <a:ext cx="1692000" cy="21333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724280" y="1913040"/>
            <a:ext cx="1905120" cy="934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943600" y="2971800"/>
            <a:ext cx="1676520" cy="9050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416560" y="4114800"/>
            <a:ext cx="1200240" cy="27432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533520" y="120600"/>
            <a:ext cx="1447560" cy="11224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965160" y="5600880"/>
            <a:ext cx="4114800" cy="1079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1600" spc="-1" strike="noStrike">
                <a:solidFill>
                  <a:srgbClr val="ff3300"/>
                </a:solidFill>
                <a:latin typeface="Arial"/>
              </a:rPr>
              <a:t>Voulez-vous que je répète ou que je vous explique quelque chose? Avez-vous des questions à poser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7365960" y="4048200"/>
            <a:ext cx="1746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181480" y="1413000"/>
            <a:ext cx="4523040" cy="84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Voyez avec la cliente où elle peut se réapprovisionner </a:t>
            </a:r>
            <a:r>
              <a:rPr b="0" lang="fr-CH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 au dispensaire ou à la pharmac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Il faut absolument se réapprovisionner avant de ne plus avoir de spermic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3108240"/>
            <a:ext cx="4523040" cy="836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 algn="just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Peuvent être dus au spermicide, au latex, à une infection ou à une vagin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Il faut peut-être changer de marque de spermicide ou de méth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67440" y="4076640"/>
            <a:ext cx="452268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C'est un signe d'infection urinai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81480" y="2390760"/>
            <a:ext cx="4523040" cy="585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 algn="just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Ces diaphragmes doivent être remplacé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Il faut aussi vérifier l'ajustement du diaphragme après un accouchement ou un avort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5756400"/>
            <a:ext cx="9909000" cy="1112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43480" y="18302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43480" y="25351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46720" y="342900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46720" y="40766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407664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1913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vous avez mal quand vous urin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1440"/>
            <a:ext cx="9906120" cy="838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00"/>
                </a:solidFill>
                <a:latin typeface="Arial"/>
              </a:rPr>
              <a:t>A reteni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MV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7904160" y="6056280"/>
            <a:ext cx="576000" cy="468360"/>
            <a:chOff x="7904160" y="6056280"/>
            <a:chExt cx="576000" cy="468360"/>
          </a:xfrm>
        </p:grpSpPr>
        <p:sp>
          <p:nvSpPr>
            <p:cNvPr id="244" name=""/>
            <p:cNvSpPr/>
            <p:nvPr/>
          </p:nvSpPr>
          <p:spPr>
            <a:xfrm>
              <a:off x="7904160" y="605628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5" name="" descr=""/>
            <p:cNvPicPr/>
            <p:nvPr/>
          </p:nvPicPr>
          <p:blipFill>
            <a:blip r:embed="rId1"/>
            <a:stretch/>
          </p:blipFill>
          <p:spPr>
            <a:xfrm>
              <a:off x="8043840" y="618192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6" name=""/>
          <p:cNvSpPr/>
          <p:nvPr/>
        </p:nvSpPr>
        <p:spPr>
          <a:xfrm>
            <a:off x="0" y="328464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1913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vous ou votre partenaire avez des démangeaisons, des boutons, une irri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4480" y="239220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1913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le diaphragme est raide, fin ou trou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4480" y="177336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1913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vous avez encore besoin de spermic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4480" y="126216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3300"/>
                </a:solidFill>
                <a:latin typeface="Arial"/>
              </a:rPr>
              <a:t>Revenez si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96880" y="5810400"/>
            <a:ext cx="7761600" cy="9792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i="1" lang="fr-CH" sz="1200" spc="-1" strike="noStrike">
                <a:solidFill>
                  <a:srgbClr val="000000"/>
                </a:solidFill>
                <a:latin typeface="Arial"/>
              </a:rPr>
              <a:t>Pensez-vous que cette méthode vous conviendra ? </a:t>
            </a:r>
            <a:br>
              <a:rPr sz="1200"/>
            </a:br>
            <a:r>
              <a:rPr b="0" i="1" lang="fr-CH" sz="1200" spc="-1" strike="noStrike">
                <a:solidFill>
                  <a:srgbClr val="000000"/>
                </a:solidFill>
                <a:latin typeface="Arial"/>
              </a:rPr>
              <a:t>Voulez-vous que je répète ou que je vous explique quelque chose ?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1200" spc="-1" strike="noStrike">
                <a:solidFill>
                  <a:srgbClr val="ff3399"/>
                </a:solidFill>
                <a:latin typeface="Arial"/>
              </a:rPr>
              <a:t>Attention ! Proposez des préservatifs pour la double protection et/ou comme moyen de remplacement.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Enfin, le message le plus i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mportant :  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i="1" lang="fr-CH" sz="1200" spc="-1" strike="noStrike">
                <a:solidFill>
                  <a:srgbClr val="000000"/>
                </a:solidFill>
                <a:latin typeface="Arial"/>
              </a:rPr>
              <a:t>Utilisez cette méthode de façon systématique.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8520" y="5487840"/>
            <a:ext cx="1582920" cy="2890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Dernières étapes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08080" y="58680"/>
            <a:ext cx="1143000" cy="730440"/>
            <a:chOff x="208080" y="58680"/>
            <a:chExt cx="1143000" cy="730440"/>
          </a:xfrm>
        </p:grpSpPr>
        <p:sp>
          <p:nvSpPr>
            <p:cNvPr id="253" name=""/>
            <p:cNvSpPr/>
            <p:nvPr/>
          </p:nvSpPr>
          <p:spPr>
            <a:xfrm>
              <a:off x="208080" y="58680"/>
              <a:ext cx="1143000" cy="717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12480" y="78840"/>
              <a:ext cx="93528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200" spc="-1" strike="noStrike">
                  <a:solidFill>
                    <a:srgbClr val="000000"/>
                  </a:solidFill>
                  <a:latin typeface="Arial"/>
                </a:rPr>
                <a:t>Méthod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200" spc="-1" strike="noStrike">
                  <a:solidFill>
                    <a:srgbClr val="000000"/>
                  </a:solidFill>
                  <a:latin typeface="Arial"/>
                </a:rPr>
                <a:t>vagin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335160" y="446040"/>
              <a:ext cx="914400" cy="343080"/>
              <a:chOff x="335160" y="446040"/>
              <a:chExt cx="914400" cy="343080"/>
            </a:xfrm>
          </p:grpSpPr>
          <p:pic>
            <p:nvPicPr>
              <p:cNvPr id="25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34880" y="477720"/>
                <a:ext cx="814680" cy="31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35160" y="446040"/>
                <a:ext cx="415800" cy="177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8T09:29:07Z</dcterms:created>
  <dc:creator/>
  <dc:description/>
  <dc:language>en-US</dc:language>
  <cp:lastModifiedBy>meynentc</cp:lastModifiedBy>
  <cp:lastPrinted>2002-06-10T08:51:06Z</cp:lastPrinted>
  <dcterms:modified xsi:type="dcterms:W3CDTF">2007-07-23T12:26:36Z</dcterms:modified>
  <cp:revision>476</cp:revision>
  <dc:subject/>
  <dc:title>Les méthodes vaginales</dc:title>
</cp:coreProperties>
</file>