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4B586-024F-4679-955A-2BAD72FCE5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either spermicides or diaphragms are not available, can remove reference to them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360" y="4653000"/>
            <a:ext cx="42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'est la femme qui le met mais son utilisation doit être discutée avec le partenair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360" y="3357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tilisable seul ou en même temps que d'autres méthodes de planification famil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360" y="4221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oûte parfois 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 préservatif fémin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1640" y="3700440"/>
            <a:ext cx="46785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peut-être plus efficacement la grossesse lorsqu'il est associé à une autre méthode (à l'exception du préservatif masculin, impossible à utiliser dans ce ca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peut également l'utiliser comme solution de secours en cas d'oubli de la pilule ou de retard dans les inje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1640" y="4643280"/>
            <a:ext cx="467856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coûteux et moins facile à obtenir que le préservatif mascul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360" y="141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ontribue à éviter la grossesse ET à protéger des IST et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83416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e préservatif féminin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146640"/>
            <a:ext cx="3733920" cy="684360"/>
          </a:xfrm>
          <a:prstGeom prst="downArrowCallout">
            <a:avLst>
              <a:gd name="adj1" fmla="val 545658"/>
              <a:gd name="adj2" fmla="val 27280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veut en savoir plus sur le préservatif fémini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assez à la page suiva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2360" y="28353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189200">
            <a:off x="4635360" y="46054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600" y="47520"/>
            <a:ext cx="1193760" cy="717480"/>
            <a:chOff x="12600" y="47520"/>
            <a:chExt cx="1193760" cy="717480"/>
          </a:xfrm>
        </p:grpSpPr>
        <p:grpSp>
          <p:nvGrpSpPr>
            <p:cNvPr id="56" name=""/>
            <p:cNvGrpSpPr/>
            <p:nvPr/>
          </p:nvGrpSpPr>
          <p:grpSpPr>
            <a:xfrm>
              <a:off x="12600" y="47520"/>
              <a:ext cx="1193760" cy="717480"/>
              <a:chOff x="12600" y="47520"/>
              <a:chExt cx="1193760" cy="717480"/>
            </a:xfrm>
          </p:grpSpPr>
          <p:sp>
            <p:nvSpPr>
              <p:cNvPr id="57" name=""/>
              <p:cNvSpPr/>
              <p:nvPr/>
            </p:nvSpPr>
            <p:spPr>
              <a:xfrm>
                <a:off x="63360" y="475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600" y="13896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896760" y="7920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360" y="24922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fficace si vous l'utilisez CHAQUE FOIS que vous avez des rapports sex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2360" y="38275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2360" y="1785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49400">
            <a:off x="4592520" y="5068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5800" y="909720"/>
            <a:ext cx="46944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u préservatif féminin 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Gaine en plastique lâche à mettre dans le vagin avant le rapport sexu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'y a pas de contre-indication médicale à son utilisation (il n'est PAS en latex). Il ne provoque pas de réactions allergiqu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6720" y="6858000"/>
            <a:ext cx="135396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éservatif fémi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5800" y="1852560"/>
            <a:ext cx="4694400" cy="84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Il faut utiliser un préservatif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on craint d'avoir une IST (y compris à VIH) ou que son partenaire n'en ait u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on a plusieurs partenaires sexuels ou si on craint que son partenaire n'ait plusieurs partenaires sexue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5800" y="2776680"/>
            <a:ext cx="4694400" cy="84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e préservatif est utilisé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rrectement et systématiquement,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efficacement la grossesse, l'infection à VIH et les autres IS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peut-être moins efficacement la grossesse, l'infection à VIH et les autres IST que le préservatif masculi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st préférable de le mettre avant tout contact sexuel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5800" y="5013360"/>
            <a:ext cx="469440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Si le partenaire ne veut pas utiliser de préservatif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Nous pouvons discuter de ce que vous pourriez dire et faire </a:t>
            </a:r>
            <a:br>
              <a:rPr sz="1100"/>
            </a:b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un jeu de rôles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traînez le client à parler avec son partenaire. Consultez l'annexe 9.</a:t>
            </a:r>
            <a:r>
              <a:rPr b="0" lang="fr-CH" sz="11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0400" y="5000760"/>
            <a:ext cx="597240" cy="468000"/>
            <a:chOff x="9140400" y="5000760"/>
            <a:chExt cx="597240" cy="468000"/>
          </a:xfrm>
        </p:grpSpPr>
        <p:sp>
          <p:nvSpPr>
            <p:cNvPr id="72" name=""/>
            <p:cNvSpPr/>
            <p:nvPr/>
          </p:nvSpPr>
          <p:spPr>
            <a:xfrm flipH="1">
              <a:off x="9140040" y="5000760"/>
              <a:ext cx="576360" cy="46800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9155160" y="5008680"/>
              <a:ext cx="58248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5238720" y="6146640"/>
            <a:ext cx="3960720" cy="69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520" y="5545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u préservatif fémin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422520"/>
            <a:ext cx="177948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uvrez délicatement l'emballag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Assurez-vous que l'intérieur du préservatif est bien lubrifié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8440" y="3422520"/>
            <a:ext cx="27432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Choisissez une position confortable – accroupie, une jambe levée, assise ou allongé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9800" y="5300640"/>
            <a:ext cx="2592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our enlever le préservatif, attrapez l'anneau extérieur et tirez délicat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Jetez le préservatif à la poubel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5760" y="2752560"/>
            <a:ext cx="3237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lacez délicatement l'anneau intérieur dans le va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ettez l'index à l'intérieur du préservatif et poussez l'anneau intérieur au maximum vers le ha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Assurez-vous que l'anneau extérieur est hors du vagin et que le préservatif n'est pas entortillé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Vérifiez que le pénis entre dans le préservatif et y reste pendant tout le ra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5880" y="5051520"/>
            <a:ext cx="2952720" cy="11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7640" y="540072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4240" y="3422520"/>
            <a:ext cx="20574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ressez l'anneau intérieur, à l'extrémité fermé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360" y="2924280"/>
            <a:ext cx="97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3400" y="1341360"/>
            <a:ext cx="630360" cy="167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9680" y="1521000"/>
            <a:ext cx="85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ex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148608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180800" y="26971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520" y="1189080"/>
            <a:ext cx="144792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680" y="1214280"/>
            <a:ext cx="2412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346640" y="1125360"/>
            <a:ext cx="2128680" cy="2197080"/>
            <a:chOff x="4346640" y="1125360"/>
            <a:chExt cx="2128680" cy="2197080"/>
          </a:xfrm>
        </p:grpSpPr>
        <p:grpSp>
          <p:nvGrpSpPr>
            <p:cNvPr id="92" name=""/>
            <p:cNvGrpSpPr/>
            <p:nvPr/>
          </p:nvGrpSpPr>
          <p:grpSpPr>
            <a:xfrm>
              <a:off x="4417920" y="1188720"/>
              <a:ext cx="2057400" cy="2133720"/>
              <a:chOff x="4417920" y="1188720"/>
              <a:chExt cx="2057400" cy="2133720"/>
            </a:xfrm>
          </p:grpSpPr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8520" y="1545840"/>
                <a:ext cx="18288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417920" y="1188720"/>
                <a:ext cx="2057400" cy="213372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346640" y="112536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59080" y="4941720"/>
            <a:ext cx="2073240" cy="1697040"/>
            <a:chOff x="4159080" y="4941720"/>
            <a:chExt cx="2073240" cy="1697040"/>
          </a:xfrm>
        </p:grpSpPr>
        <p:grpSp>
          <p:nvGrpSpPr>
            <p:cNvPr id="97" name=""/>
            <p:cNvGrpSpPr/>
            <p:nvPr/>
          </p:nvGrpSpPr>
          <p:grpSpPr>
            <a:xfrm>
              <a:off x="4230360" y="5013360"/>
              <a:ext cx="2001960" cy="1625400"/>
              <a:chOff x="4230360" y="5013360"/>
              <a:chExt cx="2001960" cy="1625400"/>
            </a:xfrm>
          </p:grpSpPr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68520" y="5209920"/>
                <a:ext cx="1778040" cy="13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4230360" y="5013360"/>
                <a:ext cx="2001960" cy="162540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159080" y="4941720"/>
              <a:ext cx="45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932520" y="1189080"/>
            <a:ext cx="2743200" cy="147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27960" y="1189080"/>
            <a:ext cx="3125520" cy="15238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9360" y="1620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594200" y="15699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85080" y="2239920"/>
            <a:ext cx="91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Extrémité ouv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01080" y="198864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78640" y="112860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720" y="112860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189080"/>
            <a:ext cx="259056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882800" y="1225440"/>
            <a:ext cx="22334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52480" y="2247840"/>
            <a:ext cx="17892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sissez une position confortable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―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ccroupie, une jambe levée, assise ou allongé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Mode d'emploi du préservatif fémin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9680" y="3645000"/>
            <a:ext cx="502776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tiliser un préservatif neuf à chaque rapport sexuel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mettre le préservatif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avant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que le pénis ne touche le va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préservatif peut être mis 8 heures à l'avance au maxim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préservatif est lubrifié mais il faut parfois ajouter du lubrifiant (dans le préservatif ou sur le pénis) pour qu'il ne se déplace pas pendant le rapport sex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 la fin du rapport, la femme doit s'éloigner de son partenaire et veiller à ce que le sperme ne pénètre pas dans le va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jeter le préservatif à la poube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247840"/>
            <a:ext cx="160668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uvrez délicatement l'emball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ssurez-vous que l'intérieur du préservatif est bien lubr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6960" y="2247840"/>
            <a:ext cx="15559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enlever le préservatif, attrapez l'anneau extérieur et tirez délicat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Jetez le préservatif à la poub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2247840"/>
            <a:ext cx="28177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lacez délicatement l'anneau intérieur dans le vag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ez l'index à l'intérieur du préservatif et poussez l'anneau intérieur au maximum vers le hau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ssurez-vous que l'anneau extérieur est hors du vagin et que le préservatif n'est pas entortillé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érifiez que le pénis entre dans le préservatif et y reste pendant tout le rap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819760"/>
            <a:ext cx="9906120" cy="1049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préservatif féminin ? Est-elle prête à choisir cette méthode ?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616104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elle a décidé d'utiliser cette méthod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8240" y="616104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non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suivez le dialogue ou envisagez d'autres méth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6920" y="2247840"/>
            <a:ext cx="198108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essez l'anneau intérieur, à l'extrémité ferm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171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955800"/>
            <a:ext cx="1447920" cy="1295280"/>
            <a:chOff x="228600" y="955800"/>
            <a:chExt cx="1447920" cy="12952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838440" y="1108080"/>
              <a:ext cx="31572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28600" y="1320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Anneau extérieu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12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218960" y="1717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55800"/>
              <a:ext cx="14479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7160" y="969840"/>
            <a:ext cx="241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70200" y="879480"/>
            <a:ext cx="1789200" cy="1371240"/>
            <a:chOff x="3670200" y="879480"/>
            <a:chExt cx="1789200" cy="1371240"/>
          </a:xfrm>
        </p:grpSpPr>
        <p:grpSp>
          <p:nvGrpSpPr>
            <p:cNvPr id="132" name=""/>
            <p:cNvGrpSpPr/>
            <p:nvPr/>
          </p:nvGrpSpPr>
          <p:grpSpPr>
            <a:xfrm>
              <a:off x="3782880" y="955440"/>
              <a:ext cx="1676520" cy="1295280"/>
              <a:chOff x="3782880" y="955440"/>
              <a:chExt cx="1676520" cy="1295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2040" y="1014120"/>
                <a:ext cx="1460520" cy="10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782880" y="955440"/>
                <a:ext cx="16765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670200" y="87948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8163000" y="879480"/>
            <a:ext cx="1549440" cy="1371240"/>
            <a:chOff x="8163000" y="879480"/>
            <a:chExt cx="1549440" cy="1371240"/>
          </a:xfrm>
        </p:grpSpPr>
        <p:grpSp>
          <p:nvGrpSpPr>
            <p:cNvPr id="137" name=""/>
            <p:cNvGrpSpPr/>
            <p:nvPr/>
          </p:nvGrpSpPr>
          <p:grpSpPr>
            <a:xfrm>
              <a:off x="8264520" y="955440"/>
              <a:ext cx="1447920" cy="1295280"/>
              <a:chOff x="8264520" y="955440"/>
              <a:chExt cx="1447920" cy="12952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61360" y="1096560"/>
                <a:ext cx="126360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264520" y="955440"/>
                <a:ext cx="14479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8163000" y="879480"/>
              <a:ext cx="453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00600" y="879480"/>
            <a:ext cx="2347920" cy="1373760"/>
            <a:chOff x="5700600" y="879480"/>
            <a:chExt cx="2347920" cy="1373760"/>
          </a:xfrm>
        </p:grpSpPr>
        <p:grpSp>
          <p:nvGrpSpPr>
            <p:cNvPr id="142" name=""/>
            <p:cNvGrpSpPr/>
            <p:nvPr/>
          </p:nvGrpSpPr>
          <p:grpSpPr>
            <a:xfrm>
              <a:off x="5764320" y="955440"/>
              <a:ext cx="2284200" cy="1297800"/>
              <a:chOff x="5764320" y="955440"/>
              <a:chExt cx="2284200" cy="1297800"/>
            </a:xfrm>
          </p:grpSpPr>
          <p:pic>
            <p:nvPicPr>
              <p:cNvPr id="1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4120" y="969840"/>
                <a:ext cx="197928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346080" y="1333440"/>
                <a:ext cx="64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Anneau intérieu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6395400" y="1306080"/>
                <a:ext cx="2282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78360" y="1915920"/>
                <a:ext cx="68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Extrémité ouver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964120" y="1725480"/>
                <a:ext cx="11376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64320" y="955440"/>
                <a:ext cx="228420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700600" y="879480"/>
              <a:ext cx="37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140760" y="5380200"/>
            <a:ext cx="576360" cy="468000"/>
            <a:chOff x="9140760" y="5380200"/>
            <a:chExt cx="576360" cy="468000"/>
          </a:xfrm>
        </p:grpSpPr>
        <p:sp>
          <p:nvSpPr>
            <p:cNvPr id="151" name=""/>
            <p:cNvSpPr/>
            <p:nvPr/>
          </p:nvSpPr>
          <p:spPr>
            <a:xfrm>
              <a:off x="9140760" y="5380200"/>
              <a:ext cx="576360" cy="4680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9337680" y="5476680"/>
              <a:ext cx="190440" cy="25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8480520" y="5388120"/>
            <a:ext cx="576000" cy="468000"/>
            <a:chOff x="8480520" y="5388120"/>
            <a:chExt cx="576000" cy="468000"/>
          </a:xfrm>
        </p:grpSpPr>
        <p:sp>
          <p:nvSpPr>
            <p:cNvPr id="154" name=""/>
            <p:cNvSpPr/>
            <p:nvPr/>
          </p:nvSpPr>
          <p:spPr>
            <a:xfrm>
              <a:off x="8480520" y="538812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8620200" y="551340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1711440" y="879480"/>
            <a:ext cx="1792080" cy="1371600"/>
            <a:chOff x="1711440" y="879480"/>
            <a:chExt cx="1792080" cy="1371600"/>
          </a:xfrm>
        </p:grpSpPr>
        <p:sp>
          <p:nvSpPr>
            <p:cNvPr id="157" name=""/>
            <p:cNvSpPr/>
            <p:nvPr/>
          </p:nvSpPr>
          <p:spPr>
            <a:xfrm>
              <a:off x="1828800" y="955800"/>
              <a:ext cx="16747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1440" y="879480"/>
              <a:ext cx="45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2013120" y="992160"/>
              <a:ext cx="1296720" cy="12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12600" y="47520"/>
            <a:ext cx="1193760" cy="717480"/>
            <a:chOff x="12600" y="47520"/>
            <a:chExt cx="1193760" cy="717480"/>
          </a:xfrm>
        </p:grpSpPr>
        <p:grpSp>
          <p:nvGrpSpPr>
            <p:cNvPr id="161" name=""/>
            <p:cNvGrpSpPr/>
            <p:nvPr/>
          </p:nvGrpSpPr>
          <p:grpSpPr>
            <a:xfrm>
              <a:off x="12600" y="47520"/>
              <a:ext cx="1193760" cy="717480"/>
              <a:chOff x="12600" y="47520"/>
              <a:chExt cx="1193760" cy="717480"/>
            </a:xfrm>
          </p:grpSpPr>
          <p:sp>
            <p:nvSpPr>
              <p:cNvPr id="162" name=""/>
              <p:cNvSpPr/>
              <p:nvPr/>
            </p:nvSpPr>
            <p:spPr>
              <a:xfrm>
                <a:off x="63360" y="475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600" y="13896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896760" y="7920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8520" y="55418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21337200">
            <a:off x="4648320" y="2361960"/>
            <a:ext cx="1752480" cy="9903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337200">
            <a:off x="4014720" y="5516640"/>
            <a:ext cx="1427400" cy="12254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337200">
            <a:off x="5211720" y="3504960"/>
            <a:ext cx="2024280" cy="10285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11280"/>
            <a:ext cx="429084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Utilisez un préservatif A CHAQUE rapport sexu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ssurez-vous d'avoir toujours assez de préserva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n'utilisez pas correctement le préservatif, envisagez le recours dès que possible à la contraception d'urg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pouvez ajouter du lubrifiant, si nécess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337200">
            <a:off x="6095520" y="1320840"/>
            <a:ext cx="2210040" cy="12193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18040" y="1374840"/>
            <a:ext cx="223524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81560" y="3697200"/>
            <a:ext cx="1905120" cy="96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375080" y="5486400"/>
            <a:ext cx="104940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1752480" cy="1096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5880" y="4653000"/>
            <a:ext cx="402264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</a:t>
            </a:r>
            <a:br>
              <a:rPr sz="1800"/>
            </a:b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chose ? 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8760" y="2779560"/>
            <a:ext cx="46483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i vous n'utilisez pas correctement le préservatif, envisagez le recours dès que possible à la contraception d'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295280"/>
            <a:ext cx="4792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tilisez un préservatif A CHAQUE rapport sex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4960" y="2627280"/>
            <a:ext cx="4267080" cy="16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 préservatif ne reste pas en place ou s'il entre à l'intérieur du vagin, il faudra recourir à la contraception d'urgence pour éviter la grosses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Ne pas utiliser si l'emballage est déchiré ou qu'il fuit, ou si le préservatif est desséch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Les clientes ayant éventuellement été exposées au VIH ou à des IST peuvent aussi avoir besoin d'un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traitement prophylactique post-exposition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contre le VIH et/ou d'un traitement présomptif contre les 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796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17960" y="2844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64120"/>
            <a:ext cx="9909000" cy="903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205740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ssurez-vous d'avoir toujours assez de préserv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4960" y="2141640"/>
            <a:ext cx="4267080" cy="40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Approvisionnez-vous en préservatifs 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avant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de ne plus en avoir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443556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pouvez ajouter du lubrifiant, si nécess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17960" y="21844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17960" y="4449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4960" y="4365720"/>
            <a:ext cx="426708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préservatifs féminins sont lubrifiés, c'est pourquoi ils paraissent glissants au déb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peut ajouter du lubrifiant à l'intérieur, si nécessaire. L'ajout de lubrifiant rend les rapports sexuels plus silencieux et plus fac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c le préservatif féminin, on peut utiliser tous les lubrifi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ermet aussi de réduire les démangeais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816680" y="6215040"/>
            <a:ext cx="576000" cy="468360"/>
            <a:chOff x="7816680" y="6215040"/>
            <a:chExt cx="576000" cy="468360"/>
          </a:xfrm>
        </p:grpSpPr>
        <p:sp>
          <p:nvSpPr>
            <p:cNvPr id="193" name=""/>
            <p:cNvSpPr/>
            <p:nvPr/>
          </p:nvSpPr>
          <p:spPr>
            <a:xfrm>
              <a:off x="7816680" y="62150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956360" y="63406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5484960" y="907920"/>
            <a:ext cx="42480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our vous protéger totalement de la grossesse et des IST, vous devez utiliser un préservatif A CHAQUE rapport sexuel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S'il est impossible d'utiliser un préservatif chaque fois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envisager aussi une autre méthode de planification famili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8720" y="6067440"/>
            <a:ext cx="8496360" cy="7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Etes-vous satisfaite de votre choix ? Voulez-vous que je répète ou que je vous explique quelque chose ? </a:t>
            </a:r>
            <a:br>
              <a:rPr sz="1200"/>
            </a:b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Revenez quand vous le souhaitez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Enfin, le message le plus important :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Utilisez un préservatif chaque fois que vous avez un rapport sexuel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600" y="60480"/>
            <a:ext cx="1193760" cy="717480"/>
            <a:chOff x="12600" y="60480"/>
            <a:chExt cx="1193760" cy="717480"/>
          </a:xfrm>
        </p:grpSpPr>
        <p:grpSp>
          <p:nvGrpSpPr>
            <p:cNvPr id="198" name=""/>
            <p:cNvGrpSpPr/>
            <p:nvPr/>
          </p:nvGrpSpPr>
          <p:grpSpPr>
            <a:xfrm>
              <a:off x="12600" y="60480"/>
              <a:ext cx="1193760" cy="717480"/>
              <a:chOff x="12600" y="60480"/>
              <a:chExt cx="1193760" cy="717480"/>
            </a:xfrm>
          </p:grpSpPr>
          <p:sp>
            <p:nvSpPr>
              <p:cNvPr id="199" name=""/>
              <p:cNvSpPr/>
              <p:nvPr/>
            </p:nvSpPr>
            <p:spPr>
              <a:xfrm>
                <a:off x="63360" y="6048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600" y="15192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896760" y="9216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28520" y="5732640"/>
            <a:ext cx="158292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21337200">
            <a:off x="5743440" y="1915920"/>
            <a:ext cx="3632400" cy="2006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154160"/>
            <a:ext cx="73152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méthode vaginales sont les spermicides et le diaphrag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mettre dans le vagin avant chaque rapport sex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ertaines personnes peuvent ressentir des effets secondai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arfois salis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s spermicid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oins efficaces que les autres méth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 diaphrag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eut être efficace s'il est utilisé correctement et systémat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faut pratiquer un examen gynécologique pour vérifier la taille nécess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rotège éventuellement de certaines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0520" indent="-290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s méthodes vagi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5520" y="5300640"/>
            <a:ext cx="499428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600" spc="-1" strike="noStrike">
                <a:solidFill>
                  <a:srgbClr val="ff3300"/>
                </a:solidFill>
                <a:latin typeface="Arial"/>
              </a:rPr>
              <a:t>Voulez-vous en savoir plus sur ces méthodes ou préférez-vous parler d'une méthode différent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14680" y="5594400"/>
            <a:ext cx="1447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888160" y="2133720"/>
            <a:ext cx="3806280" cy="1854000"/>
            <a:chOff x="5888160" y="2133720"/>
            <a:chExt cx="3806280" cy="18540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6589800" y="2529000"/>
              <a:ext cx="3104640" cy="14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888160" y="2133720"/>
              <a:ext cx="2122200" cy="11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06T14:57:22Z</cp:lastPrinted>
  <dcterms:modified xsi:type="dcterms:W3CDTF">2007-07-23T12:25:41Z</dcterms:modified>
  <cp:revision>398</cp:revision>
  <dc:subject/>
  <dc:title>Le préservatif féminin</dc:title>
</cp:coreProperties>
</file>