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DFF85A-C4ED-4406-AA11-1A199C7C9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a stérilisation fémin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98100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cte chirur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35440" y="907920"/>
            <a:ext cx="5095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828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e la stérilisation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consiste à obturer ou à couper et ligaturer les trompes de Fallope, qui acheminent les ovules dans l'utérus (on ne touche pas à l'utérus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atiente peut avoir mal pendant quelques jou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général, la personne n'est pas endormie mais reçoit une injection pour ne pas souffrir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atiente peut généralement rentrer chez elle au bout de quelques heu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5440" y="3341520"/>
            <a:ext cx="5095800" cy="484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stérilisation est l'une des méthodes de planification familiale les plus effica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ans de très rares cas, une grossesse survi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35440" y="5400720"/>
            <a:ext cx="5095800" cy="333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35440" y="4975200"/>
            <a:ext cx="50958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complications chirurgicales graves sont rares (risques liés à l'anesthésie, nécessité d'une nouvelle intervention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2920" y="2395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292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10200">
            <a:off x="4303440" y="4703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2920" y="34005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295400">
            <a:off x="4303800" y="5229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0248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a stérilisation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veut en savoir plus sur la stérilisation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360" y="235260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irréversible—réservée aux femmes qui ne veulent plus avoir d'enf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360" y="317196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rès effic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429264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effets secondaires à long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360" y="4879800"/>
            <a:ext cx="456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360" y="3871800"/>
            <a:ext cx="441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d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3933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1360" y="15811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On n'enlève PAS l'utérus. Vous aurez toujours vos rè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2920" y="1828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68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43676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térilisation f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5440" y="2268360"/>
            <a:ext cx="5095800" cy="1009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a stérilisation est, en général, irrévers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Réfléchissez bien. Voudriez-vous encore avoir des enfants plus tard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terrogez la personne sur les préférences ou les inquiétudes de son parten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également possible d'envisager une vasectomie. La vasectomie est plus simple à réaliser, moins dangereuse et légèrement plus effic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35440" y="3889440"/>
            <a:ext cx="5095800" cy="1022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terrogez la personne sur ses préoccupations, sur les rumeurs qu'elle a entendues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Qu'avez-vous entendu dire à propos de la stérilisation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nsultez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'annexe 10 pour évoquer les idées fausses sur la contracep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xpliquez que toutes les femmes, même celles qui n'ont pas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'enfants, peuvent bénéficier d'une stérilisa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38720" y="6143760"/>
            <a:ext cx="3960720" cy="59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244080" y="4334040"/>
            <a:ext cx="576360" cy="468000"/>
            <a:chOff x="9244080" y="4334040"/>
            <a:chExt cx="576360" cy="468000"/>
          </a:xfrm>
        </p:grpSpPr>
        <p:sp>
          <p:nvSpPr>
            <p:cNvPr id="76" name=""/>
            <p:cNvSpPr/>
            <p:nvPr/>
          </p:nvSpPr>
          <p:spPr>
            <a:xfrm>
              <a:off x="9244080" y="4334040"/>
              <a:ext cx="576360" cy="46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9393480" y="4381200"/>
              <a:ext cx="288720" cy="38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8520" y="55260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rot="21337200">
            <a:off x="7229520" y="1911240"/>
            <a:ext cx="2359080" cy="1971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préservatif mascul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1337200">
            <a:off x="5022720" y="2060640"/>
            <a:ext cx="1932120" cy="10540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951440" y="2060640"/>
            <a:ext cx="1968480" cy="1204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647800" y="5373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tte méthode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13440" y="400536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driez-vous voir un préservatif et apprendre à vous en servi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360" y="1157400"/>
            <a:ext cx="44658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vite la grossesse ET protège des IST, y compris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rès efficace si vous l'utilisez CHAQUE FOIS que vous avez des rapports sex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Utilisable seul ou en même temps que d'autres méthodes de planification famil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Facile à obtenir et à util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es partenaires doivent généralement discuter de son 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135080" y="558972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7440" y="5705640"/>
            <a:ext cx="914400" cy="115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264440" y="2076480"/>
            <a:ext cx="2367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20766000">
            <a:off x="4519080" y="342900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80520" y="3935520"/>
            <a:ext cx="152424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0"/>
            <a:ext cx="9907560" cy="119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Dans quels cas ne peut-on pas bénéficier d'une stérilis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71620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360" y="3141720"/>
            <a:ext cx="4572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ais dans les cas suivants, </a:t>
            </a:r>
            <a:br>
              <a:rPr sz="2200"/>
            </a:b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il faut attendre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4011480"/>
            <a:ext cx="108900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45260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bénéficier d'une stérilisation à tout mo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9080" y="552924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5440" y="552924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 1 à 6 semaines après un 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58360" y="552924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nfection ou autre problème touchant les organes gén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07080" y="5529240"/>
            <a:ext cx="21081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1522600">
            <a:off x="3543120" y="1267920"/>
            <a:ext cx="5143320" cy="1933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766000">
            <a:off x="2379240" y="401148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43200" y="408780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57600" y="134460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20766000">
            <a:off x="6879960" y="4076280"/>
            <a:ext cx="1676160" cy="113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176960" y="4206960"/>
            <a:ext cx="982800" cy="1238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07080" y="3500280"/>
            <a:ext cx="84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40"/>
            <a:ext cx="9907560" cy="97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Dans quels cas ne peut-on pas bénéficier d'une stérilisation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360" y="1352520"/>
            <a:ext cx="441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La plupart des femmes peuvent bénéficier d'une stérilisation à tout moment. Mais dans les cas suivants, il faut attend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720" y="2016000"/>
            <a:ext cx="44388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'intervention peut avoir lieu à tout moment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sauf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entre 7 jours et 6 semaines après un accouch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orsqu'elle est programmée, la stérilisation peut être pratiquée jusqu'à 7 jours après l'accouch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8720" y="5086440"/>
            <a:ext cx="4438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es maladies graves,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elles qu'un accident vasculaire cérébral, une hypertension artérielle ou un diabète avec complications doivent être prises en charge avant l'interven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276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5064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3003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38149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720" y="2952720"/>
            <a:ext cx="4438800" cy="496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doute, consultez la liste de contrôle figurant à l'annexe 1 ou pratiquez un test de grosses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520" y="2195640"/>
            <a:ext cx="4419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 1 à 6 semaines après un 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20" y="2940120"/>
            <a:ext cx="441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2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520" y="3700440"/>
            <a:ext cx="4419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nfection ou autre problème touchant les organes gén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" y="4924440"/>
            <a:ext cx="4606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1125360"/>
            <a:ext cx="443880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ucune maladie ne constitue une contre-indication à la stérilisation mais, dans certains cas, l'intervention doit être reportée, il faut adresser la personne à un spécialiste ou il faut prendre des précautions particuliè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720" y="3548160"/>
            <a:ext cx="443880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Reportez l'intervention jusqu'à ce que le problème soit résol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ladie inflammatoire pelvien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fection à chlamydi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gonorrhée ou cervicite purulen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fection consécutive à un avortement ou un accouch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ancer des organes génitaux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20" y="6032520"/>
            <a:ext cx="4197600" cy="825480"/>
          </a:xfrm>
          <a:prstGeom prst="downArrowCallout">
            <a:avLst>
              <a:gd name="adj1" fmla="val 508551"/>
              <a:gd name="adj2" fmla="val 25425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peut bénéficier d'une stérilisation,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1440" y="6021360"/>
            <a:ext cx="398160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ne peut pas bénéficier d'une stérilisation immédiatement ou dans cet établissement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orientez-la comme il conv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9920" y="108720"/>
            <a:ext cx="1143000" cy="727920"/>
            <a:chOff x="169920" y="108720"/>
            <a:chExt cx="1143000" cy="727920"/>
          </a:xfrm>
        </p:grpSpPr>
        <p:sp>
          <p:nvSpPr>
            <p:cNvPr id="117" name=""/>
            <p:cNvSpPr/>
            <p:nvPr/>
          </p:nvSpPr>
          <p:spPr>
            <a:xfrm>
              <a:off x="169920" y="11880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480" y="10872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47560" y="46008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12852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522000">
            <a:off x="5635800" y="1909800"/>
            <a:ext cx="4189320" cy="2281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0"/>
            <a:ext cx="9907560" cy="90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vant de vous décid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9800" y="407664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59440" y="2184480"/>
            <a:ext cx="3816360" cy="243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3080" y="1924200"/>
            <a:ext cx="50068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Vous devez savoir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'il existe aussi des méthodes révers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la stérilisation est un acte chirurg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'elle présente des avantages mais aussi des ri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vous ne pourrez plus avoir d'enf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la stérilisation est irréversible—vous devez bien réfléch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vous pouvez y renoncer à tout moment avant l'opé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49760" y="5084640"/>
            <a:ext cx="43531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 Voulez-vous en savoir plus sur l'interven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vant de vous déc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9906120" cy="115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1300" spc="-1" strike="noStrike">
                <a:solidFill>
                  <a:srgbClr val="000000"/>
                </a:solidFill>
                <a:latin typeface="Arial"/>
              </a:rPr>
              <a:t>Assurez-vous que la cliente comprend tous les points abordés puis demandez-lui ce qu'elle a décidé de fai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72280" y="6019920"/>
            <a:ext cx="388620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elle renonce à la stérilisation, aidez-la à choisir une autre méth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85400">
            <a:off x="4714560" y="392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67120" y="1744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7120" y="29574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7120" y="50817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88920" y="59245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30000">
            <a:off x="4721400" y="44895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520" y="90792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Vous devez savoi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520" y="15192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'il existe aussi des méthodes réver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520" y="218448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la stérilisation est un acte chirur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5520" y="271764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'elle présente des avantages mais aussi des ris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5002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vous ne pourrez plus avoir d'enf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4091040"/>
            <a:ext cx="479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la stérilisation est irréversible—vous devez bien réfléc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520" y="47671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vous pouvez y renoncer à tout moment avant l'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91080" y="981000"/>
            <a:ext cx="4276800" cy="71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onnez des explications</a:t>
            </a:r>
            <a:r>
              <a:rPr b="1" lang="fr-CH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la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iscutez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utant qu'il le fa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ssurez-vous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que la cliente a compris chaque poi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99000" y="2112840"/>
            <a:ext cx="4264200" cy="244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Ris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out acte chirurgical,y compris la stérilisation, comporte des risqu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complications (infection, saignements, plaie au niveau des organes génitaux, nécessité d'une nouvelle intervention) sont ra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observe, dans de rares cas, une réaction allergique à l'anesthésique local ou d'autres complications graves de l'anesthési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vanta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t acte chirurgical, pratiqué en une seule fois, constitue une méthode de planification familiale sûre et efficace à vi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'y a rien à se rappeler. Rien à faire d'aut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urrait prémunir du cancer de l'ovai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99000" y="5157720"/>
            <a:ext cx="42642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ersonne aura toujours le droit de bénéficier de soins médicaux et aut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9000" y="4622760"/>
            <a:ext cx="4264200" cy="4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tte intervention est généralement irré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 n'est pas une méthode adaptée aux jeu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4040" y="1760400"/>
            <a:ext cx="426384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arlez des méthodes contraceptives réversib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9080" y="6016680"/>
            <a:ext cx="4267440" cy="841320"/>
          </a:xfrm>
          <a:prstGeom prst="downArrowCallout">
            <a:avLst>
              <a:gd name="adj1" fmla="val 507278"/>
              <a:gd name="adj2" fmla="val 25361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comprend ce qu'est la stérilisation et qu'elle veut en bénéficier,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expliquez-lui ce qu'est le formulaire de consentement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(si cela est pertinent) et demandez-lui de le signer. Passez à la page suiv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15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9306000" y="5624640"/>
            <a:ext cx="576000" cy="468360"/>
            <a:chOff x="9306000" y="5624640"/>
            <a:chExt cx="576000" cy="468360"/>
          </a:xfrm>
        </p:grpSpPr>
        <p:sp>
          <p:nvSpPr>
            <p:cNvPr id="155" name=""/>
            <p:cNvSpPr/>
            <p:nvPr/>
          </p:nvSpPr>
          <p:spPr>
            <a:xfrm>
              <a:off x="9306000" y="5624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445680" y="5750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28520" y="542916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28160" y="1089000"/>
            <a:ext cx="576000" cy="468360"/>
            <a:chOff x="9128160" y="1089000"/>
            <a:chExt cx="576000" cy="468360"/>
          </a:xfrm>
        </p:grpSpPr>
        <p:sp>
          <p:nvSpPr>
            <p:cNvPr id="159" name=""/>
            <p:cNvSpPr/>
            <p:nvPr/>
          </p:nvSpPr>
          <p:spPr>
            <a:xfrm>
              <a:off x="9128160" y="1089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9267840" y="1214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83080" y="1773360"/>
            <a:ext cx="224316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81960" y="2941560"/>
            <a:ext cx="2251080" cy="221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83080" y="5805360"/>
            <a:ext cx="1828800" cy="8128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5080" y="4221000"/>
            <a:ext cx="1218960" cy="1143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Déroulement de l'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360" y="907920"/>
            <a:ext cx="5334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Grâce à des médicaments, vous restez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calme et vous n'avez pas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restez éveil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pratique une petite incision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nd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obture ou on coupe les trom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met des points de s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vous reposez quelques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9440" y="5457960"/>
            <a:ext cx="2286000" cy="1218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51800" y="1341360"/>
            <a:ext cx="19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Petite incision ici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5680" y="2127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ou 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9400" y="1916280"/>
            <a:ext cx="1201680" cy="9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4520" y="270828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4508640"/>
            <a:ext cx="4967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Aprè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posez-vous pendant 2 à 3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vitez de soulever des poids pendant une se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'ayez pas de rapports sexuels pendant une semaine au mo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59440" y="4149720"/>
            <a:ext cx="1131840" cy="14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031080" y="4221000"/>
            <a:ext cx="99036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383080" y="5877000"/>
            <a:ext cx="1752840" cy="110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599080" y="5950080"/>
            <a:ext cx="1346400" cy="72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392960" y="56642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éroulement de l'inter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360" y="981000"/>
            <a:ext cx="426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Grâce à des médicaments, vous restez calme</a:t>
            </a:r>
            <a:br>
              <a:rPr sz="1400"/>
            </a:b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 et vous n'avez pas 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5800" y="4290840"/>
            <a:ext cx="4657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pos au dispensaire avant retour au domic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 cliente comprend-elle le déroulement de l'intervention chirurgicale ? Est-elle sûre de son choix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637600">
            <a:off x="4571640" y="1496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90400">
            <a:off x="4519080" y="2492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360" y="1557360"/>
            <a:ext cx="426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Vous restez éveill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360" y="1989000"/>
            <a:ext cx="4267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On pratique une petite incision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indo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040" y="2620800"/>
            <a:ext cx="4267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On obture ou on coupe les trom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" y="29242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On met des points de s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080" y="3357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Vous vous reposez pendant quelques he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360" y="3716280"/>
            <a:ext cx="4100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Aprè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Reposez-vous pendant 2 à 3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vitez de soulever des poids pendant une se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'ayez pas de rapports sexuels pendant une semaine au mo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95800" y="4933800"/>
            <a:ext cx="4657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 de rapports sexuels avant que la douleur n'ait dispa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7560" y="4924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28160" y="5902200"/>
            <a:ext cx="576000" cy="468360"/>
            <a:chOff x="9128160" y="5902200"/>
            <a:chExt cx="576000" cy="468360"/>
          </a:xfrm>
        </p:grpSpPr>
        <p:sp>
          <p:nvSpPr>
            <p:cNvPr id="194" name=""/>
            <p:cNvSpPr/>
            <p:nvPr/>
          </p:nvSpPr>
          <p:spPr>
            <a:xfrm>
              <a:off x="9128160" y="59022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9267840" y="60278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5095800" y="936720"/>
            <a:ext cx="4657680" cy="12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00"/>
                </a:solidFill>
                <a:latin typeface="Arial"/>
              </a:rPr>
              <a:t>Décrivez les étapes de l'intervention. Expliquez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stérilisation est un acte chirurgical simple et sans danger qui peut être pratiqué à l'hôpital ou dans un centre de santé correctement équip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'intervention ne dure, en général, que quelques heures, temps de repos inclus.</a:t>
            </a:r>
            <a:r>
              <a:rPr b="0" lang="fr-CH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95800" y="2512440"/>
            <a:ext cx="4657680" cy="14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z comment le sédatif léger sera administré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(par voie orale ou intraveineu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z en quoi consiste l'incision, où et comment elle sera prat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nvitez la cliente à dire si elle a mal pendant l'intervent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Vous pouvez demander plus de médicaments contre la douleur, si vous voulez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0360" y="5979960"/>
            <a:ext cx="4343400" cy="878040"/>
          </a:xfrm>
          <a:prstGeom prst="downArrowCallout">
            <a:avLst>
              <a:gd name="adj1" fmla="val 494715"/>
              <a:gd name="adj2" fmla="val 24733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'intervention doit avoir lieu immédiatement,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indiquer à la cliente ce dont elle doit se souvenir par la su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95800" y="5950080"/>
            <a:ext cx="3962520" cy="70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'intervention est prévue un autre jour, fixez un rendez-vous à la cliente. Donnez-lui des préservatifs à utiliser dans l'interva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20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 rot="2090400">
            <a:off x="4519080" y="40053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8520" y="53737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89120" y="1892160"/>
            <a:ext cx="2016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9998000">
            <a:off x="7980480" y="1699920"/>
            <a:ext cx="116352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998000">
            <a:off x="309600" y="1760040"/>
            <a:ext cx="1522440" cy="1266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998000">
            <a:off x="5671800" y="167004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440"/>
            <a:ext cx="9907560" cy="119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Raisons médicales pour lesquel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Il faut consulter à nouv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300816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120" y="12384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remière semaine, revenez immédiatement en ca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959440" y="1670040"/>
            <a:ext cx="846000" cy="1447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2920" y="453240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Plus tard, revenez immédiatement si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680" y="3189240"/>
            <a:ext cx="16002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forte fièv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1440" y="3189240"/>
            <a:ext cx="200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coulement de pus ou de sang à l'endroit de l'inc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7440" y="318924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, d'inflammation, de gonflement, de rougeur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7840" y="3189240"/>
            <a:ext cx="183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s, de crampes ou de maux de ventre continus ou de plus en plus v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9440" y="3189240"/>
            <a:ext cx="250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vanouissement ou de vertiges impor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040" y="1871640"/>
            <a:ext cx="135576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067600" y="1728720"/>
            <a:ext cx="1000080" cy="1562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419720" y="529416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mal au ventre ou vous vous évanouiss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529416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pensez être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0766000">
            <a:off x="1828440" y="5184720"/>
            <a:ext cx="152388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192400" y="5261040"/>
            <a:ext cx="855720" cy="1481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9998000">
            <a:off x="5927400" y="514188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205680" y="5218200"/>
            <a:ext cx="846000" cy="1447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19998000">
            <a:off x="7599240" y="5075280"/>
            <a:ext cx="1163880" cy="1447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686720" y="5103720"/>
            <a:ext cx="1000080" cy="1562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2949480" y="1886040"/>
            <a:ext cx="13683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440"/>
            <a:ext cx="9907560" cy="105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Raisons médicales pour lesquelles il fau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consulter à nouvea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9520" y="1166760"/>
            <a:ext cx="5533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remière semaine, revenez immédiatement en ca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2160" y="1455840"/>
            <a:ext cx="41036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empérature supérieure à 38°C les 4 premières semaines et surtout la premiè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72160" y="2432160"/>
            <a:ext cx="4103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gnes d'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4302000"/>
            <a:ext cx="4103640" cy="12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une stérilisation, les grossesses sont rares. Mais quand elles surviennent, 20% à 50% de ces grossesses sont extra-utér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 sont des signes de grossesse extra-uté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cliente doit revenir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immédiatement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elle pense être ence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0200" y="2436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0200" y="14558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7150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42560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forte fièv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20" y="181620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coulement de pus ou de sang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20" y="2200320"/>
            <a:ext cx="453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, d'inflammation, de gonflement, de rougeur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9520" y="2808360"/>
            <a:ext cx="5029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s, de crampes ou de maux de ventre continus ou de plus en plus v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9520" y="3429000"/>
            <a:ext cx="28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vanouissement ou de vertiges impor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9520" y="4133880"/>
            <a:ext cx="4597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Plus tard, revenez immédiatement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4437000"/>
            <a:ext cx="3959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pensez être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9520" y="4870440"/>
            <a:ext cx="49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mal au ventre ou vous vous évanouiss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0200" y="4564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0021400">
            <a:off x="5109840" y="49543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28160" y="5877000"/>
            <a:ext cx="576000" cy="468360"/>
            <a:chOff x="9128160" y="5877000"/>
            <a:chExt cx="576000" cy="468360"/>
          </a:xfrm>
        </p:grpSpPr>
        <p:sp>
          <p:nvSpPr>
            <p:cNvPr id="251" name=""/>
            <p:cNvSpPr/>
            <p:nvPr/>
          </p:nvSpPr>
          <p:spPr>
            <a:xfrm>
              <a:off x="9128160" y="5877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9267840" y="6002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 rot="19687200">
            <a:off x="5167080" y="2966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440" y="5950080"/>
            <a:ext cx="8496360" cy="7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Etes-vous satisfaite de votre choix ? 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Enfin, le message le plus important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Revenez quand vous le souhaitez si vous avez des questions à poser ou des problèmes à aborder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9920" y="180360"/>
            <a:ext cx="1143000" cy="727200"/>
            <a:chOff x="169920" y="180360"/>
            <a:chExt cx="1143000" cy="727200"/>
          </a:xfrm>
        </p:grpSpPr>
        <p:sp>
          <p:nvSpPr>
            <p:cNvPr id="256" name=""/>
            <p:cNvSpPr/>
            <p:nvPr/>
          </p:nvSpPr>
          <p:spPr>
            <a:xfrm>
              <a:off x="169920" y="1900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480" y="18036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547560" y="531360"/>
              <a:ext cx="385920" cy="34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128520" y="547848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meynentc</cp:lastModifiedBy>
  <cp:lastPrinted>2002-06-24T09:01:00Z</cp:lastPrinted>
  <dcterms:modified xsi:type="dcterms:W3CDTF">2007-07-23T12:18:29Z</dcterms:modified>
  <cp:revision>877</cp:revision>
  <dc:subject/>
  <dc:title>La stérilisation féminine</dc:title>
</cp:coreProperties>
</file>