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4591080" y="3629160"/>
            <a:ext cx="5238720" cy="44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Vous souviendrez-vous de prendre la pilule tous les jours à la même heure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Rien à faire de spécial au moment de l'acte sexu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591080" y="4149720"/>
            <a:ext cx="523872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pilules ne sont pas dangereuses pour la san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Interrogez la personne sur ses préoccupations, sur les rumeurs qu'elle a entendues :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Qu'avez-vous entendu dire à propos de la pilule minidosée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émentez les idées fausses les plus répandues :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ilule passe dans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 sang. Elle ne reste pas dans l'estomac. (Voir aussi l'annexe 10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591080" y="907920"/>
            <a:ext cx="5238720" cy="264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 propos de la pilule minidosé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lle ne contient qu'un progestatif. Convient aux femmes qui ne peuvent pas prendre d'oestrogè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lle agit principalement en épaississant la glaire cervicale et en empêchant l'ovulation (voir annexes 4 et 5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Très efficace pendant l'allait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'arrêt est facile : une femme qui arrête de prendre la pilule minidosée peut être enceinte rapid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ar rapport à la pilule oestroprogestativ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éférable en cas d'allaitement. N'a d'incidence ni sur la qualité du lait maternel ni sur sa quant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est très important de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prendre la pilule à heure fixe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. Pour les femmes qui n'allaitent pas, prendre la pilule ne serait-ce qu'avec quelques heures de retard peut accroître les risques de grosses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oins d'effets secondaires, à l'exception de la perturbation des règl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7080" y="2909880"/>
            <a:ext cx="439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enez la pilule tous les jours à la même h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a pilule minidos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278600">
            <a:off x="4059360" y="3311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576200">
            <a:off x="4014360" y="5373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a pilule minidosée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093000"/>
            <a:ext cx="4114800" cy="734760"/>
          </a:xfrm>
          <a:prstGeom prst="downArrowCallout">
            <a:avLst>
              <a:gd name="adj1" fmla="val 560071"/>
              <a:gd name="adj2" fmla="val 28000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veut en savoir plus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4965840"/>
            <a:ext cx="441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4149720"/>
            <a:ext cx="400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femmes qui n'allaitent pas peuvent remarquer une modification d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7080" y="1447920"/>
            <a:ext cx="441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ne bonne méthode pendant l'all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991400">
            <a:off x="4052880" y="48528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7080" y="3500280"/>
            <a:ext cx="441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ans da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308600">
            <a:off x="4060440" y="3973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560" y="46800"/>
            <a:ext cx="1355760" cy="734400"/>
            <a:chOff x="16560" y="46800"/>
            <a:chExt cx="1355760" cy="734400"/>
          </a:xfrm>
        </p:grpSpPr>
        <p:sp>
          <p:nvSpPr>
            <p:cNvPr id="53" name=""/>
            <p:cNvSpPr/>
            <p:nvPr/>
          </p:nvSpPr>
          <p:spPr>
            <a:xfrm>
              <a:off x="84240" y="63360"/>
              <a:ext cx="1224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560" y="4680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La pilule minidos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5568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M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99440" y="3860640"/>
            <a:ext cx="576360" cy="468360"/>
            <a:chOff x="9199440" y="3860640"/>
            <a:chExt cx="576360" cy="468360"/>
          </a:xfrm>
        </p:grpSpPr>
        <p:sp>
          <p:nvSpPr>
            <p:cNvPr id="59" name=""/>
            <p:cNvSpPr/>
            <p:nvPr/>
          </p:nvSpPr>
          <p:spPr>
            <a:xfrm>
              <a:off x="9199440" y="386064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9348840" y="390816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4014720" y="1989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87960" y="6864480"/>
            <a:ext cx="152712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ilule minidos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38720" y="609300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91080" y="5157720"/>
            <a:ext cx="5238720" cy="21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Effets secondaires :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voir page PM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1080" y="5445000"/>
            <a:ext cx="5238720" cy="21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z aussi le préservati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440" y="551664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15145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renez une pilule minidosée tous les jours à heure fi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420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27024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es effets secondaires sont courants mais rarement dangereux. Revenez s'ils vous gê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72160" y="2637000"/>
            <a:ext cx="4010040" cy="388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Consultez une infirmière ou un médecin si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3520" y="189000"/>
            <a:ext cx="1447560" cy="1122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599080" y="3952800"/>
            <a:ext cx="1676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us voyez une tache lumineuse avant d'avoir de violents maux de tê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29360" y="5850360"/>
            <a:ext cx="16002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tre peau ou vos yeux ont ja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59800" y="5067720"/>
            <a:ext cx="1295280" cy="124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us pensez être enceinte (surtout si vous avez mal au vent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3080" y="3132000"/>
            <a:ext cx="1944720" cy="91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us avez des règles      exceptionnellement abondantes ou lon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696160" y="2924280"/>
            <a:ext cx="733680" cy="1562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43440" y="2781360"/>
            <a:ext cx="119700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928000" y="486576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21065400">
            <a:off x="4800240" y="1196640"/>
            <a:ext cx="1701720" cy="1206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181480" y="1285920"/>
            <a:ext cx="1371600" cy="1268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04920" y="2395440"/>
            <a:ext cx="4724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i vous prenez la pilule avec du retard, vous pouvez tomber encei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5491080"/>
            <a:ext cx="3575160" cy="1208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400" spc="-1" strike="noStrike">
                <a:solidFill>
                  <a:srgbClr val="ff3300"/>
                </a:solidFill>
                <a:latin typeface="Arial"/>
              </a:rPr>
              <a:t>Voulez-vous que je </a:t>
            </a:r>
            <a:br>
              <a:rPr sz="1400"/>
            </a:br>
            <a:r>
              <a:rPr b="1" i="1" lang="fr-CH" sz="1400" spc="-1" strike="noStrike">
                <a:solidFill>
                  <a:srgbClr val="ff3300"/>
                </a:solidFill>
                <a:latin typeface="Arial"/>
              </a:rPr>
              <a:t>répète ou que je vous explique quelque chose ? </a:t>
            </a:r>
            <a:br>
              <a:rPr sz="1400"/>
            </a:br>
            <a:r>
              <a:rPr b="1" i="1" lang="fr-CH" sz="1400" spc="-1" strike="noStrike">
                <a:solidFill>
                  <a:srgbClr val="ff3300"/>
                </a:solidFill>
                <a:latin typeface="Arial"/>
              </a:rPr>
              <a:t>Avez-vous des questions à pose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1440" y="4221000"/>
            <a:ext cx="44197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venez chercher des pilules avant de ne plus en avoir, ou repassez nous voir si vous avez des problè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59080" y="3933720"/>
            <a:ext cx="1371600" cy="1117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30720" y="4005360"/>
            <a:ext cx="1143000" cy="884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6397560" y="4770360"/>
            <a:ext cx="8589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4200" y="5587920"/>
            <a:ext cx="12081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4200" y="907920"/>
            <a:ext cx="464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renez la pilule minidosée tous les jours  à heure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360" y="3716280"/>
            <a:ext cx="4608720" cy="180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onsultez une infirmière ou un médecin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9735800">
            <a:off x="4800600" y="2421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38720" y="1052640"/>
            <a:ext cx="4441680" cy="171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nvitez la cliente à revenir si elle veut des pilules, si elle souhaite obtenir de l'aide ou des renseignements, ou si elle souhaite adopter une autre méth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possible, prévoyez une visite de suivi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 mois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rès le début de la contraception par pilule. Prévoyez toujours une visite de suivi annuel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cas d'allaitement, conseillez à la cliente de revenir quand elle n'allaitera plus. Elle voudra peut-être alors changer de méth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3581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4200" y="2070000"/>
            <a:ext cx="4953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es effets secondaires sont courants mais rarement dangereux. Revenez s'ils vous gên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200" y="1467000"/>
            <a:ext cx="3944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Si vous prenez la pilule avec du retard, vous pouvez tomber encei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M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047080" y="5999040"/>
            <a:ext cx="576000" cy="468360"/>
            <a:chOff x="8047080" y="5999040"/>
            <a:chExt cx="576000" cy="468360"/>
          </a:xfrm>
        </p:grpSpPr>
        <p:sp>
          <p:nvSpPr>
            <p:cNvPr id="247" name=""/>
            <p:cNvSpPr/>
            <p:nvPr/>
          </p:nvSpPr>
          <p:spPr>
            <a:xfrm>
              <a:off x="8047080" y="59990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8186760" y="61246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 rot="1605600">
            <a:off x="4721040" y="43653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4200" y="2851200"/>
            <a:ext cx="44197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Revenez chercher des pilules avant de ne plus en avoir ou repassez nous voir si vous avez des problè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96880" y="5810400"/>
            <a:ext cx="7761600" cy="9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ensez-vous que cette méthode vous conviendra ? </a:t>
            </a:r>
            <a:br>
              <a:rPr sz="1200"/>
            </a:b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Voulez-vous que je répète ou que je vous explique quelque chose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nfin, le message le plus important : 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Prenez la pilule tous les jours à heure fixe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38720" y="2852640"/>
            <a:ext cx="4441680" cy="1432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3300"/>
                </a:solidFill>
                <a:latin typeface="Arial"/>
              </a:rPr>
              <a:t>Signes devant amener à consulte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«Bien souvent, ces signes ne sont pas liés à la prise de la pilule minidosée mais un médecin ou une infirmière doit vérifier qu'il n'y a pas de problème grave et que vous pouvez continuer à la prendre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«Je veux que vous les connaissiez et que vous vous en souveniez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8720" y="4365720"/>
            <a:ext cx="4441680" cy="56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ègles durant plus de 8 jours ou deux fois plus abondantes que la norma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38720" y="5013360"/>
            <a:ext cx="444168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 autre prestataire interroge la cliente sur les traitements qu'elle suit, elle doit indiquer qu'elle prend la pilule minidos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1720" y="43560"/>
            <a:ext cx="1355760" cy="734400"/>
            <a:chOff x="81720" y="43560"/>
            <a:chExt cx="1355760" cy="734400"/>
          </a:xfrm>
        </p:grpSpPr>
        <p:sp>
          <p:nvSpPr>
            <p:cNvPr id="256" name=""/>
            <p:cNvSpPr/>
            <p:nvPr/>
          </p:nvSpPr>
          <p:spPr>
            <a:xfrm>
              <a:off x="149400" y="60120"/>
              <a:ext cx="1224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720" y="4356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La pilule minidos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420840" y="2570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8191440" y="6129360"/>
            <a:ext cx="576000" cy="468360"/>
            <a:chOff x="8191440" y="6129360"/>
            <a:chExt cx="576000" cy="468360"/>
          </a:xfrm>
        </p:grpSpPr>
        <p:sp>
          <p:nvSpPr>
            <p:cNvPr id="260" name=""/>
            <p:cNvSpPr/>
            <p:nvPr/>
          </p:nvSpPr>
          <p:spPr>
            <a:xfrm>
              <a:off x="8191440" y="6129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8331120" y="6255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419040" y="3986280"/>
            <a:ext cx="43783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us voyez une tache lumineuse avant d'avoir de violents maux de tête (migraine avec au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us avez des règles exceptionnellement abondantes ou lon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tre peau ou vos yeux ont ja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ous pensez être enceinte (surtout si vous avez mal au vent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rot="729000">
            <a:off x="6215040" y="2276280"/>
            <a:ext cx="3273480" cy="1638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Contraceptifs injectables ret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557360"/>
            <a:ext cx="55101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Une injection tous les 2 ou 3 mois selon le type de contraceptif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Très effic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près l'arrêt, il faut souvent un certain temps avant de tomber encei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Sans dang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erturbent les règles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751800" y="2236680"/>
            <a:ext cx="2315880" cy="1560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95280" y="530064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cette méthode ou préférez-vous parler d'une autr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066680" y="564372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20766000">
            <a:off x="6084360" y="4444560"/>
            <a:ext cx="1676520" cy="1130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225400">
            <a:off x="475560" y="4404960"/>
            <a:ext cx="1490760" cy="1382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Qui peut et qui ne doit p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prendre la pilule minidosé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360" y="3716280"/>
            <a:ext cx="587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Mais généralement pas dans les cas suivant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98760"/>
            <a:ext cx="42908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lupart des femmes peuvent prendre la pilule minidosée, sans ris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1160" y="6048360"/>
            <a:ext cx="2874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5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6 premières semaines d'all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79800" y="604836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0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uspicion de gross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1522600">
            <a:off x="4590720" y="177300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766000">
            <a:off x="3547800" y="4365720"/>
            <a:ext cx="1523880" cy="11142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11760" y="4441680"/>
            <a:ext cx="855360" cy="1481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38720" y="1773360"/>
            <a:ext cx="4419720" cy="1881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391440" y="4551480"/>
            <a:ext cx="942840" cy="118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45240" y="6048360"/>
            <a:ext cx="2158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ertaines maladies gr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8800" y="4437000"/>
            <a:ext cx="108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92560" y="2048040"/>
            <a:ext cx="461664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onnez des pilules à la cliente et dites-lui de commencer à les prendre quand son enfant aura 6 semai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29528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La plupart des femmes peuvent prendre la pilule, sans risque, mais généralement pas dans les cas suivan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92560" y="3260880"/>
            <a:ext cx="4616640" cy="154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ntécédents de cancer du s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aladie grave du foie ou jaunisse (coloration jaune de la peau ou des yeu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ntécédents d'embolie pulmonaire ou de thrombose veineuse profonde des membres inférieurs. Les femmes présentant des thromboses superficielles (y compris des varices) PEUVENT prendre la pilule minidos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raitement antituberculeux, antifongique ou antiépilept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440" y="1440"/>
            <a:ext cx="9907560" cy="1123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Qui peut et qui ne doit pas prendre </a:t>
            </a:r>
            <a:br>
              <a:rPr sz="3600"/>
            </a:b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la pilule minidosé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440" y="5943600"/>
            <a:ext cx="990576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760" y="6095880"/>
            <a:ext cx="4114800" cy="684360"/>
          </a:xfrm>
          <a:prstGeom prst="downArrowCallout">
            <a:avLst>
              <a:gd name="adj1" fmla="val 601318"/>
              <a:gd name="adj2" fmla="val 30063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peut prendre la pilule minidosé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360" y="22050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6 premières semaines d'all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58912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uspicion de grosse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4560" y="3743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4560" y="2763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4560" y="2147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92560" y="2670120"/>
            <a:ext cx="46166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cas de doute, consultez la liste de contrôle figurant à l'annexe 1 ou pratiquez un test de grosses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6095880"/>
            <a:ext cx="44701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ne peut pas prendre la pilule minidosé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idez-la à choisir une méthode non hormona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M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000" y="3639960"/>
            <a:ext cx="3771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La pilule minidosée est généralement contre-indiquée en cas de problèmes de santé tels que ceux décrits dans la colonne de droite (en cas de doute, référez-vous au manuel ou orientez la personne vers un prestataire qualif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213000"/>
            <a:ext cx="4648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ertaines maladies gr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92560" y="4940280"/>
            <a:ext cx="461664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plupart des femmes qui ont eu un accident vasculaire cérébral, des problèmes cardiaques ou des problèmes circulatoires PEUVENT prendre la pilule minidosé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2560" y="1197000"/>
            <a:ext cx="461664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Voyons si vous pouvez prendre la pilule minidosée sans risque. En général, les femmes qui ont certains problèmes de santé doivent recourir à une autre méthode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6160" y="43560"/>
            <a:ext cx="1355760" cy="734400"/>
            <a:chOff x="56160" y="43560"/>
            <a:chExt cx="1355760" cy="734400"/>
          </a:xfrm>
        </p:grpSpPr>
        <p:sp>
          <p:nvSpPr>
            <p:cNvPr id="100" name=""/>
            <p:cNvSpPr/>
            <p:nvPr/>
          </p:nvSpPr>
          <p:spPr>
            <a:xfrm>
              <a:off x="123840" y="60120"/>
              <a:ext cx="1224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160" y="4356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La pilule minidos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395280" y="2570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368280" y="565776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Effets secondaires éventue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766000">
            <a:off x="2287080" y="4149360"/>
            <a:ext cx="1295640" cy="88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0360" y="4437000"/>
            <a:ext cx="1095480" cy="117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20766000">
            <a:off x="7659720" y="2349000"/>
            <a:ext cx="1447920" cy="1067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87440" y="4090680"/>
            <a:ext cx="1506960" cy="1654200"/>
            <a:chOff x="487440" y="4090680"/>
            <a:chExt cx="1506960" cy="1654200"/>
          </a:xfrm>
        </p:grpSpPr>
        <p:sp>
          <p:nvSpPr>
            <p:cNvPr id="109" name=""/>
            <p:cNvSpPr/>
            <p:nvPr/>
          </p:nvSpPr>
          <p:spPr>
            <a:xfrm rot="20766000">
              <a:off x="610920" y="4233240"/>
              <a:ext cx="1295640" cy="885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87440" y="4221000"/>
              <a:ext cx="149544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539120" y="2592360"/>
            <a:ext cx="1949400" cy="125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1440" y="33577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6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Moins couramment :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maux de tête, seins douloureux, verti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060640"/>
            <a:ext cx="7391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Couramment (si vous n'allaitez pas) : </a:t>
            </a:r>
            <a:br>
              <a:rPr sz="2200"/>
            </a:b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règles irrégulières, saignotements, absence de règ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361120"/>
            <a:ext cx="4102200" cy="1112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ssayer cette méthode pour voir si elle vous convient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62360" y="557856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0280" y="1197000"/>
            <a:ext cx="97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200" spc="-1" strike="noStrike">
                <a:solidFill>
                  <a:srgbClr val="ff3300"/>
                </a:solidFill>
                <a:latin typeface="Arial"/>
              </a:rPr>
              <a:t>Si vous choisissez cette méthode, vous ressentirez peut-être quelques effets secondaires, qui ne sont pas, en général, des signes de malad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457800">
            <a:off x="3809160" y="4210560"/>
            <a:ext cx="1359000" cy="1090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087800" y="4365720"/>
            <a:ext cx="1014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4120" y="907920"/>
            <a:ext cx="4343400" cy="172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'organisme peut mettre du temps à s'adapter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hacun réagit différemment aux méthodes contraceptiv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bordez les questions suivantes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Si vous aviez ces effets secondaires, qu'en </a:t>
            </a:r>
            <a:br>
              <a:rPr sz="1100"/>
            </a:b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penseriez-vous, comment réagiriez-vous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Qu'est-ce que cela signifierait selon vous ?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Que feriez-vous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bordez les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rumeurs ou les préoccupations de </a:t>
            </a:r>
            <a:br>
              <a:rPr sz="1100"/>
            </a:b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a cliente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. Voir l'annexe 10 sur les idées fauss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est-elle consciente des effets secondaires ? Est-elle prête à choisir cette méthod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441680"/>
            <a:ext cx="43434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maux de tête, prendre de l'aspirine, du paracétamol ou de l'ibuprofè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2766960"/>
            <a:ext cx="4343400" cy="1542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lupart des femmes qui allaitent n'ont pas de règles régulières. Il est donc fréquent qu'elles ne remarquent pas les effets de la pilule minidosée sur les règ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hez les femmes qui n'allaitent pas, les règles irrégulières, les saignements entre les règles ou l'aménorrhée (absence de règles) sont courants et normau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écisez à la cliente qu'en cas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'oubli de la pilule, les saignements peuvent augmenter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t il y a un risque de grosses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Effets secondaires éventu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891640" y="1447920"/>
            <a:ext cx="576360" cy="468360"/>
            <a:chOff x="8891640" y="1447920"/>
            <a:chExt cx="576360" cy="468360"/>
          </a:xfrm>
        </p:grpSpPr>
        <p:sp>
          <p:nvSpPr>
            <p:cNvPr id="125" name=""/>
            <p:cNvSpPr/>
            <p:nvPr/>
          </p:nvSpPr>
          <p:spPr>
            <a:xfrm>
              <a:off x="8891640" y="144792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041040" y="149544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115920" y="254484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Couramment (si vous n'allaitez pas) :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ègles irrégulières, saignotements, absence de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920" y="35352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Moins couramment :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aux de tête, seins douloureux, verti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46720" y="1268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M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0240" y="4869000"/>
            <a:ext cx="4343400" cy="86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vitez la cliente à revenir quand elle le souhaite pour obtenir de l'a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Vous pouvez changer de méthode quand vous le souhaitez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our la prise en charge des effets secondaires, allez à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'ongle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Client de retou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891280" y="2023920"/>
            <a:ext cx="597240" cy="468360"/>
            <a:chOff x="8891280" y="2023920"/>
            <a:chExt cx="597240" cy="468360"/>
          </a:xfrm>
        </p:grpSpPr>
        <p:sp>
          <p:nvSpPr>
            <p:cNvPr id="134" name=""/>
            <p:cNvSpPr/>
            <p:nvPr/>
          </p:nvSpPr>
          <p:spPr>
            <a:xfrm flipH="1">
              <a:off x="8890920" y="202392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8906040" y="203220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4446720" y="3052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73400">
            <a:off x="4446360" y="4060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28160" y="5805360"/>
            <a:ext cx="576000" cy="468360"/>
            <a:chOff x="9128160" y="5805360"/>
            <a:chExt cx="576000" cy="468360"/>
          </a:xfrm>
        </p:grpSpPr>
        <p:sp>
          <p:nvSpPr>
            <p:cNvPr id="139" name=""/>
            <p:cNvSpPr/>
            <p:nvPr/>
          </p:nvSpPr>
          <p:spPr>
            <a:xfrm>
              <a:off x="9128160" y="5805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9267840" y="5931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990720" y="6165720"/>
            <a:ext cx="3962160" cy="662040"/>
          </a:xfrm>
          <a:prstGeom prst="downArrowCallout">
            <a:avLst>
              <a:gd name="adj1" fmla="val 598532"/>
              <a:gd name="adj2" fmla="val 29923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a décidé d'utiliser cette méthode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, 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9240" y="6175440"/>
            <a:ext cx="365616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non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suivez la discussion ou envisagez d'autres méth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0160" y="98568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Si vous choisissez cette méthode, vous ressentirez peut-être quelques effets secondaires, qui ne sont pas, en général des signes de malad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5880" y="43560"/>
            <a:ext cx="1355760" cy="734400"/>
            <a:chOff x="65880" y="43560"/>
            <a:chExt cx="1355760" cy="734400"/>
          </a:xfrm>
        </p:grpSpPr>
        <p:sp>
          <p:nvSpPr>
            <p:cNvPr id="145" name=""/>
            <p:cNvSpPr/>
            <p:nvPr/>
          </p:nvSpPr>
          <p:spPr>
            <a:xfrm>
              <a:off x="133560" y="60120"/>
              <a:ext cx="1224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880" y="4356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La pilule minidos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405000" y="2570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382680" y="552780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21065400">
            <a:off x="5594040" y="1898280"/>
            <a:ext cx="4162320" cy="244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440"/>
            <a:ext cx="9907560" cy="148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Comment prendre </a:t>
            </a:r>
            <a:br>
              <a:rPr sz="4800"/>
            </a:b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a pilule minidosé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3040" y="164772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5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renez la pilule tous les jours à heure fix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orsque vous avez terminé une plaquette de pilules, entamez-en une nouvelle le lendema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Si vous avez oublié de prendre la pilule à l'heure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CH" sz="2200" spc="-1" strike="noStrike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renez-en une dès que vous vous en</a:t>
            </a:r>
            <a:br>
              <a:rPr sz="2200"/>
            </a:b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  souven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2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devrez peut-être suivre des</a:t>
            </a:r>
            <a:br>
              <a:rPr sz="2200"/>
            </a:b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  instructions particulières si vous</a:t>
            </a:r>
            <a:br>
              <a:rPr sz="2200"/>
            </a:b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  prenez la pilule avec plus de 3 heures</a:t>
            </a:r>
            <a:br>
              <a:rPr sz="2200"/>
            </a:b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  de ret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56280" y="2247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53080" y="226224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834160"/>
            <a:ext cx="9906120" cy="1036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8880" y="1461960"/>
            <a:ext cx="4522680" cy="676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Très important :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our les femmes qui n'allaitent pas, prendre la pilule ne serait-ce qu'avec quelques heures de retard peut accroître les risques de grossesse. (l'allaitement à lui seul contribue à prévenir la grossesse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7440" y="2216160"/>
            <a:ext cx="4524120" cy="5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as d'interruption entre les plaquet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Toutes les pilules sont actives (elles contiennent toutes des hormone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1120" y="134136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enez la pilule tous les jours à heure fi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67440" y="4114800"/>
            <a:ext cx="4524120" cy="1324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100" spc="-1" strike="noStrike">
                <a:solidFill>
                  <a:srgbClr val="ff3300"/>
                </a:solidFill>
                <a:latin typeface="Arial"/>
              </a:rPr>
              <a:t>Si vous prenez la pilule avec plus de 3 heures de retard et que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vous n'allaitez pas OU que vous allaitez mais que </a:t>
            </a:r>
            <a:br>
              <a:rPr sz="1100"/>
            </a:b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vous avez de nouveau vos règles :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évitez les rapports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exuels ou utilisez le préservatif pendant 2 jou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vous allaitez ET que vous n'avez toujours pas de règles :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'y a rien de particulier à faire. Aucune protection supplémentaire n'est nécess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853480" y="4321080"/>
            <a:ext cx="1077840" cy="576360"/>
            <a:chOff x="8853480" y="4321080"/>
            <a:chExt cx="1077840" cy="576360"/>
          </a:xfrm>
        </p:grpSpPr>
        <p:sp>
          <p:nvSpPr>
            <p:cNvPr id="160" name=""/>
            <p:cNvSpPr/>
            <p:nvPr/>
          </p:nvSpPr>
          <p:spPr>
            <a:xfrm>
              <a:off x="8891640" y="4321080"/>
              <a:ext cx="966600" cy="576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53480" y="4438800"/>
              <a:ext cx="1077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8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ff0000"/>
                  </a:solidFill>
                  <a:latin typeface="Arial"/>
                </a:rPr>
                <a:t>Instructions particuliè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Comment prendre la pilule minidosé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1120" y="210492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orsque vous avez terminé une plaquette de pilules, entamez-en une nouvelle le lend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1120" y="3284640"/>
            <a:ext cx="4648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i vous avez oublié de prendre la pilule à l'h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CH" sz="18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enez-en une dès que vous vous en 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souve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CH" sz="18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devrez peut-être suivre des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instructions particulières si vous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prenez la pilule avec plus de 3 heures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de ret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0560" y="1413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95440" y="5943600"/>
            <a:ext cx="6657840" cy="914400"/>
          </a:xfrm>
          <a:prstGeom prst="downArrow">
            <a:avLst>
              <a:gd name="adj1" fmla="val 99111"/>
              <a:gd name="adj2" fmla="val 2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a-t-elle compris comment prendre la pilule minidosée et ce qu'elle doit faire si elle l'oublie ? 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suivez les explications si nécessaire, ou passez à la page suiva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M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0560" y="2303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67440" y="2841480"/>
            <a:ext cx="4524120" cy="1195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bordez les questions suivantes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Qu'est-ce qui vous aiderait à vous souvenir de prendre la pilule tous les jours à heure fixe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Quand pouvez-vous prendre la pilule le plus facilement ?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Où garder les pilules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Que faire si on n'en a plus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0560" y="4392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904160" y="6056280"/>
            <a:ext cx="576000" cy="468360"/>
            <a:chOff x="7904160" y="6056280"/>
            <a:chExt cx="576000" cy="468360"/>
          </a:xfrm>
        </p:grpSpPr>
        <p:sp>
          <p:nvSpPr>
            <p:cNvPr id="172" name=""/>
            <p:cNvSpPr/>
            <p:nvPr/>
          </p:nvSpPr>
          <p:spPr>
            <a:xfrm>
              <a:off x="7904160" y="6056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8043840" y="6181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9128160" y="3716280"/>
            <a:ext cx="576000" cy="468360"/>
            <a:chOff x="9128160" y="3716280"/>
            <a:chExt cx="576000" cy="468360"/>
          </a:xfrm>
        </p:grpSpPr>
        <p:sp>
          <p:nvSpPr>
            <p:cNvPr id="175" name=""/>
            <p:cNvSpPr/>
            <p:nvPr/>
          </p:nvSpPr>
          <p:spPr>
            <a:xfrm>
              <a:off x="9128160" y="3716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9267840" y="3841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6160" y="43560"/>
            <a:ext cx="1355760" cy="734400"/>
            <a:chOff x="56160" y="43560"/>
            <a:chExt cx="1355760" cy="734400"/>
          </a:xfrm>
        </p:grpSpPr>
        <p:sp>
          <p:nvSpPr>
            <p:cNvPr id="178" name=""/>
            <p:cNvSpPr/>
            <p:nvPr/>
          </p:nvSpPr>
          <p:spPr>
            <a:xfrm>
              <a:off x="123840" y="60120"/>
              <a:ext cx="1224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160" y="4356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La pilule minidos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395280" y="2570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309600" y="55846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67440" y="981000"/>
            <a:ext cx="4524120" cy="403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onnez les plaquettes de pilules à la cliente pour qu'elle les touche et les voi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67440" y="5516640"/>
            <a:ext cx="452412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onnez des préservatifs à la clie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rot="618000">
            <a:off x="5409720" y="3787560"/>
            <a:ext cx="3962520" cy="2514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440"/>
            <a:ext cx="9907560" cy="148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Vous pouvez commencer </a:t>
            </a:r>
            <a:br>
              <a:rPr sz="4800"/>
            </a:b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dès aujourd'hu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80320" y="348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765600"/>
            <a:ext cx="4724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11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Si vous n'allaitez pas, vous pouvez commencer n'importe quel jour du cycle menstruel si nous pouvons être sûrs que vous n'êtes pas encei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860480"/>
            <a:ext cx="472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11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pouvez commencer dès aujourd'hui si vous allaitez sans interruption depuis au moins 6 sema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225400">
            <a:off x="4829760" y="1756080"/>
            <a:ext cx="1755720" cy="1839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44960" y="1882800"/>
            <a:ext cx="1379520" cy="20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334120" y="4321080"/>
          <a:ext cx="403848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4321080"/>
                    <a:ext cx="403848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Vous pouvez commencer dès aujourd'h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96280" y="6477120"/>
            <a:ext cx="38124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a cliente peut-elle commencer immédiateme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0245200">
            <a:off x="2819520" y="2205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41480" y="1295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970600"/>
            <a:ext cx="4267080" cy="863640"/>
          </a:xfrm>
          <a:prstGeom prst="downArrowCallout">
            <a:avLst>
              <a:gd name="adj1" fmla="val 494126"/>
              <a:gd name="adj2" fmla="val 24704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oui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donnez-lui, au maximum, la quantité suffisante de pilules pour un an et envisagez avec elle le meilleur moment pour prendre la première pilul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492280"/>
            <a:ext cx="2819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7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Si vous n'allaitez pas, vous pouvez commencer n'importe quel jour du cycle menstruel si nous pouvons être sûrs que vous n'êtes pas encei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90792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7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pouvez commencer dès aujourd'hui si vous allaitez sans interruption depuis au moins </a:t>
            </a:r>
            <a:br>
              <a:rPr sz="1600"/>
            </a:b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6 sema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M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67080" y="2494080"/>
            <a:ext cx="6408720" cy="12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Si les règles sont apparues au cours des 5 derniers jours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l est possible de commencer IMMEDIATEMENT. Aucune autre protection n'est nécessair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Si les règles sont apparues il y a plus de 5 jours ou en cas d'aménorrhée (absence de règles)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67080" y="4422600"/>
            <a:ext cx="6408720" cy="122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En cas d'abandon d'une autre méthode au profit de la pilule minidosée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En cas d'abandon de la pilule oestroprogestative ou des implants, il est préférable de commencer </a:t>
            </a: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immédiatement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En cas d'abandon des contraceptifs injectables, il faut commencer au moment où aurait eu lieu l'injection de rapp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En cas d'abandon du stérilet et si les règles sont apparues il y a plus de 5 jours, il est possible de commencer à prendre la pilule immédiatement mais il faut laisser le stérilet en place jusqu'aux prochaines règ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67080" y="966960"/>
            <a:ext cx="640872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Après l'accouchement, en cas d'allaitement au sein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exclusif ou presque,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il est possible de commencer à prendre la pilule au bout de 6 semaines mais on peut attendre davantage. Aucune protection supplémentaire n'est nécessaire entre 6 semaines et 6 mois après l'accouchement si les règles n'ont pas réapparu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partiel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, il est préférable de commencer 6 semaines après l'accouchement. En cas d'attente plus longue, il y a un risque de grosses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Après l'accouchement, s'il n'y a PAS d'allaitement au sein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l est possible de commencer immédiatement. Si la contraception commence dans les 4 semaines qui suivent l'accouchement, aucune protection supplémentaire n'est nécessai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67080" y="3838680"/>
            <a:ext cx="640872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Après une fausse couche ou un avort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l est possible de commencer immédiatement après un avortement. Dans les 7 jours qui suivent, aucune autre protection n'est nécessai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1480" y="27813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2720" y="5970600"/>
            <a:ext cx="4216680" cy="79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non, donnez-lui des pilules à emporter chez elle.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écisez-lui quand elle doit commencer à les prendre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onnez-lui des préservatifs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à utiliser dans l'intervalle. Expliquez comment on s'en se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1720" y="43560"/>
            <a:ext cx="1355760" cy="734400"/>
            <a:chOff x="81720" y="43560"/>
            <a:chExt cx="1355760" cy="734400"/>
          </a:xfrm>
        </p:grpSpPr>
        <p:sp>
          <p:nvSpPr>
            <p:cNvPr id="209" name=""/>
            <p:cNvSpPr/>
            <p:nvPr/>
          </p:nvSpPr>
          <p:spPr>
            <a:xfrm>
              <a:off x="149400" y="60120"/>
              <a:ext cx="1224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20" y="4356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Arial"/>
                </a:rPr>
                <a:t>La pilule minidos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420840" y="2570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198360" y="551664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7080" y="2967120"/>
            <a:ext cx="63342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l est possible de commencer IMMEDIATEMENT, s'il est relativement sûr que la cliente n'est pas enceinte (consultez la liste de contrôle figurant à l'annexe 1). </a:t>
            </a: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Il n'est pas nécessaire d'attendre les prochaines règles 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our commencer à prendre la pilu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Après la prise de la première pilule, il faut </a:t>
            </a: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éviter les rapports sexuels ou utiliser le préservatif pendant 48 heures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4:40:00Z</dcterms:created>
  <dc:creator/>
  <dc:description/>
  <dc:language>en-US</dc:language>
  <cp:lastModifiedBy>meynentc</cp:lastModifiedBy>
  <cp:lastPrinted>2003-07-18T11:21:45Z</cp:lastPrinted>
  <dcterms:modified xsi:type="dcterms:W3CDTF">2007-07-23T12:23:48Z</dcterms:modified>
  <cp:revision>204</cp:revision>
  <dc:subject/>
  <dc:title>La pilule minidosée</dc:title>
</cp:coreProperties>
</file>