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902825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496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561120"/>
            <a:ext cx="4496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2684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900800" y="137160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21080" y="137160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56112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1900800" y="356112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3421080" y="356112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371600"/>
            <a:ext cx="4496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496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28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84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4496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520" y="1371600"/>
            <a:ext cx="4496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spcBef>
                <a:spcPts val="400"/>
              </a:spcBef>
              <a:buClr>
                <a:srgbClr val="000000"/>
              </a:buClr>
              <a:buFont typeface="Wingdings 3" charset="2"/>
              <a:buChar char="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2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6.png"/><Relationship Id="rId4" Type="http://schemas.openxmlformats.org/officeDocument/2006/relationships/image" Target="../media/image1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4835520" y="2190600"/>
            <a:ext cx="4952880" cy="1008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5920" indent="-11592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effective, with little to reme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pper T 380A lasts for 10 years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older women: should be removed 1 year after last menstrual period (menopau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soon become pregnant when IUD taken 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0" y="5791320"/>
            <a:ext cx="9906120" cy="1066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Do you want to know more about the IUD, or talk about a different method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?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174600" y="1125360"/>
            <a:ext cx="4114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marL="173160" indent="-17316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all device that fits inside the wom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4838760" y="936720"/>
            <a:ext cx="4952880" cy="1152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About the IU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flexible plastic frame with copper sleeves and/or wi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client a sample IUD to h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 mainly by stopping sperm and egg from mee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women can use IUDs, including women who have never been pregn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4838760" y="3284640"/>
            <a:ext cx="4952880" cy="1439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5920" indent="-115920">
              <a:lnSpc>
                <a:spcPct val="9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Check for concerns, rumours: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“What have you heard about </a:t>
            </a:r>
            <a:br>
              <a:rPr sz="1200"/>
            </a:b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the IUD?”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See Appendix 10 on myths about contraception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9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Explain common myth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UD does not leave the womb and move around inside th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UD does not get in the way during intercourse, although sometimes the man may feel the str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UD does not rust inside the body, even after many ye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838760" y="4834080"/>
            <a:ext cx="4952880" cy="331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5920" indent="-11592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Side-effect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get better after first 3 months (see pag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U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38760" y="5300640"/>
            <a:ext cx="4952880" cy="330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5920" indent="-11592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For STI/HIV/AIDS protection, also use cond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35080" y="6145200"/>
            <a:ext cx="4033800" cy="684360"/>
          </a:xfrm>
          <a:prstGeom prst="downArrowCallout">
            <a:avLst>
              <a:gd name="adj1" fmla="val 589481"/>
              <a:gd name="adj2" fmla="val 294713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 client wants to know more about the IU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 to next pag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3840" y="5560920"/>
            <a:ext cx="144792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Next Mov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3240" y="1440"/>
            <a:ext cx="9906120" cy="838440"/>
          </a:xfrm>
          <a:prstGeom prst="rect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pper IU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74600" y="1844640"/>
            <a:ext cx="4114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marL="173160" indent="-173160">
              <a:lnSpc>
                <a:spcPct val="90000"/>
              </a:lnSpc>
              <a:spcBef>
                <a:spcPts val="1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effec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4600" y="314172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marL="173160" indent="-173160">
              <a:lnSpc>
                <a:spcPct val="90000"/>
              </a:lnSpc>
              <a:spcBef>
                <a:spcPts val="1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can remove it for you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ever you w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4600" y="2421000"/>
            <a:ext cx="4114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marL="173160" indent="-173160">
              <a:lnSpc>
                <a:spcPct val="90000"/>
              </a:lnSpc>
              <a:spcBef>
                <a:spcPts val="1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eps working up to 10 years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ending on typ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74600" y="4307040"/>
            <a:ext cx="4489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marL="173160" indent="-173160">
              <a:lnSpc>
                <a:spcPct val="90000"/>
              </a:lnSpc>
              <a:spcBef>
                <a:spcPts val="1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ght increase menstrual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eeding or cram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4600" y="4989600"/>
            <a:ext cx="4489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marL="173160" indent="-173160">
              <a:lnSpc>
                <a:spcPct val="90000"/>
              </a:lnSpc>
              <a:spcBef>
                <a:spcPts val="1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protection against STI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HIV/AI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162200">
            <a:off x="4114440" y="463500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89000" y="5400"/>
            <a:ext cx="1161360" cy="802440"/>
            <a:chOff x="189000" y="5400"/>
            <a:chExt cx="1161360" cy="802440"/>
          </a:xfrm>
        </p:grpSpPr>
        <p:sp>
          <p:nvSpPr>
            <p:cNvPr id="54" name=""/>
            <p:cNvSpPr/>
            <p:nvPr/>
          </p:nvSpPr>
          <p:spPr>
            <a:xfrm>
              <a:off x="189000" y="66600"/>
              <a:ext cx="1143000" cy="7174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1160" y="5400"/>
              <a:ext cx="115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Copper IU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" name="" descr=""/>
            <p:cNvPicPr/>
            <p:nvPr/>
          </p:nvPicPr>
          <p:blipFill>
            <a:blip r:embed="rId1"/>
            <a:stretch/>
          </p:blipFill>
          <p:spPr>
            <a:xfrm>
              <a:off x="370080" y="263520"/>
              <a:ext cx="838080" cy="544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-123840" y="5911920"/>
            <a:ext cx="1219320" cy="946080"/>
          </a:xfrm>
          <a:prstGeom prst="rect">
            <a:avLst/>
          </a:prstGeom>
          <a:ln w="0">
            <a:noFill/>
          </a:ln>
        </p:spPr>
      </p:pic>
      <p:grpSp>
        <p:nvGrpSpPr>
          <p:cNvPr id="58" name=""/>
          <p:cNvGrpSpPr/>
          <p:nvPr/>
        </p:nvGrpSpPr>
        <p:grpSpPr>
          <a:xfrm>
            <a:off x="9156600" y="3384720"/>
            <a:ext cx="576360" cy="468000"/>
            <a:chOff x="9156600" y="3384720"/>
            <a:chExt cx="576360" cy="468000"/>
          </a:xfrm>
        </p:grpSpPr>
        <p:sp>
          <p:nvSpPr>
            <p:cNvPr id="59" name=""/>
            <p:cNvSpPr/>
            <p:nvPr/>
          </p:nvSpPr>
          <p:spPr>
            <a:xfrm>
              <a:off x="9156600" y="3384720"/>
              <a:ext cx="576360" cy="468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" name="" descr=""/>
            <p:cNvPicPr/>
            <p:nvPr/>
          </p:nvPicPr>
          <p:blipFill>
            <a:blip r:embed="rId3"/>
            <a:stretch/>
          </p:blipFill>
          <p:spPr>
            <a:xfrm>
              <a:off x="9306000" y="3431880"/>
              <a:ext cx="288720" cy="383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"/>
          <p:cNvSpPr/>
          <p:nvPr/>
        </p:nvSpPr>
        <p:spPr>
          <a:xfrm rot="19812600">
            <a:off x="4122720" y="317988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394668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14800" y="112536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83e3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UD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8360" y="3817800"/>
            <a:ext cx="4114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marL="173160" indent="-173160">
              <a:lnSpc>
                <a:spcPct val="90000"/>
              </a:lnSpc>
              <a:spcBef>
                <a:spcPts val="1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saf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981000">
            <a:off x="4128840" y="521136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16240" y="251928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1162200">
            <a:off x="4115880" y="205848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40240" y="6145200"/>
            <a:ext cx="3961080" cy="523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o discuss another method,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o to a new method tab or to Choosing Method tab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65120" y="6864480"/>
            <a:ext cx="1354320" cy="438120"/>
          </a:xfrm>
          <a:prstGeom prst="rect">
            <a:avLst/>
          </a:prstGeom>
          <a:solidFill>
            <a:srgbClr val="83e3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0" y="1440"/>
            <a:ext cx="9907560" cy="1011240"/>
          </a:xfrm>
          <a:prstGeom prst="rect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hat to rememb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03040" y="1125360"/>
            <a:ext cx="312444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3160" indent="-173160">
              <a:lnSpc>
                <a:spcPct val="90000"/>
              </a:lnSpc>
              <a:spcBef>
                <a:spcPts val="12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r kind of IU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0880" y="215424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533520" y="120600"/>
            <a:ext cx="1447560" cy="112248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203040" y="2362320"/>
            <a:ext cx="4267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3160" indent="-173160">
              <a:lnSpc>
                <a:spcPct val="90000"/>
              </a:lnSpc>
              <a:spcBef>
                <a:spcPts val="12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to have IUD taken ou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03040" y="3467160"/>
            <a:ext cx="396252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3160" indent="-173160">
              <a:lnSpc>
                <a:spcPct val="90000"/>
              </a:lnSpc>
              <a:spcBef>
                <a:spcPts val="12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eeding changes and cramps are common. Come back if they bother yo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3040" y="4419720"/>
            <a:ext cx="4800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3160" indent="-173160">
              <a:lnSpc>
                <a:spcPct val="90000"/>
              </a:lnSpc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e back for a check-up in 3 to 6 weeks or after next menstrual peri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562720" y="2514600"/>
            <a:ext cx="4190760" cy="4051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3680" indent="-1936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ee a nurse or doctor if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510160" y="2895480"/>
            <a:ext cx="152388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95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ssed a menstrual period, or think you may be pregn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016840" y="4038480"/>
            <a:ext cx="18306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95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uld have an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I or HIV/A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24560" y="5105520"/>
            <a:ext cx="1600200" cy="11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95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D strings seem to have changed length or are mis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724960" y="5211720"/>
            <a:ext cx="1177920" cy="9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60" indent="-90360">
              <a:lnSpc>
                <a:spcPct val="95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d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in in lower abdo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6945480" y="2938320"/>
            <a:ext cx="725400" cy="12528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6629400" y="4724280"/>
            <a:ext cx="798480" cy="11430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6985080" y="5334120"/>
            <a:ext cx="709560" cy="6858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0880" y="325584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0440" y="5423040"/>
            <a:ext cx="4114800" cy="1295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Anything else I can repeat or explain? </a:t>
            </a:r>
            <a:br>
              <a:rPr sz="1800"/>
            </a:b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Any other question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rot="20766000">
            <a:off x="3657240" y="1320480"/>
            <a:ext cx="1295280" cy="990720"/>
          </a:xfrm>
          <a:prstGeom prst="ellipse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3886200" y="1371600"/>
            <a:ext cx="692280" cy="9907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5"/>
          <a:stretch/>
        </p:blipFill>
        <p:spPr>
          <a:xfrm>
            <a:off x="8153280" y="3048120"/>
            <a:ext cx="1430280" cy="97308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6"/>
          <a:stretch/>
        </p:blipFill>
        <p:spPr>
          <a:xfrm>
            <a:off x="3943440" y="2637000"/>
            <a:ext cx="1295280" cy="96516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7"/>
          <a:stretch/>
        </p:blipFill>
        <p:spPr>
          <a:xfrm>
            <a:off x="7978680" y="4941720"/>
            <a:ext cx="78912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410080" y="3795840"/>
            <a:ext cx="434340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3300"/>
                </a:solidFill>
                <a:latin typeface="Arial"/>
              </a:rPr>
              <a:t>Return Sig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These signs mean a doctor or nurse should check if a problem is developing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1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I want you to know about them and remember them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10080" y="1052640"/>
            <a:ext cx="4343400" cy="1224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1520" indent="-10152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client an information card or copy of client’s page and explain. Tell her to keep card in a safe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per T 380A lasts for 10 yea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older women, IUD should be left in place until 1 year after last menstrual period (menopause) for full protection from pregnan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1440" y="3532320"/>
            <a:ext cx="4189320" cy="1838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spcBef>
                <a:spcPts val="488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e a nurse or doctor if:</a:t>
            </a:r>
            <a:r>
              <a:rPr b="1" lang="en-GB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ssed a menstrual period, or think you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may be pregn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uld have an STI or HIV/A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UD strings seem to have changed length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or are mis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d pain in lower abdo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1440" y="1119240"/>
            <a:ext cx="420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3160" indent="-173160">
              <a:lnSpc>
                <a:spcPct val="90000"/>
              </a:lnSpc>
              <a:spcBef>
                <a:spcPts val="1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r kind of IU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71440" y="1633680"/>
            <a:ext cx="420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3160" indent="-173160">
              <a:lnSpc>
                <a:spcPct val="90000"/>
              </a:lnSpc>
              <a:spcBef>
                <a:spcPts val="1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o have IUD taken ou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1440"/>
            <a:ext cx="9907560" cy="838440"/>
          </a:xfrm>
          <a:prstGeom prst="rect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to rememb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5745240"/>
            <a:ext cx="9909000" cy="11127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23960" y="5810400"/>
            <a:ext cx="8534520" cy="9792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o you feel confident you can use this method successfully? Is there anything I can repeat or explain?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ff3399"/>
                </a:solidFill>
                <a:latin typeface="Arial"/>
              </a:rPr>
              <a:t>Remember to offer condoms for dual protection!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st, most important message: 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“Come back any time you have questions or want the IUD removed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6320" y="5505480"/>
            <a:ext cx="198108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Last Moves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786200" y="391320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189000" y="5400"/>
            <a:ext cx="1161360" cy="802440"/>
            <a:chOff x="189000" y="5400"/>
            <a:chExt cx="1161360" cy="802440"/>
          </a:xfrm>
        </p:grpSpPr>
        <p:sp>
          <p:nvSpPr>
            <p:cNvPr id="284" name=""/>
            <p:cNvSpPr/>
            <p:nvPr/>
          </p:nvSpPr>
          <p:spPr>
            <a:xfrm>
              <a:off x="189000" y="66600"/>
              <a:ext cx="1143000" cy="7174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91160" y="5400"/>
              <a:ext cx="115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Copper IU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370080" y="263520"/>
              <a:ext cx="838080" cy="54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7" name=""/>
          <p:cNvSpPr/>
          <p:nvPr/>
        </p:nvSpPr>
        <p:spPr>
          <a:xfrm>
            <a:off x="5423040" y="2708280"/>
            <a:ext cx="4343400" cy="806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ppointment to check IUD is still in place and no inf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courage her to come back any time to discuss problems or have the IUD remo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800600" y="294012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71440" y="2828880"/>
            <a:ext cx="4343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3160" indent="-173160">
              <a:lnSpc>
                <a:spcPct val="90000"/>
              </a:lnSpc>
              <a:spcBef>
                <a:spcPts val="1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e back for a check-up in 3 to 6 weeks or after next menstrual peri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10080" y="4786200"/>
            <a:ext cx="434340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6800" anchor="t">
            <a:noAutofit/>
          </a:bodyPr>
          <a:p>
            <a:pPr marL="114480" indent="-114480">
              <a:lnSpc>
                <a:spcPct val="100000"/>
              </a:lnSpc>
              <a:spcBef>
                <a:spcPts val="1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e should tell other health care providers that she has an IU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71440" y="1859040"/>
            <a:ext cx="475128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3160" indent="-173160">
              <a:lnSpc>
                <a:spcPct val="90000"/>
              </a:lnSpc>
              <a:spcBef>
                <a:spcPts val="1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eeding changes and cramps are common. Come back if they bother yo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83e3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UD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8335800" y="6172200"/>
            <a:ext cx="576000" cy="468360"/>
            <a:chOff x="8335800" y="6172200"/>
            <a:chExt cx="576000" cy="468360"/>
          </a:xfrm>
        </p:grpSpPr>
        <p:sp>
          <p:nvSpPr>
            <p:cNvPr id="294" name=""/>
            <p:cNvSpPr/>
            <p:nvPr/>
          </p:nvSpPr>
          <p:spPr>
            <a:xfrm>
              <a:off x="8335800" y="617220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5" name="" descr=""/>
            <p:cNvPicPr/>
            <p:nvPr/>
          </p:nvPicPr>
          <p:blipFill>
            <a:blip r:embed="rId2"/>
            <a:stretch/>
          </p:blipFill>
          <p:spPr>
            <a:xfrm>
              <a:off x="8475480" y="629784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6" name=""/>
          <p:cNvSpPr/>
          <p:nvPr/>
        </p:nvSpPr>
        <p:spPr>
          <a:xfrm>
            <a:off x="4778280" y="1700280"/>
            <a:ext cx="381240" cy="304560"/>
          </a:xfrm>
          <a:prstGeom prst="rightArrow">
            <a:avLst>
              <a:gd name="adj1" fmla="val 44444"/>
              <a:gd name="adj2" fmla="val 48680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792680" y="115416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rot="4705800">
            <a:off x="7389720" y="2593800"/>
            <a:ext cx="1695600" cy="2934000"/>
          </a:xfrm>
          <a:prstGeom prst="ellipse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rot="1090800">
            <a:off x="5343120" y="1045800"/>
            <a:ext cx="1695600" cy="1944720"/>
          </a:xfrm>
          <a:prstGeom prst="ellipse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1440" y="1197000"/>
            <a:ext cx="5688000" cy="39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228600" indent="-228600">
              <a:lnSpc>
                <a:spcPct val="90000"/>
              </a:lnSpc>
              <a:spcBef>
                <a:spcPts val="1514"/>
              </a:spcBef>
              <a:spcAft>
                <a:spcPts val="825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ake a pill every d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1514"/>
              </a:spcBef>
              <a:spcAft>
                <a:spcPts val="825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an be ver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y 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fecti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1514"/>
              </a:spcBef>
              <a:spcAft>
                <a:spcPts val="825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y saf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151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elps reduce menstrual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leeding and cramp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151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me women have side-effects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t first—not harmfu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151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o protection against STIs or HIV/AI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1440"/>
            <a:ext cx="9906120" cy="838440"/>
          </a:xfrm>
          <a:prstGeom prst="rect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he Pi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7256520" y="3357720"/>
            <a:ext cx="2171520" cy="140148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286000" y="5334120"/>
            <a:ext cx="5334120" cy="1269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3300"/>
                </a:solidFill>
                <a:latin typeface="Arial"/>
              </a:rPr>
              <a:t>Do you want to know more about the pill, or talk about a </a:t>
            </a:r>
            <a:br>
              <a:rPr sz="1800"/>
            </a:br>
            <a:r>
              <a:rPr b="1" i="1" lang="en-GB" sz="1800" spc="-1" strike="noStrike">
                <a:solidFill>
                  <a:srgbClr val="ff3300"/>
                </a:solidFill>
                <a:latin typeface="Arial"/>
              </a:rPr>
              <a:t>different metho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2057400" y="5676840"/>
            <a:ext cx="1447920" cy="11239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227560" y="1287360"/>
            <a:ext cx="154944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 rot="20766000">
            <a:off x="6357600" y="4114800"/>
            <a:ext cx="1523880" cy="1114560"/>
          </a:xfrm>
          <a:prstGeom prst="ellipse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21531000">
            <a:off x="3580920" y="4067280"/>
            <a:ext cx="2286000" cy="1190520"/>
          </a:xfrm>
          <a:prstGeom prst="ellipse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20766000">
            <a:off x="1676160" y="4191120"/>
            <a:ext cx="1523880" cy="1114200"/>
          </a:xfrm>
          <a:prstGeom prst="ellipse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20766000">
            <a:off x="75960" y="4219560"/>
            <a:ext cx="1523880" cy="1114560"/>
          </a:xfrm>
          <a:prstGeom prst="ellipse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440"/>
            <a:ext cx="9907560" cy="1011240"/>
          </a:xfrm>
          <a:prstGeom prst="rect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ho can and cannot use the IU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2280" y="3603600"/>
            <a:ext cx="5715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3160" indent="-17316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But usually cannot use IUD if 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lnSpc>
                <a:spcPct val="90000"/>
              </a:lnSpc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21522600">
            <a:off x="3541320" y="1268280"/>
            <a:ext cx="5143680" cy="1933560"/>
          </a:xfrm>
          <a:prstGeom prst="ellipse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1309680"/>
            <a:ext cx="357984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275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Most women can safely use the IU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91320"/>
            <a:ext cx="15238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y b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gn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1370880" y="5785920"/>
            <a:ext cx="205740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ve birth recently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more than 2 days ag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943280" y="4343400"/>
            <a:ext cx="1001520" cy="14018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 flipH="1">
            <a:off x="5671440" y="5639760"/>
            <a:ext cx="152388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usual vaginal bleeding recent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301920" y="5805360"/>
            <a:ext cx="226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high risk for S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948120" y="4141800"/>
            <a:ext cx="1461960" cy="16336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815160" y="4191120"/>
            <a:ext cx="1003320" cy="2133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439560" y="4295880"/>
            <a:ext cx="855720" cy="14810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3733920" y="1409760"/>
            <a:ext cx="4419360" cy="1881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 rot="20766000">
            <a:off x="8179920" y="4038480"/>
            <a:ext cx="1524240" cy="1114560"/>
          </a:xfrm>
          <a:prstGeom prst="ellipse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7848000" y="5979240"/>
            <a:ext cx="205740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ection or problem in female org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8478720" y="4146480"/>
            <a:ext cx="82080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440"/>
            <a:ext cx="9907560" cy="838440"/>
          </a:xfrm>
          <a:prstGeom prst="rect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o can and cannot use the IU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30720" y="1812960"/>
            <a:ext cx="5522760" cy="406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5920" indent="-115920">
              <a:lnSpc>
                <a:spcPct val="95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UD should not be inserted between 48 hours and 4 weeks after childbirth because of expulsion risk.</a:t>
            </a:r>
            <a:r>
              <a:rPr b="0" lang="en-US" sz="12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30720" y="3400560"/>
            <a:ext cx="5522760" cy="2590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ctr">
            <a:noAutofit/>
          </a:bodyPr>
          <a:p>
            <a:pPr marL="115920" indent="-1159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STI or Pelvic Inflammatory Disease (PID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9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 PID, chlamydia, gonorrhoea or purulent cervicitis BEFORE inserting IUD. Offer to treat partner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9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insert IUD if client has genital ulcer disease or vaginitis (bacterial vaginosis, trichomonas vaginalis), but check risk for chlamydia or gonorrhoea. Treat infe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HIV or AID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9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client has HIV, can insert IU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9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client has AIDS, do not insert IUD. But if client is being treated with antiretroviral drugs and is healthy, can insert IU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Infection after childbirth or abor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90000"/>
              </a:lnSpc>
              <a:spcAft>
                <a:spcPts val="74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infections should be fully treated before IUD inser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Cancer in female organs or pelvic tuberculosis (TB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9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insert IUD if known cervical, endometrial or ovarian cancer; benign or malignant trophoblast disease; pelvic T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0840" y="850320"/>
            <a:ext cx="386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Most women can safely use the IUD. But usually cannot use IUD if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230720" y="2276640"/>
            <a:ext cx="5522760" cy="765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ctr">
            <a:noAutofit/>
          </a:bodyPr>
          <a:p>
            <a:pPr marL="115920" indent="-115920">
              <a:lnSpc>
                <a:spcPct val="95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t high risk for chlamydia or gonorrhoea inf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Those at high risk for these STIs include anyone wh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95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more than 1 sex partner without always using condoms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95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sex partner who may have sex with others without always using cond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30720" y="893880"/>
            <a:ext cx="5522760" cy="404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We can find out if the IUD is safe for you. Usually, women with any of these conditions should delay insertion or use another method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230720" y="3097080"/>
            <a:ext cx="5522760" cy="247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5920" indent="-11592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ual bleeding should be assessed before IUD inser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070680"/>
            <a:ext cx="9906120" cy="7952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38720" y="6161040"/>
            <a:ext cx="3773520" cy="5144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lient unable to use the IUD: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elp her choose another metho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20880" y="6161040"/>
            <a:ext cx="3886200" cy="684360"/>
          </a:xfrm>
          <a:prstGeom prst="downArrowCallout">
            <a:avLst>
              <a:gd name="adj1" fmla="val 567912"/>
              <a:gd name="adj2" fmla="val 283929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lient able to use the IUD: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o to next pag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5520" y="5867280"/>
            <a:ext cx="144792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Next Mov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410760" y="6566040"/>
            <a:ext cx="380880" cy="228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560" y="1916280"/>
            <a:ext cx="32652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-173160">
              <a:lnSpc>
                <a:spcPct val="90000"/>
              </a:lnSpc>
              <a:spcBef>
                <a:spcPts val="1576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ve birth recently (more than 2 days ag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560" y="3127320"/>
            <a:ext cx="38638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-173160">
              <a:lnSpc>
                <a:spcPct val="90000"/>
              </a:lnSpc>
              <a:spcBef>
                <a:spcPts val="1576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usual vaginal bleeding recent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560" y="1512360"/>
            <a:ext cx="38638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-173160">
              <a:lnSpc>
                <a:spcPct val="90000"/>
              </a:lnSpc>
              <a:spcBef>
                <a:spcPts val="1576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y be pregn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30720" y="1355760"/>
            <a:ext cx="5522760" cy="38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5920" indent="-115920">
              <a:lnSpc>
                <a:spcPct val="90000"/>
              </a:lnSpc>
              <a:spcBef>
                <a:spcPts val="1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n any doubt, use pregnancy checklist in Appendix 1 or perfor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gnancy tes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20697000">
            <a:off x="3438000" y="260784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89000" y="18000"/>
            <a:ext cx="1161360" cy="802440"/>
            <a:chOff x="189000" y="18000"/>
            <a:chExt cx="1161360" cy="802440"/>
          </a:xfrm>
        </p:grpSpPr>
        <p:sp>
          <p:nvSpPr>
            <p:cNvPr id="109" name=""/>
            <p:cNvSpPr/>
            <p:nvPr/>
          </p:nvSpPr>
          <p:spPr>
            <a:xfrm>
              <a:off x="189000" y="79200"/>
              <a:ext cx="1143000" cy="7174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91160" y="18000"/>
              <a:ext cx="115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Copper IU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370080" y="276120"/>
              <a:ext cx="838080" cy="54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" name=""/>
          <p:cNvSpPr/>
          <p:nvPr/>
        </p:nvSpPr>
        <p:spPr>
          <a:xfrm>
            <a:off x="25560" y="2637000"/>
            <a:ext cx="373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high risk for S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52760" y="315612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83e3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UD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560" y="4119480"/>
            <a:ext cx="3981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3680" indent="-193680">
              <a:lnSpc>
                <a:spcPct val="100000"/>
              </a:lnSpc>
              <a:spcBef>
                <a:spcPts val="675"/>
              </a:spcBef>
              <a:spcAft>
                <a:spcPts val="337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ection or problem in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male org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21061200">
            <a:off x="3501720" y="146988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20740200">
            <a:off x="3481560" y="191592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20370600">
            <a:off x="3443040" y="413244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 rot="20766000">
            <a:off x="7256520" y="2631960"/>
            <a:ext cx="1523880" cy="1038240"/>
          </a:xfrm>
          <a:prstGeom prst="ellipse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20766000">
            <a:off x="2666880" y="3889440"/>
            <a:ext cx="1524240" cy="1038240"/>
          </a:xfrm>
          <a:prstGeom prst="ellipse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20766000">
            <a:off x="2209320" y="2568600"/>
            <a:ext cx="1524240" cy="1114560"/>
          </a:xfrm>
          <a:prstGeom prst="ellipse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440"/>
            <a:ext cx="9904320" cy="1011240"/>
          </a:xfrm>
          <a:prstGeom prst="rect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ossible side-effec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16000" y="2263680"/>
            <a:ext cx="2298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171360" indent="-171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3300"/>
                </a:solidFill>
                <a:latin typeface="Arial"/>
              </a:rPr>
              <a:t>After inser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16800" y="3703680"/>
            <a:ext cx="1065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590920" y="2616120"/>
            <a:ext cx="755640" cy="1295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39680" y="2873520"/>
            <a:ext cx="2222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171360" indent="-17136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cramps for several day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9680" y="3940200"/>
            <a:ext cx="22226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171360" indent="-17136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spotting for a few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00600" y="2262240"/>
            <a:ext cx="4800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171360" indent="-171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3300"/>
                </a:solidFill>
                <a:latin typeface="Arial"/>
              </a:rPr>
              <a:t>Other common side-effect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51360" y="2797200"/>
            <a:ext cx="236232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171360" indent="-17136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nger and heavier peri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51360" y="3613320"/>
            <a:ext cx="2819520" cy="9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171360" indent="-17136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eeding or spotting between peri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51360" y="4397400"/>
            <a:ext cx="25909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171360" indent="-17136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e cramps or pain during peri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19440" y="5229360"/>
            <a:ext cx="4724640" cy="3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171360" indent="-17136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i="1" lang="en-GB" sz="2200" spc="-1" strike="noStrike">
                <a:solidFill>
                  <a:srgbClr val="ff3300"/>
                </a:solidFill>
                <a:latin typeface="Arial"/>
              </a:rPr>
              <a:t>May get less after a few month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20766000">
            <a:off x="8203680" y="3914640"/>
            <a:ext cx="1524240" cy="1114560"/>
          </a:xfrm>
          <a:prstGeom prst="ellipse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585280" y="3962520"/>
            <a:ext cx="755640" cy="12952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2697120" y="4081320"/>
            <a:ext cx="1567080" cy="10083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06440" y="5487840"/>
            <a:ext cx="418464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3300"/>
                </a:solidFill>
                <a:latin typeface="Arial"/>
              </a:rPr>
              <a:t>How would you feel about these side-effect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-17640" y="5708520"/>
            <a:ext cx="1447920" cy="11239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7201080" y="2847960"/>
            <a:ext cx="1566720" cy="100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60280" y="1068480"/>
            <a:ext cx="970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3300"/>
                </a:solidFill>
                <a:latin typeface="Arial"/>
              </a:rPr>
              <a:t>If you choose this method, you may have some side-effects. </a:t>
            </a:r>
            <a:br>
              <a:rPr sz="2200"/>
            </a:br>
            <a:r>
              <a:rPr b="1" i="1" lang="en-US" sz="2200" spc="-1" strike="noStrike">
                <a:solidFill>
                  <a:srgbClr val="ff3300"/>
                </a:solidFill>
                <a:latin typeface="Arial"/>
              </a:rPr>
              <a:t>They are not usually signs of illnes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5378400" y="907920"/>
            <a:ext cx="4341960" cy="481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marL="114480" indent="-114480">
              <a:lnSpc>
                <a:spcPct val="9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It can take time for the body to adjust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fferent people have different reactions to metho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440"/>
            <a:ext cx="9902880" cy="838440"/>
          </a:xfrm>
          <a:prstGeom prst="rect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ssible side-effe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5791320"/>
            <a:ext cx="9902880" cy="1066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es client understand side-effects? Is she happy to use metho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75160" y="1468440"/>
            <a:ext cx="4341960" cy="1932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Discus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If these side-effects happened to you, what would you think or feel about it?”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What would it mean to you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cuss any rumours or concerns.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See Appendix 10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lease come back any time you want help or have question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t is okay to switch methods any tim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dealing with side-effects, se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turning Client ta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7080" y="5676840"/>
            <a:ext cx="144756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Next Mov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724280" y="105408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65240" y="6121440"/>
            <a:ext cx="3656160" cy="685800"/>
          </a:xfrm>
          <a:prstGeom prst="downArrowCallout">
            <a:avLst>
              <a:gd name="adj1" fmla="val 527939"/>
              <a:gd name="adj2" fmla="val 266561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 s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go to next pag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32320" y="6121440"/>
            <a:ext cx="3351240" cy="5144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 no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iscuss further or consider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 metho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8196120" y="1973160"/>
            <a:ext cx="576360" cy="468360"/>
            <a:chOff x="8196120" y="1973160"/>
            <a:chExt cx="576360" cy="468360"/>
          </a:xfrm>
        </p:grpSpPr>
        <p:sp>
          <p:nvSpPr>
            <p:cNvPr id="149" name=""/>
            <p:cNvSpPr/>
            <p:nvPr/>
          </p:nvSpPr>
          <p:spPr>
            <a:xfrm>
              <a:off x="8196120" y="1973160"/>
              <a:ext cx="576360" cy="468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>
              <a:off x="8345520" y="2020680"/>
              <a:ext cx="288720" cy="384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1" name=""/>
          <p:cNvGrpSpPr/>
          <p:nvPr/>
        </p:nvGrpSpPr>
        <p:grpSpPr>
          <a:xfrm>
            <a:off x="189000" y="5400"/>
            <a:ext cx="1161360" cy="802440"/>
            <a:chOff x="189000" y="5400"/>
            <a:chExt cx="1161360" cy="802440"/>
          </a:xfrm>
        </p:grpSpPr>
        <p:sp>
          <p:nvSpPr>
            <p:cNvPr id="152" name=""/>
            <p:cNvSpPr/>
            <p:nvPr/>
          </p:nvSpPr>
          <p:spPr>
            <a:xfrm>
              <a:off x="189000" y="66600"/>
              <a:ext cx="1143000" cy="7174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91160" y="5400"/>
              <a:ext cx="115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Copper IU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4" name="" descr=""/>
            <p:cNvPicPr/>
            <p:nvPr/>
          </p:nvPicPr>
          <p:blipFill>
            <a:blip r:embed="rId2"/>
            <a:stretch/>
          </p:blipFill>
          <p:spPr>
            <a:xfrm>
              <a:off x="370080" y="263520"/>
              <a:ext cx="838080" cy="54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5" name=""/>
          <p:cNvSpPr/>
          <p:nvPr/>
        </p:nvSpPr>
        <p:spPr>
          <a:xfrm>
            <a:off x="243000" y="2365200"/>
            <a:ext cx="432900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171360" indent="-171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After inser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56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cramps for several day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56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spotting for a few wee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2365200">
            <a:off x="4599000" y="303660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76960" y="3462480"/>
            <a:ext cx="4341600" cy="428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cramps after insertion, can take aspirin, paracetamol, or ibuprof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76960" y="3957480"/>
            <a:ext cx="4341600" cy="408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longer, heavier and more painful periods, she can take ibuprofen or a similar medication (NOT aspirin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401940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76960" y="5078520"/>
            <a:ext cx="4341600" cy="355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amps and bleeding usually get less after 3 to 6 mont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5086440"/>
            <a:ext cx="381240" cy="304560"/>
          </a:xfrm>
          <a:prstGeom prst="rightArrow">
            <a:avLst>
              <a:gd name="adj1" fmla="val 44444"/>
              <a:gd name="adj2" fmla="val 48680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-114480" y="5911920"/>
            <a:ext cx="1219320" cy="946080"/>
          </a:xfrm>
          <a:prstGeom prst="rect">
            <a:avLst/>
          </a:prstGeom>
          <a:ln w="0">
            <a:noFill/>
          </a:ln>
        </p:spPr>
      </p:pic>
      <p:grpSp>
        <p:nvGrpSpPr>
          <p:cNvPr id="163" name=""/>
          <p:cNvGrpSpPr/>
          <p:nvPr/>
        </p:nvGrpSpPr>
        <p:grpSpPr>
          <a:xfrm>
            <a:off x="9005400" y="1973160"/>
            <a:ext cx="597240" cy="468360"/>
            <a:chOff x="9005400" y="1973160"/>
            <a:chExt cx="597240" cy="468360"/>
          </a:xfrm>
        </p:grpSpPr>
        <p:sp>
          <p:nvSpPr>
            <p:cNvPr id="164" name=""/>
            <p:cNvSpPr/>
            <p:nvPr/>
          </p:nvSpPr>
          <p:spPr>
            <a:xfrm flipH="1">
              <a:off x="9005040" y="1973160"/>
              <a:ext cx="576360" cy="468360"/>
            </a:xfrm>
            <a:prstGeom prst="rect">
              <a:avLst/>
            </a:prstGeom>
            <a:solidFill>
              <a:srgbClr val="83e3a8"/>
            </a:soli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5" name="" descr=""/>
            <p:cNvPicPr/>
            <p:nvPr/>
          </p:nvPicPr>
          <p:blipFill>
            <a:blip r:embed="rId4"/>
            <a:stretch/>
          </p:blipFill>
          <p:spPr>
            <a:xfrm>
              <a:off x="9020160" y="1981440"/>
              <a:ext cx="582480" cy="44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6" name=""/>
          <p:cNvSpPr/>
          <p:nvPr/>
        </p:nvSpPr>
        <p:spPr>
          <a:xfrm>
            <a:off x="233280" y="3575160"/>
            <a:ext cx="4329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171360" indent="-17136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Other common side-effec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788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er and heavier peri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eeding or spotting between peri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cramps or pain during peri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3300"/>
                </a:solidFill>
                <a:latin typeface="Arial"/>
              </a:rPr>
              <a:t>May get less after a few mon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83e3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UD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8250120" y="5589720"/>
            <a:ext cx="576000" cy="468360"/>
            <a:chOff x="8250120" y="5589720"/>
            <a:chExt cx="576000" cy="468360"/>
          </a:xfrm>
        </p:grpSpPr>
        <p:sp>
          <p:nvSpPr>
            <p:cNvPr id="169" name=""/>
            <p:cNvSpPr/>
            <p:nvPr/>
          </p:nvSpPr>
          <p:spPr>
            <a:xfrm>
              <a:off x="8250120" y="558972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0" name="" descr=""/>
            <p:cNvPicPr/>
            <p:nvPr/>
          </p:nvPicPr>
          <p:blipFill>
            <a:blip r:embed="rId5"/>
            <a:stretch/>
          </p:blipFill>
          <p:spPr>
            <a:xfrm>
              <a:off x="8389800" y="571536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"/>
          <p:cNvSpPr/>
          <p:nvPr/>
        </p:nvSpPr>
        <p:spPr>
          <a:xfrm>
            <a:off x="200160" y="936720"/>
            <a:ext cx="44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If you choose this method, you may have some side-effect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They are not usually signs of illn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 rot="21522600">
            <a:off x="7698960" y="4350960"/>
            <a:ext cx="2130480" cy="1933560"/>
          </a:xfrm>
          <a:prstGeom prst="ellipse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21522600">
            <a:off x="5256360" y="1654200"/>
            <a:ext cx="3655800" cy="1933560"/>
          </a:xfrm>
          <a:prstGeom prst="ellipse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2209680"/>
            <a:ext cx="42674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3160" indent="-17316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1341360"/>
            <a:ext cx="50292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90440" indent="-190440">
              <a:lnSpc>
                <a:spcPct val="100000"/>
              </a:lnSpc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Step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lvic examin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eaning the vagina and cervi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lacing IUD in the womb 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through the cervi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" y="3538440"/>
            <a:ext cx="4343400" cy="1727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90000" tIns="46800" bIns="46800" anchor="ctr">
            <a:noAutofit/>
          </a:bodyPr>
          <a:p>
            <a:pPr marL="287280" indent="-287280">
              <a:lnSpc>
                <a:spcPct val="100000"/>
              </a:lnSpc>
              <a:spcBef>
                <a:spcPts val="6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May hurt at inser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90000"/>
              </a:lnSpc>
              <a:spcBef>
                <a:spcPts val="6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Please tell us if it hu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90000"/>
              </a:lnSpc>
              <a:spcBef>
                <a:spcPts val="6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est as long as you like afterw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90000"/>
              </a:lnSpc>
              <a:spcBef>
                <a:spcPts val="6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May have cramps for several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ays after inser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9907560" cy="1332000"/>
          </a:xfrm>
          <a:prstGeom prst="rect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hat will happen when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you get your IU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4960" y="1849320"/>
            <a:ext cx="452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62080" y="2281320"/>
            <a:ext cx="4554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64960" y="2776680"/>
            <a:ext cx="452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456160" y="5029200"/>
            <a:ext cx="2590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Afterwards: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check your IUD from time to 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7831080" y="4444920"/>
            <a:ext cx="1762200" cy="2362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3" name=""/>
          <p:cNvGraphicFramePr/>
          <p:nvPr/>
        </p:nvGraphicFramePr>
        <p:xfrm>
          <a:off x="5489640" y="1650960"/>
          <a:ext cx="3182760" cy="257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89640" y="1650960"/>
                    <a:ext cx="3182760" cy="25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1206360" y="5373720"/>
            <a:ext cx="4027680" cy="1413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3300"/>
                </a:solidFill>
                <a:latin typeface="Arial"/>
              </a:rPr>
              <a:t>Are you ready to </a:t>
            </a:r>
            <a:br>
              <a:rPr sz="1800"/>
            </a:br>
            <a:r>
              <a:rPr b="1" i="1" lang="en-GB" sz="1800" spc="-1" strike="noStrike">
                <a:solidFill>
                  <a:srgbClr val="ff3300"/>
                </a:solidFill>
                <a:latin typeface="Arial"/>
              </a:rPr>
              <a:t>choose this metho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3300"/>
                </a:solidFill>
                <a:latin typeface="Arial"/>
              </a:rPr>
              <a:t>What questions do </a:t>
            </a:r>
            <a:br>
              <a:rPr sz="1800"/>
            </a:br>
            <a:r>
              <a:rPr b="1" i="1" lang="en-GB" sz="1800" spc="-1" strike="noStrike">
                <a:solidFill>
                  <a:srgbClr val="ff3300"/>
                </a:solidFill>
                <a:latin typeface="Arial"/>
              </a:rPr>
              <a:t>you hav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876240" y="5810400"/>
            <a:ext cx="1219320" cy="9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24000" y="2013120"/>
            <a:ext cx="42670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3160" indent="-17316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85760" y="907920"/>
            <a:ext cx="42670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289080" indent="-289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Step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lvic exam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eaning the vagina and cerv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cing IUD in the womb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ough the cerv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53200" y="981000"/>
            <a:ext cx="4343400" cy="739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if she has any questions or concer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o will do the proced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anaesthesia needed. Woman stays awa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53200" y="1838160"/>
            <a:ext cx="4343400" cy="495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is her first pelvic exam, explain exam, including position during exam. Let client hold a speculum. Explain its 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53200" y="2417760"/>
            <a:ext cx="4343400" cy="466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28520" indent="-12852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e slowly and gent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sample IUD with arms folded in inser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53200" y="3003480"/>
            <a:ext cx="4343400" cy="385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5680" indent="-856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immediate pain usually lasts 30 minutes at mo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58640" y="2944800"/>
            <a:ext cx="3943440" cy="152388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0440" indent="-1904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May hurt at inser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Please tell us if it hu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Rest as long as you like afterw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May have cramps for several</a:t>
            </a:r>
            <a:br>
              <a:rPr sz="1600"/>
            </a:b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days after inser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9840" y="1389240"/>
            <a:ext cx="452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Wingdings"/>
                <a:ea typeface="Wingdings"/>
              </a:rPr>
              <a:t>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840" y="1820880"/>
            <a:ext cx="455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Wingdings"/>
                <a:ea typeface="Wingdings"/>
              </a:rPr>
              <a:t>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9840" y="2259000"/>
            <a:ext cx="452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Wingdings"/>
                <a:ea typeface="Wingdings"/>
              </a:rPr>
              <a:t>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1440"/>
            <a:ext cx="9907560" cy="838440"/>
          </a:xfrm>
          <a:prstGeom prst="rect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What will happen when you get your IU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rot="2005200">
            <a:off x="4757400" y="158436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819680" y="237492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819680" y="307980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5877000"/>
            <a:ext cx="9909000" cy="981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es client understand IUD insertion procedure? Is she ready to choose metho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6320" y="5589720"/>
            <a:ext cx="1447560" cy="3045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Next Mov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189000" y="5400"/>
            <a:ext cx="1161360" cy="802440"/>
            <a:chOff x="189000" y="5400"/>
            <a:chExt cx="1161360" cy="802440"/>
          </a:xfrm>
        </p:grpSpPr>
        <p:sp>
          <p:nvSpPr>
            <p:cNvPr id="204" name=""/>
            <p:cNvSpPr/>
            <p:nvPr/>
          </p:nvSpPr>
          <p:spPr>
            <a:xfrm>
              <a:off x="189000" y="66600"/>
              <a:ext cx="1143000" cy="7174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91160" y="5400"/>
              <a:ext cx="115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Copper IU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6" name="" descr=""/>
            <p:cNvPicPr/>
            <p:nvPr/>
          </p:nvPicPr>
          <p:blipFill>
            <a:blip r:embed="rId1"/>
            <a:stretch/>
          </p:blipFill>
          <p:spPr>
            <a:xfrm>
              <a:off x="370080" y="263520"/>
              <a:ext cx="838080" cy="54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7" name=""/>
          <p:cNvGrpSpPr/>
          <p:nvPr/>
        </p:nvGrpSpPr>
        <p:grpSpPr>
          <a:xfrm>
            <a:off x="8437680" y="1019160"/>
            <a:ext cx="576000" cy="468360"/>
            <a:chOff x="8437680" y="1019160"/>
            <a:chExt cx="576000" cy="468360"/>
          </a:xfrm>
        </p:grpSpPr>
        <p:sp>
          <p:nvSpPr>
            <p:cNvPr id="208" name=""/>
            <p:cNvSpPr/>
            <p:nvPr/>
          </p:nvSpPr>
          <p:spPr>
            <a:xfrm>
              <a:off x="8437680" y="1019160"/>
              <a:ext cx="576000" cy="468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9" name="" descr=""/>
            <p:cNvPicPr/>
            <p:nvPr/>
          </p:nvPicPr>
          <p:blipFill>
            <a:blip r:embed="rId2"/>
            <a:stretch/>
          </p:blipFill>
          <p:spPr>
            <a:xfrm>
              <a:off x="8586720" y="1066680"/>
              <a:ext cx="288360" cy="384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0" name=""/>
          <p:cNvGrpSpPr/>
          <p:nvPr/>
        </p:nvGrpSpPr>
        <p:grpSpPr>
          <a:xfrm>
            <a:off x="9070920" y="1019160"/>
            <a:ext cx="576360" cy="468360"/>
            <a:chOff x="9070920" y="1019160"/>
            <a:chExt cx="576360" cy="468360"/>
          </a:xfrm>
        </p:grpSpPr>
        <p:sp>
          <p:nvSpPr>
            <p:cNvPr id="211" name=""/>
            <p:cNvSpPr/>
            <p:nvPr/>
          </p:nvSpPr>
          <p:spPr>
            <a:xfrm>
              <a:off x="9070920" y="1019160"/>
              <a:ext cx="576360" cy="468360"/>
            </a:xfrm>
            <a:prstGeom prst="rect">
              <a:avLst/>
            </a:prstGeom>
            <a:solidFill>
              <a:srgbClr val="a4acf4"/>
            </a:solid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2" name="" descr=""/>
            <p:cNvPicPr/>
            <p:nvPr/>
          </p:nvPicPr>
          <p:blipFill>
            <a:blip r:embed="rId3"/>
            <a:stretch/>
          </p:blipFill>
          <p:spPr>
            <a:xfrm>
              <a:off x="9267840" y="1116000"/>
              <a:ext cx="190440" cy="25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"/>
          <p:cNvSpPr/>
          <p:nvPr/>
        </p:nvSpPr>
        <p:spPr>
          <a:xfrm>
            <a:off x="5353200" y="3537000"/>
            <a:ext cx="4343400" cy="2052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ctr">
            <a:noAutofit/>
          </a:bodyPr>
          <a:p>
            <a:pPr marL="115920" indent="-11592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When to chec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spcBef>
                <a:spcPts val="1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 week in first mon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spcBef>
                <a:spcPts val="1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a menstrual period from time to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How to chec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spcBef>
                <a:spcPts val="1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h hands, sit in squatting position, insert a finger into vagina and feel for IUD strings at cervix. Don’t pull on the str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If unable to feel string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or strings feel longer or shorter, she should come back to the clinic. IUD may have been expelled, and she may need emergency contracep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0760" y="4756320"/>
            <a:ext cx="43434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fterwards: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can check your IUD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time to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20133000">
            <a:off x="4735080" y="472716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83e3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UD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9069480" y="5734080"/>
            <a:ext cx="576000" cy="468360"/>
            <a:chOff x="9069480" y="5734080"/>
            <a:chExt cx="576000" cy="468360"/>
          </a:xfrm>
        </p:grpSpPr>
        <p:sp>
          <p:nvSpPr>
            <p:cNvPr id="218" name=""/>
            <p:cNvSpPr/>
            <p:nvPr/>
          </p:nvSpPr>
          <p:spPr>
            <a:xfrm>
              <a:off x="9069480" y="573408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9" name="" descr=""/>
            <p:cNvPicPr/>
            <p:nvPr/>
          </p:nvPicPr>
          <p:blipFill>
            <a:blip r:embed="rId4"/>
            <a:stretch/>
          </p:blipFill>
          <p:spPr>
            <a:xfrm>
              <a:off x="9209160" y="585972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0" name="" descr=""/>
          <p:cNvPicPr/>
          <p:nvPr/>
        </p:nvPicPr>
        <p:blipFill>
          <a:blip r:embed="rId5"/>
          <a:stretch/>
        </p:blipFill>
        <p:spPr>
          <a:xfrm>
            <a:off x="-114480" y="5911920"/>
            <a:ext cx="1219320" cy="9460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990720" y="6202440"/>
            <a:ext cx="3962160" cy="596880"/>
          </a:xfrm>
          <a:prstGeom prst="downArrowCallout">
            <a:avLst>
              <a:gd name="adj1" fmla="val 663872"/>
              <a:gd name="adj2" fmla="val 331905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 she has decided to use metho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 to next pag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259240" y="6202440"/>
            <a:ext cx="3656160" cy="5144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 no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iscuss further or consider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 metho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0"/>
            <a:ext cx="9907560" cy="1332000"/>
          </a:xfrm>
          <a:prstGeom prst="rect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You may be able to get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your IUD no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" y="2060640"/>
            <a:ext cx="4724280" cy="19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Bef>
                <a:spcPts val="550"/>
              </a:spcBef>
              <a:spcAft>
                <a:spcPts val="1100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start any day of the menstrual cycle if we can be sure you aren’t pregn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550"/>
              </a:spcBef>
              <a:spcAft>
                <a:spcPts val="1100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UD can be inserted in first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 days after you give bir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23800" y="5157720"/>
            <a:ext cx="457200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3300"/>
                </a:solidFill>
                <a:latin typeface="Arial"/>
              </a:rPr>
              <a:t>Would you like to get </a:t>
            </a:r>
            <a:br>
              <a:rPr sz="1800"/>
            </a:br>
            <a:r>
              <a:rPr b="1" i="1" lang="en-GB" sz="1800" spc="-1" strike="noStrike">
                <a:solidFill>
                  <a:srgbClr val="ff3300"/>
                </a:solidFill>
                <a:latin typeface="Arial"/>
              </a:rPr>
              <a:t>your IUD now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371520" y="5380200"/>
            <a:ext cx="1447920" cy="11239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3342000">
            <a:off x="7709400" y="1835640"/>
            <a:ext cx="2057400" cy="1379520"/>
          </a:xfrm>
          <a:prstGeom prst="ellipse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5743440" y="3368520"/>
            <a:ext cx="3200400" cy="28688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 flipH="1">
            <a:off x="7346520" y="3240000"/>
            <a:ext cx="1219320" cy="129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8048520" y="1785960"/>
            <a:ext cx="113832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4572000" y="3328920"/>
            <a:ext cx="5181480" cy="690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ctr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After miscarriage or abor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95000"/>
              </a:lnSpc>
              <a:spcBef>
                <a:spcPts val="1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n insert immediately after abortion. If in the first 7 days after abortion, no extra protection is nee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440" y="1440"/>
            <a:ext cx="9904680" cy="838440"/>
          </a:xfrm>
          <a:prstGeom prst="rect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99"/>
                </a:solidFill>
                <a:latin typeface="Arial"/>
              </a:rPr>
              <a:t>    </a:t>
            </a:r>
            <a:r>
              <a:rPr b="1" lang="en-US" sz="3800" spc="-1" strike="noStrike">
                <a:solidFill>
                  <a:srgbClr val="66ff99"/>
                </a:solidFill>
                <a:latin typeface="Arial"/>
              </a:rPr>
              <a:t>     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You may be able to get your IUD now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86200" y="129384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5661000"/>
            <a:ext cx="9909000" cy="1197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s she ready to get her IUD now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6320" y="5524560"/>
            <a:ext cx="144756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Next Mov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05040" y="5978520"/>
            <a:ext cx="4190760" cy="857160"/>
          </a:xfrm>
          <a:prstGeom prst="downArrowCallout">
            <a:avLst>
              <a:gd name="adj1" fmla="val 488957"/>
              <a:gd name="adj2" fmla="val 244456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f she can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get her IUD now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epare for insertion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r arrange appointment for insertion as soon as possibl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672160" y="5978520"/>
            <a:ext cx="3700440" cy="5731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she must wait, offer condoms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another metho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38240" y="5400"/>
            <a:ext cx="1161360" cy="802440"/>
            <a:chOff x="138240" y="5400"/>
            <a:chExt cx="1161360" cy="802440"/>
          </a:xfrm>
        </p:grpSpPr>
        <p:sp>
          <p:nvSpPr>
            <p:cNvPr id="239" name=""/>
            <p:cNvSpPr/>
            <p:nvPr/>
          </p:nvSpPr>
          <p:spPr>
            <a:xfrm>
              <a:off x="138240" y="66600"/>
              <a:ext cx="1143000" cy="7174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40400" y="5400"/>
              <a:ext cx="115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Copper IU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1" name="" descr=""/>
            <p:cNvPicPr/>
            <p:nvPr/>
          </p:nvPicPr>
          <p:blipFill>
            <a:blip r:embed="rId1"/>
            <a:stretch/>
          </p:blipFill>
          <p:spPr>
            <a:xfrm>
              <a:off x="319320" y="263520"/>
              <a:ext cx="838080" cy="54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2" name=""/>
          <p:cNvSpPr/>
          <p:nvPr/>
        </p:nvSpPr>
        <p:spPr>
          <a:xfrm>
            <a:off x="57240" y="107784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Aft>
                <a:spcPts val="901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can start any day of the menstrual cycle if we can be sure you aren’t pregn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0" y="1006560"/>
            <a:ext cx="518148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If menstrual bleeding started in last 12 day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can insert IUD now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If menstrual bleeding started more than 12 days ag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can insert IUD now if reasonably certain she is not pregnant (use pregnancy checklis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n Appendix 1)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 need to wait for next menstrual perio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0" y="2043000"/>
            <a:ext cx="5181480" cy="1219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Insertion after childbirth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insert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thin 48 hou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fter birth. Special training need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also insert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fter 4 week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fter birth. Must be reasonably certain she is not pregna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ween 48 hours and 4 weeks after birth, delay insertion. Offer condoms or another method if she is not fully breastfee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0" y="4091040"/>
            <a:ext cx="51814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If switching from another metho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she has been using a reliable method correctly (including LAM) or has had no sex since last period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 can insert the IUD now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only during menstr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7240" y="242424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UD can be inserted in first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days after you give bir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250020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-114480" y="5911920"/>
            <a:ext cx="1219320" cy="9460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83e3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UD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76680" y="4998960"/>
            <a:ext cx="5181840" cy="576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ctr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If infe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insert after infection is fully treated and cured. Offer condoms or another method to use in the mean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8T09:29:07Z</dcterms:created>
  <dc:creator>JohnsonS</dc:creator>
  <dc:description/>
  <dc:language>en-US</dc:language>
  <cp:lastModifiedBy>Church</cp:lastModifiedBy>
  <cp:lastPrinted>2003-10-30T10:01:58Z</cp:lastPrinted>
  <dcterms:modified xsi:type="dcterms:W3CDTF">2005-09-16T14:52:31Z</dcterms:modified>
  <cp:revision>715</cp:revision>
  <dc:subject/>
  <dc:title>No Slide Title</dc:title>
</cp:coreProperties>
</file>