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sectomy for 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206280" y="939960"/>
            <a:ext cx="40388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surgical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876920" y="2338560"/>
            <a:ext cx="4876560" cy="1176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ually cannot be rever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lease consider carefully: Might you want more children in future? What if you could no longer father children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partner’s preferences or conc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lso consider female sterilization. Vasectomy is simpler and safer to perform and slightly more eff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876920" y="3602160"/>
            <a:ext cx="4876560" cy="66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effective family planning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ffective immediately. Must use condoms or partner must use an effective method for 3 months after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Would this be difficult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876920" y="5386320"/>
            <a:ext cx="48765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For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STI/HIV/AIDS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protection, also use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ould you like to know more about vasectomy, or talk about a different metho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client wants to know more about vasectomy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7080" y="5546880"/>
            <a:ext cx="144756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80040" y="1089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80040" y="35830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2076600">
            <a:off x="4239720" y="51271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80040" y="2332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06800">
            <a:off x="4251240" y="460512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4349880"/>
            <a:ext cx="4876560" cy="97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for concerns, rumours: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What have you heard about vasectomy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xplain common myth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stration. Can still have erections. Can still ejacul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affect masculinity. Does NOT make men more femin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94400">
            <a:off x="4280040" y="41752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9055080" y="4437000"/>
            <a:ext cx="576360" cy="468360"/>
            <a:chOff x="9055080" y="4437000"/>
            <a:chExt cx="576360" cy="468360"/>
          </a:xfrm>
        </p:grpSpPr>
        <p:sp>
          <p:nvSpPr>
            <p:cNvPr id="53" name=""/>
            <p:cNvSpPr/>
            <p:nvPr/>
          </p:nvSpPr>
          <p:spPr>
            <a:xfrm>
              <a:off x="9055080" y="4437000"/>
              <a:ext cx="5763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9204480" y="4484520"/>
              <a:ext cx="2887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5778360"/>
            <a:ext cx="855720" cy="1079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6280" y="2197080"/>
            <a:ext cx="40388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anent. For men wh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not want more child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6280" y="3359160"/>
            <a:ext cx="40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eff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" y="3887640"/>
            <a:ext cx="2008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a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6280" y="4300560"/>
            <a:ext cx="33051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ffect on sexual 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6280" y="4956120"/>
            <a:ext cx="4038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otection against STIs or HIV/A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9800" y="922320"/>
            <a:ext cx="4876920" cy="1339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bout vasectom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by keeping sperm out of semen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ubes that carry sperm are cu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ocedure man stays awake and gets injection to prevent pain (local anaesthetic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can go home in a few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urt for a few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9920" y="18000"/>
            <a:ext cx="1143000" cy="766080"/>
            <a:chOff x="169920" y="18000"/>
            <a:chExt cx="1143000" cy="766080"/>
          </a:xfrm>
        </p:grpSpPr>
        <p:sp>
          <p:nvSpPr>
            <p:cNvPr id="64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9920" y="1800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asectom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457200" y="246240"/>
              <a:ext cx="515880" cy="53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5340240" y="6143760"/>
            <a:ext cx="396108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 discuss another method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a new method tab or to Choosing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872400"/>
            <a:ext cx="1353960" cy="4381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asec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 rot="20988600">
            <a:off x="5168520" y="2320560"/>
            <a:ext cx="4722840" cy="31021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791320" y="2259000"/>
            <a:ext cx="3697200" cy="3330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1440"/>
            <a:ext cx="990432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emale Steriliz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7320" y="1219320"/>
            <a:ext cx="5759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urgical proced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mb is NOT removed. You will still have menstrual perio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man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women who will not want more child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ffe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saf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long-term side-eff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protection against STIs or HIV/AI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155440" y="1153800"/>
            <a:ext cx="153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Tubes </a:t>
            </a:r>
            <a:br>
              <a:rPr sz="2000"/>
            </a:b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blocked or </a:t>
            </a:r>
            <a:br>
              <a:rPr sz="2000"/>
            </a:b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cut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183080" y="2057400"/>
            <a:ext cx="1655640" cy="13716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8119800" y="2057400"/>
            <a:ext cx="718920" cy="13716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5315040"/>
            <a:ext cx="533376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o you want to know more about this method, or talk about a different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33520" y="5657760"/>
            <a:ext cx="1447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21522600">
            <a:off x="3466800" y="1352160"/>
            <a:ext cx="5143320" cy="19335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20176200">
            <a:off x="5257440" y="4289400"/>
            <a:ext cx="2593800" cy="18828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en you can have vasectom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3505320"/>
            <a:ext cx="4800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28600" indent="-228600"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But may need to wait i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y problems with genitals such as infection, swelling, injuries, lumps in penis or scrot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other serious conditions or infe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550880"/>
            <a:ext cx="327672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Most men can have vasectomy at any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790800" y="1504800"/>
            <a:ext cx="4553280" cy="2152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46920" y="4076640"/>
            <a:ext cx="11365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-1440"/>
            <a:ext cx="9907560" cy="838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you can have vasect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289548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0840" y="1341360"/>
            <a:ext cx="4800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st men can have vasectomy at any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2590920"/>
            <a:ext cx="426744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Del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until problem resolved) if STI; inflammation of tip of penis, sperm ducts, testicles; scrotal skin infection or mass in scrotum. Refer for care of these condi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Refer or cau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problems with genitals.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1604880"/>
            <a:ext cx="42674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No conditions rule out vasectomy, but some require delay, referral, or special ca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029200" y="3428640"/>
            <a:ext cx="2286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3781440"/>
            <a:ext cx="4267440" cy="159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Del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ntil problem resolved) if acute systemic infection or serious gastroenterit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Ref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f current AIDS-related illness or coagulation disorders. Pro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ure should be done by experienced surgeon and in well-equipped facil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au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betes. Procedure can still be done but check carefully for wound infections after proced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7080" y="28670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07080" y="39625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881680"/>
            <a:ext cx="9906120" cy="987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38720" y="6019920"/>
            <a:ext cx="3981600" cy="620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f client is unable to have vasectomy now or in this facility,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refer as nee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019920"/>
            <a:ext cx="4197600" cy="825480"/>
          </a:xfrm>
          <a:prstGeom prst="downArrowCallout">
            <a:avLst>
              <a:gd name="adj1" fmla="val 508551"/>
              <a:gd name="adj2" fmla="val 25425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f client is able to have vasectomy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080" y="563868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0840" y="2060640"/>
            <a:ext cx="4800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ut may need to wait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0840" y="2781360"/>
            <a:ext cx="4800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problems with genitals such as infection, swelling, injuries, lumps in penis or scrotu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0840" y="3860640"/>
            <a:ext cx="4800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ther serious condi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inf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69920" y="18000"/>
            <a:ext cx="1143000" cy="766080"/>
            <a:chOff x="169920" y="18000"/>
            <a:chExt cx="1143000" cy="766080"/>
          </a:xfrm>
        </p:grpSpPr>
        <p:sp>
          <p:nvSpPr>
            <p:cNvPr id="94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9920" y="1800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asectom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457200" y="246240"/>
              <a:ext cx="515880" cy="53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efore you dec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833480"/>
            <a:ext cx="510516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Let’s discus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orary methods are also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sectomy is a surgical proced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risks and benef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vents having any more childr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manent—decision should be carefully consid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decide agains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cedure any time before surg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56160" y="5013360"/>
            <a:ext cx="4353120" cy="1600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re you ready to choose this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Want to know more about the procedu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21522000">
            <a:off x="5407200" y="1909800"/>
            <a:ext cx="4189320" cy="2281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22880" y="5388120"/>
            <a:ext cx="1103400" cy="1390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643720" y="2205000"/>
            <a:ext cx="396216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fore you dec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5520" y="90792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14480" indent="-114480">
              <a:lnSpc>
                <a:spcPct val="13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t’s discu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99000" y="936720"/>
            <a:ext cx="426420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Explai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client underst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Discuss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uch a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Confi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client understands each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99000" y="2543040"/>
            <a:ext cx="4264200" cy="1749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R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ical complications are uncommon. They include bleeding or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ew men report pain in scrotum that lasts for months or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quick procedure leads to lifelong, safe, and effective family pla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known long-term health r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99000" y="4941720"/>
            <a:ext cx="426420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ill not lose rights to other medical, health or other services or benef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99000" y="2185920"/>
            <a:ext cx="426420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next page for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99000" y="4368960"/>
            <a:ext cx="4264200" cy="47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be very sure he will want no mor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not be suitable for younger cl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638680"/>
            <a:ext cx="9906120" cy="1219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sure client understands all points, then ask what he has deci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760" y="544500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5985000"/>
            <a:ext cx="4267080" cy="841320"/>
          </a:xfrm>
          <a:prstGeom prst="downArrowCallout">
            <a:avLst>
              <a:gd name="adj1" fmla="val 507235"/>
              <a:gd name="adj2" fmla="val 253594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client understands and wants vasectomy,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in consent for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if any) and ask him to sig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5985000"/>
            <a:ext cx="3886200" cy="65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he decides against vasectomy, help him choose another meth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7080" y="29415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746000">
            <a:off x="4800240" y="3789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7080" y="48988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5520" y="151920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ry methods are also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5520" y="2041560"/>
            <a:ext cx="411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sectomy is a surgical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5520" y="2622600"/>
            <a:ext cx="4114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risks and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5520" y="35002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s having any more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5520" y="4091040"/>
            <a:ext cx="479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anent—decision should b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efully consi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5520" y="47671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decide against procedure any time before surg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7080" y="21891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457400">
            <a:off x="4806720" y="4348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99440" y="5475240"/>
            <a:ext cx="576360" cy="468360"/>
            <a:chOff x="9199440" y="5475240"/>
            <a:chExt cx="576360" cy="468360"/>
          </a:xfrm>
        </p:grpSpPr>
        <p:sp>
          <p:nvSpPr>
            <p:cNvPr id="126" name=""/>
            <p:cNvSpPr/>
            <p:nvPr/>
          </p:nvSpPr>
          <p:spPr>
            <a:xfrm>
              <a:off x="9199440" y="5475240"/>
              <a:ext cx="576360" cy="46836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9396360" y="5572080"/>
              <a:ext cx="19044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85572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8526600" y="5473800"/>
            <a:ext cx="576000" cy="468360"/>
            <a:chOff x="8526600" y="5473800"/>
            <a:chExt cx="576000" cy="468360"/>
          </a:xfrm>
        </p:grpSpPr>
        <p:sp>
          <p:nvSpPr>
            <p:cNvPr id="131" name=""/>
            <p:cNvSpPr/>
            <p:nvPr/>
          </p:nvSpPr>
          <p:spPr>
            <a:xfrm>
              <a:off x="8526600" y="54738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8666280" y="55994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8940960" y="1052640"/>
            <a:ext cx="576000" cy="468360"/>
            <a:chOff x="8940960" y="1052640"/>
            <a:chExt cx="576000" cy="468360"/>
          </a:xfrm>
        </p:grpSpPr>
        <p:sp>
          <p:nvSpPr>
            <p:cNvPr id="134" name=""/>
            <p:cNvSpPr/>
            <p:nvPr/>
          </p:nvSpPr>
          <p:spPr>
            <a:xfrm>
              <a:off x="8940960" y="10526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9080640" y="11782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169920" y="18000"/>
            <a:ext cx="1143000" cy="766080"/>
            <a:chOff x="169920" y="18000"/>
            <a:chExt cx="1143000" cy="766080"/>
          </a:xfrm>
        </p:grpSpPr>
        <p:sp>
          <p:nvSpPr>
            <p:cNvPr id="137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9920" y="1800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asectom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5"/>
            <a:stretch/>
          </p:blipFill>
          <p:spPr>
            <a:xfrm>
              <a:off x="457200" y="246240"/>
              <a:ext cx="515880" cy="53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"/>
          <p:cNvSpPr/>
          <p:nvPr/>
        </p:nvSpPr>
        <p:spPr>
          <a:xfrm>
            <a:off x="5504040" y="1801800"/>
            <a:ext cx="426384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condoms and available methods for wo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7080" y="17575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48240" y="1684440"/>
            <a:ext cx="3362400" cy="2550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952880" y="5638680"/>
            <a:ext cx="1594080" cy="10670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proced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89548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143000"/>
            <a:ext cx="57913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91960" indent="-2919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will stay awake and get medication to stop p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 opening made in scrotum </a:t>
            </a:r>
            <a:br>
              <a:rPr sz="2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painfu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ubes that carry sperm are cut and t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ening is clo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Rest 15 to 30 minu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5486400"/>
            <a:ext cx="2286000" cy="1219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What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do you hav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55720" y="4950720"/>
            <a:ext cx="246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or 1 opening ma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145760"/>
            <a:ext cx="163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Either 2 openings made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858000" y="3047760"/>
            <a:ext cx="304920" cy="1143000"/>
          </a:xfrm>
          <a:prstGeom prst="line">
            <a:avLst/>
          </a:prstGeom>
          <a:ln cap="rnd" w="1260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010280" y="3047760"/>
            <a:ext cx="609840" cy="1143000"/>
          </a:xfrm>
          <a:prstGeom prst="line">
            <a:avLst/>
          </a:prstGeom>
          <a:ln cap="rnd" w="1260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8381880" y="3580920"/>
            <a:ext cx="76320" cy="1295640"/>
          </a:xfrm>
          <a:prstGeom prst="line">
            <a:avLst/>
          </a:prstGeom>
          <a:ln cap="rnd" w="1260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4495680"/>
            <a:ext cx="5562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Afterward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should rest for 2 d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oid heavy work for a few d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Important!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condoms for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xt 3 mont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952880" y="5715000"/>
            <a:ext cx="198144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638680"/>
            <a:ext cx="9909000" cy="1219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oes client understand surgical procedure and feel confident to continu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936720"/>
            <a:ext cx="4267080" cy="12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Arial"/>
              </a:rPr>
              <a:t>Describe the steps in vasectomy procedure. Expl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ectomy can be done in a clinic or office with proper infection-prevention procedures. It does not always have to be done in hosp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, the whole procedure can take less than 30 minutes.</a:t>
            </a:r>
            <a:r>
              <a:rPr b="0" lang="en-US" sz="12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2406600"/>
            <a:ext cx="426708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local anaesthe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et more pain medication if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incision or no-scalpel pun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titches will be used, mentio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7160" y="950760"/>
            <a:ext cx="47242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91960" indent="-29196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will stay awake and ge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tion to stop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mall opening made in scrotum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not painf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bes that carry sperm are cu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pening is 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t 15 to 30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5384880"/>
            <a:ext cx="144756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065800">
            <a:off x="4849560" y="2565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915400" y="2529000"/>
            <a:ext cx="576360" cy="468360"/>
            <a:chOff x="8915400" y="2529000"/>
            <a:chExt cx="576360" cy="468360"/>
          </a:xfrm>
        </p:grpSpPr>
        <p:sp>
          <p:nvSpPr>
            <p:cNvPr id="163" name=""/>
            <p:cNvSpPr/>
            <p:nvPr/>
          </p:nvSpPr>
          <p:spPr>
            <a:xfrm>
              <a:off x="8915400" y="2529000"/>
              <a:ext cx="576360" cy="46836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9112320" y="2625840"/>
              <a:ext cx="19044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609480" y="5956200"/>
            <a:ext cx="4343400" cy="878040"/>
          </a:xfrm>
          <a:prstGeom prst="downArrowCallout">
            <a:avLst>
              <a:gd name="adj1" fmla="val 494715"/>
              <a:gd name="adj2" fmla="val 247334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procedure will be done now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xt pag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 advise client on what he must remember after surge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5943600"/>
            <a:ext cx="3962520" cy="708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rocedure planned for another day, arrange a convenient time for client to retur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er condoms to use in the meant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616600">
            <a:off x="4764240" y="1611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7160" y="3579840"/>
            <a:ext cx="4647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fterwar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hould rest for 2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 heavy work for a few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mportant!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condoms for next 3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4221000"/>
            <a:ext cx="4267080" cy="108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sperm will still be in the tubes, he must use condoms or his partner must use another effective family planning method for the next 3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should continue with usual sexual activity during this time to clear the tubes of sp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21120" y="47242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38200">
            <a:off x="4843080" y="3124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8696160" y="5487840"/>
            <a:ext cx="576000" cy="468360"/>
            <a:chOff x="8696160" y="5487840"/>
            <a:chExt cx="576000" cy="468360"/>
          </a:xfrm>
        </p:grpSpPr>
        <p:sp>
          <p:nvSpPr>
            <p:cNvPr id="174" name=""/>
            <p:cNvSpPr/>
            <p:nvPr/>
          </p:nvSpPr>
          <p:spPr>
            <a:xfrm>
              <a:off x="8696160" y="54878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8835840" y="56134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169920" y="18000"/>
            <a:ext cx="1143000" cy="766080"/>
            <a:chOff x="169920" y="18000"/>
            <a:chExt cx="1143000" cy="766080"/>
          </a:xfrm>
        </p:grpSpPr>
        <p:sp>
          <p:nvSpPr>
            <p:cNvPr id="177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9920" y="1800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asectom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457200" y="246240"/>
              <a:ext cx="515880" cy="53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rot="20647800">
            <a:off x="7566120" y="3664080"/>
            <a:ext cx="2057400" cy="18619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dical reasons to retu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89548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360" y="1989000"/>
            <a:ext cx="5029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ome at once i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lling in first few hours after surg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ver in first 3 d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s or bleeding from w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in, heat, redness of w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238880" y="3911760"/>
            <a:ext cx="2286000" cy="1909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rot="20176200">
            <a:off x="5167080" y="1697040"/>
            <a:ext cx="2593800" cy="18828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784840" y="1484280"/>
            <a:ext cx="13082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729400"/>
            <a:ext cx="9909000" cy="113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cal reasons to retu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272088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57680" y="2273400"/>
            <a:ext cx="411480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8°C in first 4 weeks (and especially in first 3 day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ever develops early, it can be serious. May require surgical drainage of wound s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57680" y="3387600"/>
            <a:ext cx="4114800" cy="424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worse or does not stop? Signs of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7600" y="1197000"/>
            <a:ext cx="457200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me at once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elling in first few hours after surg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ver in first 3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 or bleeding from w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in, heat, redness of w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4040" y="5853240"/>
            <a:ext cx="8461080" cy="96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 you feel happy with your choice of method? Is there anything I can repeat or explain?”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3399"/>
                </a:solidFill>
                <a:latin typeface="Arial"/>
              </a:rPr>
              <a:t>Remember to offer condoms for dual protection!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Last, most important message: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Use condoms or another method for 3 months after the procedure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5516640"/>
            <a:ext cx="1676160" cy="288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Last Mov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449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0440" y="2492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381960" y="64785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8421840" y="6200640"/>
            <a:ext cx="576000" cy="468360"/>
            <a:chOff x="8421840" y="6200640"/>
            <a:chExt cx="576000" cy="468360"/>
          </a:xfrm>
        </p:grpSpPr>
        <p:sp>
          <p:nvSpPr>
            <p:cNvPr id="199" name=""/>
            <p:cNvSpPr/>
            <p:nvPr/>
          </p:nvSpPr>
          <p:spPr>
            <a:xfrm>
              <a:off x="8421840" y="62006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8561520" y="63262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"/>
          <p:cNvGrpSpPr/>
          <p:nvPr/>
        </p:nvGrpSpPr>
        <p:grpSpPr>
          <a:xfrm>
            <a:off x="169920" y="18000"/>
            <a:ext cx="1143000" cy="766080"/>
            <a:chOff x="169920" y="18000"/>
            <a:chExt cx="1143000" cy="766080"/>
          </a:xfrm>
        </p:grpSpPr>
        <p:sp>
          <p:nvSpPr>
            <p:cNvPr id="202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9920" y="1800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asectom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457200" y="246240"/>
              <a:ext cx="515880" cy="53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Church</cp:lastModifiedBy>
  <cp:lastPrinted>2002-06-07T13:50:25Z</cp:lastPrinted>
  <dcterms:modified xsi:type="dcterms:W3CDTF">2005-09-16T14:47:20Z</dcterms:modified>
  <cp:revision>880</cp:revision>
  <dc:subject/>
  <dc:title>No Slide Title</dc:title>
</cp:coreProperties>
</file>