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2731-9E68-4910-B974-169126B59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DA81-F4B6-4E74-B72E-AA6865E8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FA30-6FCE-4E39-986F-13C8EE06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38B6-50EE-4C16-981C-C7173E38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712B-9C9E-4BB7-A769-199094C5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CA2F-BF72-48CA-83E0-06ABCCA0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1119-8966-47AC-AC27-481CFB86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7516-F10F-4C9B-9EF3-302C8665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DB6A-06AB-48E3-A1D6-F0196BD7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DC22-EB40-4BAF-B611-C56061FE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F943F-51B2-4D74-9954-FA0FAB83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2B32-7B62-4B31-BC0A-8A274D2C9F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2"/>
          </p:nvPr>
        </p:nvSpPr>
        <p:spPr>
          <a:xfrm>
            <a:off x="769572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0BC2-A999-42EE-A87C-F0808798E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259240" y="2484720"/>
            <a:ext cx="41166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97560" y="2405160"/>
            <a:ext cx="5205240" cy="42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Very effective with nothing to remember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up to 7 years.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Are you looking for a method that is easy to use effectively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9000" y="5141880"/>
            <a:ext cx="5205240" cy="30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Side-effects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page I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99000" y="5502240"/>
            <a:ext cx="5205240" cy="316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For STI/HIV/AIDS protection, also use cond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rplant Im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3840" y="1168560"/>
            <a:ext cx="426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small plastic tubes plac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skin of upper 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7560" y="2881440"/>
            <a:ext cx="5205240" cy="806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vy women may need them removed after 4 or 5 years (see page IM4). Another set of capsules can be inserted if client wants to continue using impl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get pregnant soon after capsules are taken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8816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ould you like to know more about implants, or talk about a different method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client wants to know more abou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ant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7080" y="56149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320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7280" y="24462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003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67280" y="29941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114800">
            <a:off x="4066920" y="5355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3840" y="2395440"/>
            <a:ext cx="322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3840" y="295740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up to 7 years, depending on your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3840" y="3946680"/>
            <a:ext cx="2505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a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3840" y="4619520"/>
            <a:ext cx="4064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change monthly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3840" y="5013360"/>
            <a:ext cx="4267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1080" y="14760"/>
            <a:ext cx="1143000" cy="762840"/>
            <a:chOff x="181080" y="14760"/>
            <a:chExt cx="1143000" cy="762840"/>
          </a:xfrm>
        </p:grpSpPr>
        <p:sp>
          <p:nvSpPr>
            <p:cNvPr id="135" name=""/>
            <p:cNvSpPr/>
            <p:nvPr/>
          </p:nvSpPr>
          <p:spPr>
            <a:xfrm>
              <a:off x="181080" y="3312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280" y="1476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93920" y="22860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-127080" y="5925960"/>
            <a:ext cx="1219320" cy="946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1114800">
            <a:off x="4066920" y="4952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97560" y="3746520"/>
            <a:ext cx="5203800" cy="13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lants are not harmful for health. They do not bother her or affect strength. For breastfeeding women, they do not affect the quality of breastmi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Check for concerns, rumours:</a:t>
            </a:r>
            <a:r>
              <a:rPr b="0" lang="en-GB" sz="12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What have you heard about implants?”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Explain common myths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sules do not brea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ody. They are bendable. (Also see Appendix 10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92520" y="923760"/>
            <a:ext cx="5203800" cy="1425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About Norplant impla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 progestogen but not estrogen horm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mainly by thickening the cervical mucus and by stopping ovul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Appendices 4 &amp; 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ft capsules that are just visible under the skin. Do not leave noticeable scar if inserted and removed correc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ed and removed by trained personnel in simple surgical procedure.</a:t>
            </a: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56520" y="4286160"/>
            <a:ext cx="576360" cy="468360"/>
            <a:chOff x="9056520" y="4286160"/>
            <a:chExt cx="576360" cy="468360"/>
          </a:xfrm>
        </p:grpSpPr>
        <p:sp>
          <p:nvSpPr>
            <p:cNvPr id="144" name=""/>
            <p:cNvSpPr/>
            <p:nvPr/>
          </p:nvSpPr>
          <p:spPr>
            <a:xfrm>
              <a:off x="9056520" y="428616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9205920" y="433368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5340240" y="6143760"/>
            <a:ext cx="396108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 discuss another method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a new method tab or to Choosing Method ta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7400" y="6864480"/>
            <a:ext cx="1354320" cy="438120"/>
          </a:xfrm>
          <a:prstGeom prst="rect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m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at to reme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1523880"/>
            <a:ext cx="4876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28600" indent="-22860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e back when it is time to have the implants remo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29240" y="1994040"/>
            <a:ext cx="4224240" cy="453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3680" indent="-1936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See a nurse or doctor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520" y="1332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977240" y="5976720"/>
            <a:ext cx="12952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Yellow skin or 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80360" y="2689920"/>
            <a:ext cx="16257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y be pregnant, especially if pain or soreness in be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77040" y="5415840"/>
            <a:ext cx="16002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nusually heavy or long blee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676840" y="4869000"/>
            <a:ext cx="719280" cy="15303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761240" y="2565360"/>
            <a:ext cx="635040" cy="1100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977240" y="4221000"/>
            <a:ext cx="1928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fection or continued pain in the insertion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5257800"/>
            <a:ext cx="3657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Anything else I can repeat or explain? </a:t>
            </a:r>
            <a:br>
              <a:rPr sz="1800"/>
            </a:b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Any other questi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4080" y="2666880"/>
            <a:ext cx="464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de-effects are common but rarely harmful. Come back if they bother yo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3924360"/>
            <a:ext cx="4648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me back any time if you have problems or want implants remo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6665760" y="3932280"/>
            <a:ext cx="1354320" cy="1122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8408880" y="5084640"/>
            <a:ext cx="644760" cy="863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600880" y="2689920"/>
            <a:ext cx="12045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 bright spot in your vision before bad headach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6537240" y="2376360"/>
            <a:ext cx="8571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hat to re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57960" y="952560"/>
            <a:ext cx="4248000" cy="17557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men under 70 k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back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 y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If a woman gains much weight, she should come back soo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man 70 to 79 k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back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y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man 80 kg or mor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back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y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is time all women can have their implants replaced or choose a new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possible, give client a durable card that states date of insertion and date (with month) when she should re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7294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9560" y="5853240"/>
            <a:ext cx="861048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 you feel confident you can use this method successfully? Is there anything I can repeat or explain?”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3399"/>
                </a:solidFill>
                <a:latin typeface="Arial"/>
                <a:ea typeface="Arial"/>
              </a:rPr>
              <a:t>Remember to offer condoms for dual protection!</a:t>
            </a:r>
            <a:r>
              <a:rPr b="1" i="1" lang="en-US" sz="1400" spc="-1" strike="noStrike">
                <a:solidFill>
                  <a:srgbClr val="ff3399"/>
                </a:solidFill>
                <a:latin typeface="Arial"/>
                <a:ea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Last, most important message: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Please come back any time you have questions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want to have implants removed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4760" y="5530680"/>
            <a:ext cx="182880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Last Move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34434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2880" y="981000"/>
            <a:ext cx="464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9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78440" y="1311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25280" y="43200"/>
            <a:ext cx="1143000" cy="762840"/>
            <a:chOff x="125280" y="43200"/>
            <a:chExt cx="1143000" cy="762840"/>
          </a:xfrm>
        </p:grpSpPr>
        <p:sp>
          <p:nvSpPr>
            <p:cNvPr id="313" name=""/>
            <p:cNvSpPr/>
            <p:nvPr/>
          </p:nvSpPr>
          <p:spPr>
            <a:xfrm>
              <a:off x="12528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1480" y="4320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438120" y="25704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128520" y="3267000"/>
            <a:ext cx="4537080" cy="2047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e a nurse or doctor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 bright spot in your vision before bad headaches (migraine a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y be pregnant, especially if pain or soreness in be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fection or continued pain in the insertion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nusually heavy or long blee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95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Yellow skin or e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57960" y="3459240"/>
            <a:ext cx="4260600" cy="106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3300"/>
                </a:solidFill>
                <a:latin typeface="Arial"/>
                <a:ea typeface="Arial"/>
              </a:rPr>
              <a:t>Return Sig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 many cases these signs are not related to the implants. But a doctor or nurse needs to check if a serious problem is developing and if you can continue using implant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 want you to know about them and remember them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5157720"/>
            <a:ext cx="423216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f another health care provider asks about her medications, she should mention the im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8596440" y="6165720"/>
            <a:ext cx="576000" cy="468360"/>
            <a:chOff x="8596440" y="6165720"/>
            <a:chExt cx="576000" cy="468360"/>
          </a:xfrm>
        </p:grpSpPr>
        <p:sp>
          <p:nvSpPr>
            <p:cNvPr id="321" name=""/>
            <p:cNvSpPr/>
            <p:nvPr/>
          </p:nvSpPr>
          <p:spPr>
            <a:xfrm>
              <a:off x="8596440" y="61657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8736120" y="62913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5460840" y="4606920"/>
            <a:ext cx="42451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that is more than 8 days long or twice as heavy as us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5800" y="1484280"/>
            <a:ext cx="41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0160" y="10969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e back when it is time to have the implants rem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2852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57960" y="2790720"/>
            <a:ext cx="424800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client that implants can be remov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 ti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0160" y="1887480"/>
            <a:ext cx="504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de-effects are common but rarely harmful. Come back if they bothe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00160" y="2478240"/>
            <a:ext cx="468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e back any time if you have problems or want implants rem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47228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 rot="20498400">
            <a:off x="5168880" y="2053800"/>
            <a:ext cx="4722840" cy="31021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0160" y="1025640"/>
            <a:ext cx="5832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ple surgical proced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manent. For men who will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want more childre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saf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effect on sexual 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protection against STIs or HIV/AI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440"/>
            <a:ext cx="991080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asectomy for M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5238720"/>
            <a:ext cx="533412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Do you want to know more about this method, or talk about a different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33520" y="5467320"/>
            <a:ext cx="1103040" cy="1390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8467560" y="55267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ubes </a:t>
            </a:r>
            <a:br>
              <a:rPr sz="2000"/>
            </a:b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cut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9240" y="1900080"/>
            <a:ext cx="3676680" cy="3760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flipH="1" flipV="1">
            <a:off x="7400880" y="4292280"/>
            <a:ext cx="1873440" cy="1152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997360"/>
            <a:ext cx="52578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414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But usually cannot use implants i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ho can and cannot use implant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420920"/>
            <a:ext cx="35812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Most women can safely use impl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5713200"/>
            <a:ext cx="237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stfeed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week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573336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g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18080" y="5513400"/>
            <a:ext cx="28195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110000"/>
              </a:lnSpc>
              <a:spcBef>
                <a:spcPts val="249"/>
              </a:spcBef>
              <a:spcAft>
                <a:spcPts val="37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other serious health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1522600">
            <a:off x="3352320" y="1268280"/>
            <a:ext cx="5143680" cy="19335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766000">
            <a:off x="3365280" y="3987720"/>
            <a:ext cx="1523880" cy="11145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728880" y="4064040"/>
            <a:ext cx="855720" cy="1481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657600" y="1344600"/>
            <a:ext cx="4419720" cy="1881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20766000">
            <a:off x="5943240" y="4236840"/>
            <a:ext cx="1676520" cy="1130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225400">
            <a:off x="819360" y="3835080"/>
            <a:ext cx="1280880" cy="1535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14400" y="4013280"/>
            <a:ext cx="1085760" cy="1625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278400" y="4351320"/>
            <a:ext cx="9432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9440" y="1844640"/>
            <a:ext cx="4267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stfeeding 6 weeks or 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48200" y="1219320"/>
            <a:ext cx="47275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e can find out if Norplant implants are safe for you. Usually, women with any of these conditions should use another meth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can and cannot use im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8200" y="1974960"/>
            <a:ext cx="4727520" cy="446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her to come back when baby is 6 weeks old. Urge her to keep breastfee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50080"/>
            <a:ext cx="9906120" cy="91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02120" y="6095880"/>
            <a:ext cx="4372200" cy="6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is unable to use implants: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er choose another meth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2760" y="6091200"/>
            <a:ext cx="3886200" cy="725400"/>
          </a:xfrm>
          <a:prstGeom prst="downArrowCallout">
            <a:avLst>
              <a:gd name="adj1" fmla="val 535782"/>
              <a:gd name="adj2" fmla="val 26786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 is able to use implants: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7080" y="571968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51240" y="26496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32160" y="20397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48200" y="2655720"/>
            <a:ext cx="4724280" cy="51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 doubt, use pregnancy checklist in Appendix 1 or perform pregnancy te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54080" y="27360"/>
            <a:ext cx="1143000" cy="762840"/>
            <a:chOff x="154080" y="27360"/>
            <a:chExt cx="1143000" cy="762840"/>
          </a:xfrm>
        </p:grpSpPr>
        <p:sp>
          <p:nvSpPr>
            <p:cNvPr id="174" name=""/>
            <p:cNvSpPr/>
            <p:nvPr/>
          </p:nvSpPr>
          <p:spPr>
            <a:xfrm>
              <a:off x="154080" y="4572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0280" y="2736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466920" y="24120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109440" y="1152360"/>
            <a:ext cx="42674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788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st women can safely use implants.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ut usually cannot use implants i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4440" y="3746520"/>
            <a:ext cx="37720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Usually cannot use with any of these serious health conditions </a:t>
            </a:r>
            <a:br>
              <a:rPr sz="1400"/>
            </a:b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(if in doubt, check handbook or ref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8520" y="314172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ther serious health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3427560"/>
            <a:ext cx="4726080" cy="194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2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lood clot in lungs or deep in legs. Women wit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erficial clots (including varicose veins) CAN use im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2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 had breast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2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explained vaginal bleeding: if the bleeding suggests a serious condition, help her choose a method without hormones to use until unusual bleeding is ass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2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 liver disease or jaundice (yellow skin or ey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spcAft>
                <a:spcPts val="524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pills for tuberculosis (TB), fungal infections, or seizures (fi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46560" y="3700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9440" y="2606760"/>
            <a:ext cx="4267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ssible side-effe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0766000">
            <a:off x="5505480" y="2249280"/>
            <a:ext cx="1447920" cy="106668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13240" y="2492280"/>
            <a:ext cx="1949400" cy="1254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8600" y="2138400"/>
            <a:ext cx="4000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689"/>
              </a:spcBef>
              <a:spcAft>
                <a:spcPts val="13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Very common: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spotting or ble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281400"/>
            <a:ext cx="5638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689"/>
              </a:spcBef>
              <a:spcAft>
                <a:spcPts val="13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mo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rregular bleeding, no monthly blee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043520"/>
            <a:ext cx="563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689"/>
              </a:spcBef>
              <a:spcAft>
                <a:spcPts val="13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Less common: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me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45160" y="4869000"/>
            <a:ext cx="3081600" cy="130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How would you feel about these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side-effec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105600" y="5373720"/>
            <a:ext cx="1447560" cy="1123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2760" y="1211400"/>
            <a:ext cx="970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If you choose this method, you may have some side-effects. </a:t>
            </a:r>
            <a:br>
              <a:rPr sz="2200"/>
            </a:b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They are not usually signs of illn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305240" y="2590920"/>
            <a:ext cx="5475240" cy="86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mportant to explain menstrual chang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cted and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norrhoea (no monthly bleeding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oes not permanently affect fertility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rely a sign of pregnanc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plain that blood does not build up insid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side-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es client understand side-effects? Is she happy to u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080" y="5575320"/>
            <a:ext cx="144756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614376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so,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614376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 further or consid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00440" y="19620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82520" y="29160"/>
            <a:ext cx="1143000" cy="762840"/>
            <a:chOff x="182520" y="29160"/>
            <a:chExt cx="1143000" cy="762840"/>
          </a:xfrm>
        </p:grpSpPr>
        <p:sp>
          <p:nvSpPr>
            <p:cNvPr id="201" name=""/>
            <p:cNvSpPr/>
            <p:nvPr/>
          </p:nvSpPr>
          <p:spPr>
            <a:xfrm>
              <a:off x="182520" y="4752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8720" y="2916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495360" y="24300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97560" y="129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05240" y="936720"/>
            <a:ext cx="5475240" cy="15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t can take time for the body to adjus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people have different reactions to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Discu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f these side-effects happened to you, what would </a:t>
            </a:r>
            <a:br>
              <a:rPr sz="1200"/>
            </a:b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you think or feel about it?”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would it mean to you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What would you d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uss an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mours or concer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See Appendix 10 on myth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05240" y="3559320"/>
            <a:ext cx="5475240" cy="122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Less common side-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aches, lower abdominal pain, dizziness, breast tenderness, upset stomach (nausea), nervous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take paracetamol or ibuprofen for heada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Rare side-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ne or rash, change in appetite, weight gain, hair loss or more hair on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8962560" y="1693800"/>
            <a:ext cx="597240" cy="468360"/>
            <a:chOff x="8962560" y="1693800"/>
            <a:chExt cx="597240" cy="468360"/>
          </a:xfrm>
        </p:grpSpPr>
        <p:sp>
          <p:nvSpPr>
            <p:cNvPr id="210" name=""/>
            <p:cNvSpPr/>
            <p:nvPr/>
          </p:nvSpPr>
          <p:spPr>
            <a:xfrm flipH="1">
              <a:off x="8962200" y="169380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8977320" y="170208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4303800" y="4869000"/>
            <a:ext cx="5475240" cy="82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te client to return for help any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t is okay to switch methods any time. Please come back if you want the implants taken ou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dealing with side-effects, se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turning Client ta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ge RC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3160" y="1865160"/>
            <a:ext cx="441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ery common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ght spotting or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8520" y="2728800"/>
            <a:ext cx="4464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m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egular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―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monthly ble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3160" y="3959280"/>
            <a:ext cx="4419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Less common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ome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964720" y="1166760"/>
            <a:ext cx="596520" cy="468360"/>
            <a:chOff x="8964720" y="1166760"/>
            <a:chExt cx="596520" cy="468360"/>
          </a:xfrm>
        </p:grpSpPr>
        <p:sp>
          <p:nvSpPr>
            <p:cNvPr id="217" name=""/>
            <p:cNvSpPr/>
            <p:nvPr/>
          </p:nvSpPr>
          <p:spPr>
            <a:xfrm>
              <a:off x="8964720" y="1166760"/>
              <a:ext cx="59652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9119160" y="1214280"/>
              <a:ext cx="2988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 rot="1882200">
            <a:off x="3719520" y="2317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28880" y="40482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624880" y="5672160"/>
            <a:ext cx="504720" cy="409680"/>
            <a:chOff x="8624880" y="5672160"/>
            <a:chExt cx="504720" cy="409680"/>
          </a:xfrm>
        </p:grpSpPr>
        <p:sp>
          <p:nvSpPr>
            <p:cNvPr id="222" name=""/>
            <p:cNvSpPr/>
            <p:nvPr/>
          </p:nvSpPr>
          <p:spPr>
            <a:xfrm>
              <a:off x="8624880" y="5672160"/>
              <a:ext cx="504720" cy="40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8747280" y="5781960"/>
              <a:ext cx="293040" cy="21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3728880" y="3054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0160" y="9572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f you choose this method, you may have some side-effec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hey are not usually signs of ill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 rot="21209400">
            <a:off x="5638680" y="1564920"/>
            <a:ext cx="3919680" cy="21049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mplant insertion and remov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468440"/>
            <a:ext cx="525780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sertion and removal should be quick and eas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jection prevents p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vider puts 6 capsules just under the skin of inside upper ar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vider bandages opening in skin and wraps the arm 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no stit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19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ed to be remove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fter 4 to 7 years,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pending on your we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1609560"/>
            <a:ext cx="3962520" cy="2827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232160" y="4508640"/>
            <a:ext cx="1117800" cy="17287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303800" y="4579920"/>
            <a:ext cx="1028520" cy="1738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110280" y="4807080"/>
            <a:ext cx="3597120" cy="1501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Are you ready to </a:t>
            </a:r>
            <a:br>
              <a:rPr sz="1800"/>
            </a:b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choose this metho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What questions do you ha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600880" y="5362560"/>
            <a:ext cx="121896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5919840"/>
            <a:ext cx="9909000" cy="946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es client understand the insertion and removal procedure? Is she ready to choose meth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plant insertion and remov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06920" y="893880"/>
            <a:ext cx="5186520" cy="64908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that procedure will be done by a specially trained provi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sertion usually takes 5 to 10 minu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moval usually takes about 15 minutes, sometimes lon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06920" y="1593720"/>
            <a:ext cx="5186520" cy="466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 her feel a sampl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possible, show her a photo of capsules under sk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06920" y="2506680"/>
            <a:ext cx="5186520" cy="11383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ertion and removal are done g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ust one small opening in the skin. May be slight pain, swelling, bruising for a few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eep area dry for 5 days. Can remove bandage after 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ease come back if arm stays sore for more than 5 days or if opening becomes red or has yellow liqui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9160" y="1052640"/>
            <a:ext cx="3581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sertion and removal should be quick and ea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44197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59360" y="2116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9656600">
            <a:off x="4059360" y="3284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4760" y="5632560"/>
            <a:ext cx="144792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5280" y="43200"/>
            <a:ext cx="1143000" cy="762840"/>
            <a:chOff x="125280" y="43200"/>
            <a:chExt cx="1143000" cy="762840"/>
          </a:xfrm>
        </p:grpSpPr>
        <p:sp>
          <p:nvSpPr>
            <p:cNvPr id="245" name=""/>
            <p:cNvSpPr/>
            <p:nvPr/>
          </p:nvSpPr>
          <p:spPr>
            <a:xfrm>
              <a:off x="12528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1480" y="4320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438120" y="25704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"/>
          <p:cNvSpPr/>
          <p:nvPr/>
        </p:nvSpPr>
        <p:spPr>
          <a:xfrm>
            <a:off x="4603680" y="2098800"/>
            <a:ext cx="5186520" cy="3380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cal anaesthetic stops pain during insertion. Woman stays aw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59360" y="112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3963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99000" y="3687840"/>
            <a:ext cx="5186520" cy="21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  <a:ea typeface="Arial"/>
              </a:rPr>
              <a:t>When to remove or replace im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rplant implants need to be removed or replaced 4 to 7 years after insertion, depending on client's weight, as the method becomes less effective in heavier wo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eighs less than 70 kg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he can keep implants for up to 7 years unless her weight reaches 70 kg or m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eighs 70 to 79 kg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he should come back after 5 years to have implants removed unless her weight reaches 80 kg or m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eighs 80 kg or mor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he should come back after 4 years to have implants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ll women can have new implants or another meth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160" y="2081160"/>
            <a:ext cx="3076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jection prevents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9160" y="2565360"/>
            <a:ext cx="4157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vider puts 6 capsules just under the skin of inside upper a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9160" y="3213000"/>
            <a:ext cx="3725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vider bandages opening in skin and wraps the arm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 st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9160" y="4149720"/>
            <a:ext cx="3652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be removed after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 to 7 years, depending on your 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59360" y="4235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59360" y="2604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8769240" y="6208560"/>
            <a:ext cx="576000" cy="468360"/>
            <a:chOff x="8769240" y="6208560"/>
            <a:chExt cx="576000" cy="468360"/>
          </a:xfrm>
        </p:grpSpPr>
        <p:sp>
          <p:nvSpPr>
            <p:cNvPr id="259" name=""/>
            <p:cNvSpPr/>
            <p:nvPr/>
          </p:nvSpPr>
          <p:spPr>
            <a:xfrm>
              <a:off x="8769240" y="62085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8908920" y="63342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"/>
          <p:cNvSpPr/>
          <p:nvPr/>
        </p:nvSpPr>
        <p:spPr>
          <a:xfrm>
            <a:off x="990720" y="6216480"/>
            <a:ext cx="3962160" cy="597240"/>
          </a:xfrm>
          <a:prstGeom prst="downArrowCallout">
            <a:avLst>
              <a:gd name="adj1" fmla="val 663472"/>
              <a:gd name="adj2" fmla="val 33170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she has decided to use metho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 to next p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9240" y="6216480"/>
            <a:ext cx="343872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no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, discuss further or consider other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rot="34800">
            <a:off x="6238440" y="1884240"/>
            <a:ext cx="2789280" cy="20797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 may be able to start tod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537240" y="1990800"/>
            <a:ext cx="2486160" cy="4116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04920" y="21718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11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tart any day of the menstrual cycle if we can be sure you aren’t preg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978440"/>
            <a:ext cx="518184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Would you like to start n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28600" y="520056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may be able to start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27880" y="42051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791320"/>
            <a:ext cx="9909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ient ready to start n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760" y="5549760"/>
            <a:ext cx="14479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Next Mov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16360" y="14479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82520" y="43200"/>
            <a:ext cx="1143000" cy="762840"/>
            <a:chOff x="182520" y="43200"/>
            <a:chExt cx="1143000" cy="762840"/>
          </a:xfrm>
        </p:grpSpPr>
        <p:sp>
          <p:nvSpPr>
            <p:cNvPr id="275" name=""/>
            <p:cNvSpPr/>
            <p:nvPr/>
          </p:nvSpPr>
          <p:spPr>
            <a:xfrm>
              <a:off x="18252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8720" y="43200"/>
              <a:ext cx="913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mpla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495360" y="25668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1066680" y="6083280"/>
            <a:ext cx="3886200" cy="700200"/>
          </a:xfrm>
          <a:prstGeom prst="downArrowCallout">
            <a:avLst>
              <a:gd name="adj1" fmla="val 555063"/>
              <a:gd name="adj2" fmla="val 27750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f yes,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sert implants or arrange for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ertion as soon as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26040" y="6083280"/>
            <a:ext cx="421632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not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range another vis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uring next menstrual period would be best)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ive condo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use until then. Explain their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320840"/>
            <a:ext cx="286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start any day of the menstrual cycle if we can be sure you aren’t preg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98920" y="893880"/>
            <a:ext cx="6192720" cy="138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If menstrual bleeding started in past 7 d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e can start NOW. No extra protectio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menstrual bleeding started more than 7 days ago or if amenorrhoeic (not having menstrual period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can start NOW if reasonably certain she is not pregnant (use pregnancy checklist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pendix 1)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eed to wait for next menstrual perio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get impla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houl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oid sex or use condoms for 7 da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fter inse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4667400"/>
            <a:ext cx="6192720" cy="10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If switching from another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switching from pills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the best time to st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switching from an injectable, should start at time she would have had repeat inj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switching from IUD, and menstrual bleeding started more than 7 days ago, can get implants now but leave IUD in place until the next menstrual peri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98920" y="2349360"/>
            <a:ext cx="6192720" cy="164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childbirth, if breastfee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y (or nearly fully) breastfeeding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start from 6 weeks after childbirth. No extra protection needed if she is between 6 weeks and 6 months after giving birth and her periods have not retur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artially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eastfeed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best to start 6 weeks after giving birth. Waiting longer risks pregn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childbirth, if NOT breastfee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tar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mediately after childbirth. If in the first 4 weeks after giving birth, no extra protection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98920" y="4033800"/>
            <a:ext cx="61927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fter miscarriage or abor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start immediately after abortion. If in the first 7 days after abortion, no extra protection i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Church</cp:lastModifiedBy>
  <cp:lastPrinted>2003-07-18T11:23:00Z</cp:lastPrinted>
  <dcterms:modified xsi:type="dcterms:W3CDTF">2005-09-16T14:46:55Z</dcterms:modified>
  <cp:revision>881</cp:revision>
  <dc:subject/>
  <dc:title>No Slide Title</dc:title>
</cp:coreProperties>
</file>