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78527-8AED-4DAC-862F-4CC5EB07D7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7560" y="4716000"/>
            <a:ext cx="49784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57320" y="6620040"/>
            <a:ext cx="4227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ld for use elsewhe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and your sex partner should see a doctor or nurse if either of you ha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es on or near your geni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 when pe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pping, itching, rash, irri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signs of sexually transmitted dise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6480" y="8028000"/>
            <a:ext cx="5132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ve to training gui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lain when to use and why u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VERY TIM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impor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protected sex just once—even the first time—can lead to pregnancy and/or S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not tell, by the way people look, whether they have an STI, including HIV. They often look health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erson does not always know if he or she has an STI, including H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82800" y="6124680"/>
            <a:ext cx="452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89400" y="2406600"/>
            <a:ext cx="4569120" cy="32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ide-effect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ossible irritation, burning or bladder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8200" y="4321080"/>
            <a:ext cx="456876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phragms (together with spermicide) are most effective when used correctly every ti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5880" y="3673440"/>
            <a:ext cx="4568760" cy="32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 you want to know more about vaginal methods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924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vaginal method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8920" y="1700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920" y="3686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5143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9680" y="1187280"/>
            <a:ext cx="4869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ncludes spermicides and diaphragm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18200" y="5040360"/>
            <a:ext cx="4568760" cy="477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ction by diaphragms against HIV/AIDS is uncertain.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200"/>
            </a:b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89400" y="2795760"/>
            <a:ext cx="4569120" cy="80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ould putting something in your vagina be uncomfortable for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o you feel comfortable with a method that may be messy after sex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817400">
            <a:off x="4448160" y="3054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8920" y="4424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gin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632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08080" y="55800"/>
            <a:ext cx="1143000" cy="733320"/>
            <a:chOff x="208080" y="55800"/>
            <a:chExt cx="1143000" cy="733320"/>
          </a:xfrm>
        </p:grpSpPr>
        <p:sp>
          <p:nvSpPr>
            <p:cNvPr id="62" name=""/>
            <p:cNvSpPr/>
            <p:nvPr/>
          </p:nvSpPr>
          <p:spPr>
            <a:xfrm>
              <a:off x="208080" y="586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2200" y="5580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5160" y="446040"/>
              <a:ext cx="914400" cy="343080"/>
              <a:chOff x="335160" y="446040"/>
              <a:chExt cx="914400" cy="34308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777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460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"/>
          <p:cNvSpPr/>
          <p:nvPr/>
        </p:nvSpPr>
        <p:spPr>
          <a:xfrm>
            <a:off x="5189400" y="911160"/>
            <a:ext cx="4569120" cy="1438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vaginal metho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 soft flexible piece of rubber that blocks the sperm from entering the womb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permicid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re gels, creams, foaming tablets, suppositories, foam or melting film that kill the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are inserted by the woman into her vagina ahead of time. They don't have to interrupt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9680" y="3052800"/>
            <a:ext cx="4869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Spermicid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ess effective than other metho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9680" y="3976560"/>
            <a:ext cx="486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76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ff3300"/>
                </a:solidFill>
                <a:latin typeface="Arial"/>
              </a:rPr>
              <a:t>Diaphrag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an be effective when used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orrectly ever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eds pelvic exam to check for 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ssible protection against some ST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7080" y="1620720"/>
            <a:ext cx="32400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ust be placed in the vagina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each time before sex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080" y="2298600"/>
            <a:ext cx="4868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ome users have side-effec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7080" y="2716200"/>
            <a:ext cx="2997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37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ay be messy</a:t>
            </a:r>
            <a:r>
              <a:rPr b="1" lang="en-GB" sz="1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8920" y="2349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8920" y="119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38720" y="6143760"/>
            <a:ext cx="3960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59440" y="6858000"/>
            <a:ext cx="135432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agi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5880" y="1981080"/>
            <a:ext cx="3200400" cy="31244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907560" cy="112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ctational Amenorrhoea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628640"/>
            <a:ext cx="571320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contraceptive method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d on breastfe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M means breastfeeding often, da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night, and giving baby little or no other fo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ive for 6 months after giving b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east milk is best food for bab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4600" y="534024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565776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2446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369000">
            <a:off x="6322680" y="5444640"/>
            <a:ext cx="861840" cy="1333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360" y="56102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 medical condition that makes pregnancy dang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0"/>
            <a:ext cx="9906120" cy="13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o can and cannot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se vaginal meth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88160" y="354348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 if you are thinking about the DIAPHRAGM, tell me if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25760"/>
            <a:ext cx="44956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women can safely use vaginal metho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1522600">
            <a:off x="3924000" y="143172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78160" y="146196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0320" y="354348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usually should not use SPERMICIDES or DIAPHRAGM with spermicides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766000">
            <a:off x="596880" y="4263840"/>
            <a:ext cx="1228680" cy="965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17560" y="4324320"/>
            <a:ext cx="730080" cy="1265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59080" y="5610240"/>
            <a:ext cx="33116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one sex partner or partner has sex with others (high HIV r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0766000">
            <a:off x="3409920" y="4303800"/>
            <a:ext cx="1371600" cy="961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543480" y="4408560"/>
            <a:ext cx="1120680" cy="12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920" y="4437000"/>
            <a:ext cx="25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 had a baby or abo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741000">
            <a:off x="6175080" y="4271760"/>
            <a:ext cx="1131840" cy="911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362640" y="4340160"/>
            <a:ext cx="736560" cy="1033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70920" y="5697360"/>
            <a:ext cx="2576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allergic to la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 had toxic shock synd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405480" y="5495760"/>
            <a:ext cx="57168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5805360"/>
            <a:ext cx="990612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2160" y="381780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lly should wait 6 to 12 weeks after childbirth or second-trimester abortion to fit diaphragm, depending on when the uterus and cervix return to normal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2160" y="4745160"/>
            <a:ext cx="404352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 should not use a latex diaphragm.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72160" y="5176800"/>
            <a:ext cx="4043520" cy="33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lly should not use diaphra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72160" y="2747880"/>
            <a:ext cx="4043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rmicides should NOT be used if woman is at high risk for HIV inf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ffectiveness of diaphragm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spermicides is not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5950080"/>
            <a:ext cx="4114800" cy="68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unable to use vaginal metho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2760" y="5978520"/>
            <a:ext cx="4470120" cy="866880"/>
          </a:xfrm>
          <a:prstGeom prst="downArrowCallout">
            <a:avLst>
              <a:gd name="adj1" fmla="val 515704"/>
              <a:gd name="adj2" fmla="val 2578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able to use meth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 to discuss diaphragm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or page VM4 to discuss spermici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600" y="557208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7840" y="2158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57840" y="2852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0328600">
            <a:off x="4832280" y="42642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7840" y="4721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57840" y="514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40"/>
            <a:ext cx="9906120" cy="1150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can and cannot us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ginal meth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3920" y="1103400"/>
            <a:ext cx="5159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safely use vaginal meth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5520" y="174600"/>
            <a:ext cx="1143000" cy="733320"/>
            <a:chOff x="155520" y="174600"/>
            <a:chExt cx="1143000" cy="733320"/>
          </a:xfrm>
        </p:grpSpPr>
        <p:sp>
          <p:nvSpPr>
            <p:cNvPr id="112" name=""/>
            <p:cNvSpPr/>
            <p:nvPr/>
          </p:nvSpPr>
          <p:spPr>
            <a:xfrm>
              <a:off x="155520" y="17748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640" y="17460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82600" y="564840"/>
              <a:ext cx="914400" cy="343080"/>
              <a:chOff x="282600" y="564840"/>
              <a:chExt cx="914400" cy="34308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2320" y="59652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2600" y="56484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120600" y="206676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 medical condition tha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s pregnancy dang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600" y="148428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usually should not use SPERMICIDES or DIAPHRAGM with spermicides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600" y="270972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one sex partner or partn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sex with others (high HIV ris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0600" y="335772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600" y="3745080"/>
            <a:ext cx="52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d if you are thinking about the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APHRAGM, tell me if yo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0600" y="436572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 had a baby or abor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600" y="473220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allergic to la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5119560"/>
            <a:ext cx="52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 had toxic shock syndr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2160" y="1557360"/>
            <a:ext cx="404352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include high blood pressure, diabetes, heart disease, stroke, some cancers, STIs including HIV/AIDS, liver disease, anaemia, tuberculo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effective method may be more suitable for women with these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9920" y="3411360"/>
            <a:ext cx="203184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queeze plenty of spermicidal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ream or jelly into diaphragm and around ri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3160" y="3411360"/>
            <a:ext cx="2151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ress the rim together and push the diaphragm into the vagina as far </a:t>
            </a:r>
            <a:br>
              <a:rPr sz="1700"/>
            </a:b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s it go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5440" y="3971880"/>
            <a:ext cx="24480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uch the diaphragm to make sure it covers the cervi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1440" y="5013360"/>
            <a:ext cx="5545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LSO: For each additional act of intercourse, use an applicator to insert additional spermicide into the vagina. DO NOT remove the diaphragm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27800" y="1197000"/>
            <a:ext cx="2430720" cy="359892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6440" y="1197000"/>
            <a:ext cx="2133720" cy="360036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27200" y="1197000"/>
            <a:ext cx="2136960" cy="360036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1197000"/>
            <a:ext cx="2376360" cy="360036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use the diaphrag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65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try using this method and see how you like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561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9080" y="1830240"/>
            <a:ext cx="1828800" cy="1094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879640" y="1774800"/>
            <a:ext cx="1600200" cy="996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440" y="11113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2160" y="11206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35440" y="11350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27720" y="1125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370480" y="1239840"/>
            <a:ext cx="1416240" cy="2712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83440" y="1268280"/>
            <a:ext cx="2521080" cy="34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fter se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eave the diaphragm in place for AT LEAST 6 hours but NO MORE THAN 24 hou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o remove, gently slide a finger under the rim and pull the diaphragm down and o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718160" y="1322280"/>
            <a:ext cx="170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uch the diaphragm to make sure it covers the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rv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3040" y="1322280"/>
            <a:ext cx="1868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queeze plenty of spermicida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ream or jelly into diaphragm and around r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3080" y="3645000"/>
            <a:ext cx="161748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about a tablespoon of jelly or c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1800" y="3645000"/>
            <a:ext cx="3001680" cy="180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 careful not to tear the diaphragm when rem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sh diaphragm with mild soap and clean water after each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for holes in the diaphragm by filling it with water or by holding it up to the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y the diaphragm and store it in a clean, dark, cool place,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4619520"/>
            <a:ext cx="466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each additional act of intercourse, use an applicator to insert additional spermicide into the vagina. DO NOT remove the diaphrag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07080" y="1063800"/>
            <a:ext cx="3168720" cy="20048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18800" bIns="118800" anchor="t">
            <a:noAutofit/>
          </a:bodyPr>
          <a:p>
            <a:pPr marL="171360" indent="-17136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fter se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ave the diaphragm in place for AT LEAST 6 hours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ut NO MORE THAN 24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remove, gently slide a finger under the rim and pull the diaphragm down and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64240" y="3645000"/>
            <a:ext cx="1569960" cy="144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the dome of the diaphragm, make sure you can feel the cervix, which feels like the tip of the n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72616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how to use diaphragm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609300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she has decided to use meth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go to next page to discuss spermicides if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609300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7080" y="549900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1400" y="1322280"/>
            <a:ext cx="1949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ss the rim together and push the diaphragm into the vagina as far as it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360" y="1060560"/>
            <a:ext cx="179712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24160" y="1060560"/>
            <a:ext cx="200664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18080" y="1060560"/>
            <a:ext cx="182880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95040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804024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the diaphrag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08080" y="63720"/>
            <a:ext cx="1143000" cy="733320"/>
            <a:chOff x="208080" y="63720"/>
            <a:chExt cx="1143000" cy="733320"/>
          </a:xfrm>
        </p:grpSpPr>
        <p:sp>
          <p:nvSpPr>
            <p:cNvPr id="165" name=""/>
            <p:cNvSpPr/>
            <p:nvPr/>
          </p:nvSpPr>
          <p:spPr>
            <a:xfrm>
              <a:off x="208080" y="666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2200" y="6372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5160" y="453960"/>
              <a:ext cx="914400" cy="343080"/>
              <a:chOff x="335160" y="453960"/>
              <a:chExt cx="914400" cy="34308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880" y="48564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160" y="45396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0" name=""/>
          <p:cNvSpPr/>
          <p:nvPr/>
        </p:nvSpPr>
        <p:spPr>
          <a:xfrm>
            <a:off x="18576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4720" y="98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22680" y="98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1400" y="981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5400360" y="32162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983800" y="5553000"/>
            <a:ext cx="576000" cy="468360"/>
            <a:chOff x="8983800" y="5553000"/>
            <a:chExt cx="576000" cy="468360"/>
          </a:xfrm>
        </p:grpSpPr>
        <p:sp>
          <p:nvSpPr>
            <p:cNvPr id="176" name=""/>
            <p:cNvSpPr/>
            <p:nvPr/>
          </p:nvSpPr>
          <p:spPr>
            <a:xfrm>
              <a:off x="8983800" y="5553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9123480" y="5678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-119160" y="5911920"/>
            <a:ext cx="121932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rot="21522600">
            <a:off x="7819560" y="1368000"/>
            <a:ext cx="1143000" cy="993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1522600">
            <a:off x="6172200" y="1371240"/>
            <a:ext cx="1371600" cy="990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1522600">
            <a:off x="2666880" y="1269720"/>
            <a:ext cx="1371600" cy="1143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1522600">
            <a:off x="622080" y="1266480"/>
            <a:ext cx="1751040" cy="100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1522600">
            <a:off x="7497360" y="2742840"/>
            <a:ext cx="1676520" cy="24130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to use spermic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889840" y="157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07040" y="20318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ablets or supposi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746840" y="1447920"/>
            <a:ext cx="1143000" cy="91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248520" y="1589040"/>
            <a:ext cx="1295280" cy="64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1752480" cy="860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921040" y="1295280"/>
            <a:ext cx="957240" cy="1228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360" y="2874960"/>
            <a:ext cx="684072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ert before sex (up to 1 hour befo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ert deep into vagina using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pplicator or fin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 not wash vagina for at least 6 hours after s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f possible, store in a cool, dry pl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287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try using this method and see how you like 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3683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327800" y="2708280"/>
            <a:ext cx="16732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how to use spermicides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0760" y="4149720"/>
            <a:ext cx="4073760" cy="3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s keep foaming tablets from melt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6200" y="4149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611820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she has decided to use metho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6118200"/>
            <a:ext cx="3886200" cy="58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7080" y="551196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use spermic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8080" y="60480"/>
            <a:ext cx="1143000" cy="733320"/>
            <a:chOff x="208080" y="60480"/>
            <a:chExt cx="1143000" cy="733320"/>
          </a:xfrm>
        </p:grpSpPr>
        <p:sp>
          <p:nvSpPr>
            <p:cNvPr id="205" name=""/>
            <p:cNvSpPr/>
            <p:nvPr/>
          </p:nvSpPr>
          <p:spPr>
            <a:xfrm>
              <a:off x="208080" y="6336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2200" y="6048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35160" y="450720"/>
              <a:ext cx="914400" cy="343080"/>
              <a:chOff x="335160" y="450720"/>
              <a:chExt cx="914400" cy="343080"/>
            </a:xfrm>
          </p:grpSpPr>
          <p:pic>
            <p:nvPicPr>
              <p:cNvPr id="2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4880" y="48240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5160" y="45072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0" name=""/>
          <p:cNvSpPr/>
          <p:nvPr/>
        </p:nvSpPr>
        <p:spPr>
          <a:xfrm>
            <a:off x="127080" y="1622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ert before sex (up to 1 hour bef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7080" y="23256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ert deep into vagina us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tor or fi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7080" y="3141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 not wash vagina for at least 6 hours after 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7080" y="4070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possible, store in a cool, dry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0760" y="1413000"/>
            <a:ext cx="407376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With tablets, suppositories, fi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t insert at least 10 minutes before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using film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d in half and insert with dry fingers near the cervix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With fo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 container well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2680" y="1628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55080" y="5560920"/>
            <a:ext cx="576000" cy="468360"/>
            <a:chOff x="9055080" y="5560920"/>
            <a:chExt cx="576000" cy="468360"/>
          </a:xfrm>
        </p:grpSpPr>
        <p:sp>
          <p:nvSpPr>
            <p:cNvPr id="217" name=""/>
            <p:cNvSpPr/>
            <p:nvPr/>
          </p:nvSpPr>
          <p:spPr>
            <a:xfrm>
              <a:off x="9055080" y="55609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9194760" y="56865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679600">
            <a:off x="5715000" y="2819160"/>
            <a:ext cx="1903320" cy="1008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4200">
            <a:off x="7315200" y="4041720"/>
            <a:ext cx="1905120" cy="1596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22600">
            <a:off x="4874760" y="1752480"/>
            <a:ext cx="1903680" cy="1008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440" y="1628640"/>
            <a:ext cx="5257800" cy="37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Come back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 need more spermici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aphragm becomes stiff or thin or develops h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 or your partner has reaction (itching, rash, irritatio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316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 feel pain when urina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236800">
            <a:off x="5318280" y="4102200"/>
            <a:ext cx="1692000" cy="2133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724280" y="1913040"/>
            <a:ext cx="1905120" cy="934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1676520" cy="905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416560" y="4114800"/>
            <a:ext cx="1200240" cy="2743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65160" y="5600880"/>
            <a:ext cx="4114800" cy="107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7365960" y="4048200"/>
            <a:ext cx="174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81480" y="1725480"/>
            <a:ext cx="45230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 where she can get resupply 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t clinic or phar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to get more spermicide before she run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097080"/>
            <a:ext cx="4523040" cy="63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due to spermicide or latex, of could be infection or vagin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need to switch brand of spermicide, or switch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3873600"/>
            <a:ext cx="45230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of urinary tract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411280"/>
            <a:ext cx="45230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aphragms should be repla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just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diaphragms should be refitted after childbirth or ab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756400"/>
            <a:ext cx="9909000" cy="111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1160" y="5867280"/>
            <a:ext cx="7543800" cy="90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confident you can use this method successfully?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re anything I can repeat or explain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 and/or back-up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Use method every tim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760" y="550224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3480" y="1830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3480" y="253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3480" y="3230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43480" y="3902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480" y="386064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feel pain when ur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08080" y="60480"/>
            <a:ext cx="1143000" cy="733320"/>
            <a:chOff x="208080" y="60480"/>
            <a:chExt cx="1143000" cy="733320"/>
          </a:xfrm>
        </p:grpSpPr>
        <p:sp>
          <p:nvSpPr>
            <p:cNvPr id="246" name=""/>
            <p:cNvSpPr/>
            <p:nvPr/>
          </p:nvSpPr>
          <p:spPr>
            <a:xfrm>
              <a:off x="208080" y="6336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00" y="60480"/>
              <a:ext cx="9108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ginal 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335160" y="450720"/>
              <a:ext cx="914400" cy="343080"/>
              <a:chOff x="335160" y="450720"/>
              <a:chExt cx="914400" cy="343080"/>
            </a:xfrm>
          </p:grpSpPr>
          <p:pic>
            <p:nvPicPr>
              <p:cNvPr id="2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4880" y="482400"/>
                <a:ext cx="814680" cy="31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160" y="450720"/>
                <a:ext cx="415800" cy="177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1" name=""/>
          <p:cNvGrpSpPr/>
          <p:nvPr/>
        </p:nvGrpSpPr>
        <p:grpSpPr>
          <a:xfrm>
            <a:off x="7904160" y="6056280"/>
            <a:ext cx="576000" cy="468360"/>
            <a:chOff x="7904160" y="6056280"/>
            <a:chExt cx="576000" cy="468360"/>
          </a:xfrm>
        </p:grpSpPr>
        <p:sp>
          <p:nvSpPr>
            <p:cNvPr id="252" name=""/>
            <p:cNvSpPr/>
            <p:nvPr/>
          </p:nvSpPr>
          <p:spPr>
            <a:xfrm>
              <a:off x="7904160" y="60562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043840" y="61819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/>
          <p:cNvSpPr/>
          <p:nvPr/>
        </p:nvSpPr>
        <p:spPr>
          <a:xfrm>
            <a:off x="114480" y="308304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or your partner has reaction (itching, rash, irritatio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480" y="2392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phragm becomes stiff or thi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 develops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4480" y="1773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need more spermici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480" y="1262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me back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2-06-10T08:51:06Z</cp:lastPrinted>
  <dcterms:modified xsi:type="dcterms:W3CDTF">2005-09-16T14:49:40Z</dcterms:modified>
  <cp:revision>423</cp:revision>
  <dc:subject/>
  <dc:title>No Slide Title</dc:title>
</cp:coreProperties>
</file>