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902825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550EA-F650-4FCD-8825-5B5FBB0D5A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2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2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38C26-CC34-4D19-99FF-A187EF4A2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1960" y="160452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61960" y="368208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52D0A-2BF6-46DB-B53B-CF07DFF1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6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08560" y="1604520"/>
            <a:ext cx="286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21760" y="1604520"/>
            <a:ext cx="286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6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08560" y="3682080"/>
            <a:ext cx="286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21760" y="3682080"/>
            <a:ext cx="286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A3B9B-010D-4D0F-82AE-E19CC079D0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92ACB-5247-41EE-969E-E06FEA02E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354E7-6D63-4462-BBE2-D9C1B2280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49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61960" y="1604520"/>
            <a:ext cx="4349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97DB6-8167-4255-A3AF-3B34FEBA7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B0F1C-F53C-45D2-85A7-F11365061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43040" y="609120"/>
            <a:ext cx="841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82248-FC6B-4861-864D-CB0B48C0F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1960" y="1604520"/>
            <a:ext cx="4349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0D1BB-0C64-4C32-933C-B28B70546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49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1960" y="160452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61960" y="368208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795E0-E2CB-4A89-AAF5-F2E5E9558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1960" y="160452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2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C390D-97E5-4D55-A703-C7B719C14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693200" y="640080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ED4BB-FD06-425A-BBAE-DCBA84AF7C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1080"/>
            <a:ext cx="9902880" cy="838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elco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637240" y="1141560"/>
            <a:ext cx="3960720" cy="1122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1520" indent="-101520">
              <a:lnSpc>
                <a:spcPct val="90000"/>
              </a:lnSpc>
              <a:spcBef>
                <a:spcPts val="5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ee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lient with warmth and resp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90000"/>
              </a:lnSpc>
              <a:spcBef>
                <a:spcPts val="5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an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lient for com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90000"/>
              </a:lnSpc>
              <a:spcBef>
                <a:spcPts val="7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int to this flipchart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xplain that it will help both you and the cli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37240" y="3198960"/>
            <a:ext cx="3960720" cy="1066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1520" indent="-101520">
              <a:lnSpc>
                <a:spcPct val="90000"/>
              </a:lnSpc>
              <a:spcBef>
                <a:spcPts val="7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ite client to tal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ask ques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90000"/>
              </a:lnSpc>
              <a:spcBef>
                <a:spcPts val="7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clear that you want to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ste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90000"/>
              </a:lnSpc>
              <a:spcBef>
                <a:spcPts val="7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at you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ed the client to speak open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o you can hel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943600"/>
            <a:ext cx="9902880" cy="914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114480" indent="-114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6095880"/>
            <a:ext cx="6397920" cy="609840"/>
          </a:xfrm>
          <a:prstGeom prst="downArrow">
            <a:avLst>
              <a:gd name="adj1" fmla="val 100000"/>
              <a:gd name="adj2" fmla="val 3515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en client is comfortable and ready to talk, go to next pag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1960" y="5734080"/>
            <a:ext cx="144792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Next Mov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07080" y="121140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8912160" y="3292560"/>
            <a:ext cx="576360" cy="468360"/>
            <a:chOff x="8912160" y="3292560"/>
            <a:chExt cx="576360" cy="468360"/>
          </a:xfrm>
        </p:grpSpPr>
        <p:sp>
          <p:nvSpPr>
            <p:cNvPr id="48" name=""/>
            <p:cNvSpPr/>
            <p:nvPr/>
          </p:nvSpPr>
          <p:spPr>
            <a:xfrm>
              <a:off x="8912160" y="3292560"/>
              <a:ext cx="576360" cy="468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9061560" y="3340080"/>
              <a:ext cx="288720" cy="384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"/>
          <p:cNvSpPr/>
          <p:nvPr/>
        </p:nvSpPr>
        <p:spPr>
          <a:xfrm>
            <a:off x="4807080" y="328464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8800" y="1115640"/>
            <a:ext cx="4418280" cy="16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4600" indent="-174600">
              <a:lnSpc>
                <a:spcPct val="100000"/>
              </a:lnSpc>
              <a:spcBef>
                <a:spcPts val="9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Using this flipchart, we can help you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901"/>
              </a:spcBef>
              <a:spcAft>
                <a:spcPts val="337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hoose and use a 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901"/>
              </a:spcBef>
              <a:spcAft>
                <a:spcPts val="337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olve any probl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901"/>
              </a:spcBef>
              <a:spcAft>
                <a:spcPts val="337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 accurate 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9080" y="3124440"/>
            <a:ext cx="2835360" cy="15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90440" indent="-1904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Please tell me abou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Yoursel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Your nee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Your ques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637240" y="4608360"/>
            <a:ext cx="3960720" cy="812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1520" indent="-101520">
              <a:lnSpc>
                <a:spcPct val="90000"/>
              </a:lnSpc>
              <a:spcBef>
                <a:spcPts val="5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meeting spac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90000"/>
              </a:lnSpc>
              <a:spcBef>
                <a:spcPts val="5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at the meeting will b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fidential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What you say will not be told to other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5920" y="4728600"/>
            <a:ext cx="415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3300"/>
                </a:solidFill>
                <a:latin typeface="Arial"/>
              </a:rPr>
              <a:t>We promise you privacy and confidenti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07080" y="481644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293400" y="6400800"/>
            <a:ext cx="533160" cy="430200"/>
          </a:xfrm>
          <a:prstGeom prst="ellipse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5400000">
            <a:off x="9447480" y="502200"/>
            <a:ext cx="1354320" cy="4381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Welc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 rot="741000">
            <a:off x="7313760" y="4717800"/>
            <a:ext cx="2512800" cy="167616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741000">
            <a:off x="152280" y="1676160"/>
            <a:ext cx="3275280" cy="22096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080"/>
            <a:ext cx="990288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How can I help you toda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152280" y="1981080"/>
            <a:ext cx="3427200" cy="2702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726320" y="4818240"/>
            <a:ext cx="1579680" cy="19954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583080" y="1660320"/>
            <a:ext cx="589896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rmAutofit fontScale="85000"/>
          </a:bodyPr>
          <a:p>
            <a:pPr marL="248040" indent="-248040">
              <a:lnSpc>
                <a:spcPct val="95000"/>
              </a:lnSpc>
              <a:spcBef>
                <a:spcPts val="451"/>
              </a:spcBef>
              <a:spcAft>
                <a:spcPts val="1199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you using a family planning method n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8040" indent="-248040">
              <a:lnSpc>
                <a:spcPct val="95000"/>
              </a:lnSpc>
              <a:spcBef>
                <a:spcPts val="451"/>
              </a:spcBef>
              <a:spcAft>
                <a:spcPts val="1199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oosing a metho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8040" indent="-248040">
              <a:lnSpc>
                <a:spcPct val="95000"/>
              </a:lnSpc>
              <a:spcBef>
                <a:spcPts val="451"/>
              </a:spcBef>
              <a:spcAft>
                <a:spcPts val="1199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 or problem about a metho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8040" indent="-248040">
              <a:lnSpc>
                <a:spcPct val="95000"/>
              </a:lnSpc>
              <a:spcBef>
                <a:spcPts val="451"/>
              </a:spcBef>
              <a:spcAft>
                <a:spcPts val="1199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ern about sexually transmitted infections (STIs) or HIV/AID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8040" indent="-248040">
              <a:lnSpc>
                <a:spcPct val="95000"/>
              </a:lnSpc>
              <a:spcBef>
                <a:spcPts val="451"/>
              </a:spcBef>
              <a:spcAft>
                <a:spcPts val="1199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ried you might be pregn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8040" indent="-248040">
              <a:lnSpc>
                <a:spcPct val="95000"/>
              </a:lnSpc>
              <a:spcBef>
                <a:spcPts val="451"/>
              </a:spcBef>
              <a:spcAft>
                <a:spcPts val="1199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need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962000" y="966960"/>
            <a:ext cx="630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90440" indent="-190440">
              <a:lnSpc>
                <a:spcPct val="100000"/>
              </a:lnSpc>
              <a:spcBef>
                <a:spcPts val="5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using a family planning method now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 to purple Returning Client tab (page RC1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2934000">
            <a:off x="6800760" y="1128600"/>
            <a:ext cx="406080" cy="361800"/>
          </a:xfrm>
          <a:prstGeom prst="rightArrow">
            <a:avLst>
              <a:gd name="adj1" fmla="val 50000"/>
              <a:gd name="adj2" fmla="val 28060"/>
            </a:avLst>
          </a:prstGeom>
          <a:solidFill>
            <a:srgbClr val="b5ba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27080" y="1347840"/>
            <a:ext cx="16761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77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hoose next move based on client’s purpo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62000" y="1400040"/>
            <a:ext cx="630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90440" indent="-19044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client choosing a method? </a:t>
            </a:r>
            <a:br>
              <a:rPr sz="16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 to green Choosing Method tab (page CM1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0" y="1080"/>
            <a:ext cx="9902880" cy="838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can I help you toda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62000" y="2590920"/>
            <a:ext cx="6239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0440" indent="-19044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cern about sexually transmitted infections (STIs) or HIV/AIDS</a:t>
            </a: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 to pink Dual Protection tab (page DP1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62000" y="1944720"/>
            <a:ext cx="6262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90440" indent="-19044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estion or problem about a method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 to purple Returning Client tab (page RC1) or specific method tab below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182080" y="2109960"/>
            <a:ext cx="380880" cy="352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54080" y="3665160"/>
            <a:ext cx="6397920" cy="18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10800" bIns="10800" anchor="ctr">
            <a:spAutoFit/>
          </a:bodyPr>
          <a:p>
            <a:pPr marL="190440" indent="-19044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s with special needs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me clients may need spe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ice or have special concerns. Go to light blue tab (page SN1) for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- Younger clients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- Older cli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- Pregnant/postpartum cli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- Post-abortion cli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- Clients living with HIV/AIDS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- Clients who want to become pregn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62000" y="3121200"/>
            <a:ext cx="759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ctr">
            <a:noAutofit/>
          </a:bodyPr>
          <a:p>
            <a:pPr marL="190440" indent="-19044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rried you might be pregnant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fer advice and support, perform pregnancy test if needed, and discuss her options.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emergency contraception, go to EC method tab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5400000">
            <a:off x="9315360" y="3394080"/>
            <a:ext cx="33660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970680" y="4562640"/>
            <a:ext cx="428760" cy="392040"/>
          </a:xfrm>
          <a:prstGeom prst="rightArrow">
            <a:avLst>
              <a:gd name="adj1" fmla="val 50000"/>
              <a:gd name="adj2" fmla="val 27342"/>
            </a:avLst>
          </a:prstGeom>
          <a:solidFill>
            <a:srgbClr val="baf3fe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6019920"/>
            <a:ext cx="9902880" cy="838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114480" indent="-114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440" y="152712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3e3a8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821720" y="2638440"/>
            <a:ext cx="404640" cy="361800"/>
          </a:xfrm>
          <a:prstGeom prst="rightArrow">
            <a:avLst>
              <a:gd name="adj1" fmla="val 50000"/>
              <a:gd name="adj2" fmla="val 27960"/>
            </a:avLst>
          </a:prstGeom>
          <a:solidFill>
            <a:srgbClr val="ffb3d9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47920" y="6091200"/>
            <a:ext cx="7007040" cy="6573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pond first to the client’s needs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nce client tells reason for coming, go to a tab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43280" y="5459400"/>
            <a:ext cx="6224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ctr">
            <a:noAutofit/>
          </a:bodyPr>
          <a:p>
            <a:pPr marL="190440" indent="-19044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 needs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fer advice and support. Refer if needed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endices may help with some other nee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3494400">
            <a:off x="8715240" y="2109600"/>
            <a:ext cx="406440" cy="362160"/>
          </a:xfrm>
          <a:prstGeom prst="rightArrow">
            <a:avLst>
              <a:gd name="adj1" fmla="val 50000"/>
              <a:gd name="adj2" fmla="val 28057"/>
            </a:avLst>
          </a:prstGeom>
          <a:solidFill>
            <a:srgbClr val="b5ba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1960" y="5791320"/>
            <a:ext cx="1447920" cy="3045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Next Mov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70680" y="5526000"/>
            <a:ext cx="38088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293400" y="6400800"/>
            <a:ext cx="533160" cy="430200"/>
          </a:xfrm>
          <a:prstGeom prst="ellipse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904320" cy="1332000"/>
          </a:xfrm>
          <a:prstGeom prst="rect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o you have a method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n mind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52560" y="4121280"/>
            <a:ext cx="76320" cy="126720"/>
          </a:xfrm>
          <a:prstGeom prst="ellipse">
            <a:avLst/>
          </a:prstGeom>
          <a:solidFill>
            <a:srgbClr val="e9ffe9"/>
          </a:solidFill>
          <a:ln w="19080">
            <a:solidFill>
              <a:srgbClr val="83e3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81080" y="4006800"/>
            <a:ext cx="152640" cy="152280"/>
          </a:xfrm>
          <a:prstGeom prst="ellipse">
            <a:avLst/>
          </a:prstGeom>
          <a:solidFill>
            <a:srgbClr val="e9ffe9"/>
          </a:solidFill>
          <a:ln w="19080">
            <a:solidFill>
              <a:srgbClr val="83e3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133720" y="3778200"/>
            <a:ext cx="253800" cy="304920"/>
          </a:xfrm>
          <a:prstGeom prst="ellipse">
            <a:avLst/>
          </a:prstGeom>
          <a:solidFill>
            <a:srgbClr val="e9ffe9"/>
          </a:solidFill>
          <a:ln w="19080">
            <a:solidFill>
              <a:srgbClr val="83e3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-203040" y="4114800"/>
            <a:ext cx="2971800" cy="23036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878280" y="1676520"/>
            <a:ext cx="60246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spcBef>
                <a:spcPts val="825"/>
              </a:spcBef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If you do, let’s talk about how it suits you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825"/>
              </a:spcBef>
              <a:spcAft>
                <a:spcPts val="68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at do you like about it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825"/>
              </a:spcBef>
              <a:spcAft>
                <a:spcPts val="68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at have you heard about it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925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If not, we can find a method that is </a:t>
            </a:r>
            <a:br>
              <a:rPr sz="2200"/>
            </a:b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right for yo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64160" y="4508640"/>
            <a:ext cx="4403520" cy="2062080"/>
          </a:xfrm>
          <a:prstGeom prst="ellipse">
            <a:avLst/>
          </a:prstGeom>
          <a:solidFill>
            <a:srgbClr val="ffff99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Important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choosing a method: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Do you need protection from sexually transmitted infections (STIs) or HIV/AID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25480" y="1873080"/>
            <a:ext cx="2666880" cy="1905120"/>
            <a:chOff x="825480" y="1873080"/>
            <a:chExt cx="2666880" cy="1905120"/>
          </a:xfrm>
        </p:grpSpPr>
        <p:sp>
          <p:nvSpPr>
            <p:cNvPr id="93" name=""/>
            <p:cNvSpPr/>
            <p:nvPr/>
          </p:nvSpPr>
          <p:spPr>
            <a:xfrm>
              <a:off x="825480" y="1873080"/>
              <a:ext cx="2666880" cy="1905120"/>
            </a:xfrm>
            <a:prstGeom prst="ellipse">
              <a:avLst/>
            </a:prstGeom>
            <a:solidFill>
              <a:srgbClr val="e9ffe9"/>
            </a:solidFill>
            <a:ln w="19080">
              <a:solidFill>
                <a:srgbClr val="83e3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1314360" y="3071880"/>
              <a:ext cx="554040" cy="34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3"/>
            <a:stretch/>
          </p:blipFill>
          <p:spPr>
            <a:xfrm>
              <a:off x="1689120" y="2025720"/>
              <a:ext cx="7747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4"/>
            <a:stretch/>
          </p:blipFill>
          <p:spPr>
            <a:xfrm>
              <a:off x="1957320" y="2709720"/>
              <a:ext cx="52560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5"/>
            <a:stretch/>
          </p:blipFill>
          <p:spPr>
            <a:xfrm>
              <a:off x="2762280" y="2879640"/>
              <a:ext cx="423720" cy="42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6"/>
            <a:stretch/>
          </p:blipFill>
          <p:spPr>
            <a:xfrm>
              <a:off x="1130400" y="2538360"/>
              <a:ext cx="53028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7"/>
            <a:stretch/>
          </p:blipFill>
          <p:spPr>
            <a:xfrm>
              <a:off x="2514600" y="2201760"/>
              <a:ext cx="609480" cy="550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8T11:59:38Z</dcterms:created>
  <dc:creator>JohnsonS</dc:creator>
  <dc:description/>
  <dc:language>en-US</dc:language>
  <cp:lastModifiedBy>Church</cp:lastModifiedBy>
  <cp:lastPrinted>2004-03-15T14:32:16Z</cp:lastPrinted>
  <dcterms:modified xsi:type="dcterms:W3CDTF">2005-09-16T15:06:03Z</dcterms:modified>
  <cp:revision>3107</cp:revision>
  <dc:subject/>
  <dc:title>No Slide Title</dc:title>
</cp:coreProperties>
</file>