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3409-7EC4-4CEC-ACDA-7B37BACB4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1A8F-A842-44F6-96FF-5D35468B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E230D-72D0-4F59-AE8E-62012DD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D13F-61D2-4573-B3A5-BF6B3EA1AD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E629-BC2B-40BE-B537-4B7E60BA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6447E-91E6-423C-8ED5-B5BF8081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05B8-7E39-4DB2-AE9E-84C12F3A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2D8D-0A5D-4685-97E5-9DDC41C1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53DD-93F9-4B84-9816-CFE9B421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BAE4-F963-4722-8F78-34A3A6C7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1184-8934-4E58-857C-F63B7843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E9CB-784D-483A-BAEF-546ADFE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932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AADC-CE32-47CB-BCC2-CB6B42F48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2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16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440"/>
            <a:ext cx="990432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 you have a method in mi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28600" y="63360"/>
            <a:ext cx="1338120" cy="7178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oosing metho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thod 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5943600"/>
            <a:ext cx="990288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6120" y="567684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440" y="1023840"/>
            <a:ext cx="4896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f you do, let’s talk about how it suits 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38720" y="1667520"/>
            <a:ext cx="4473720" cy="1762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heck if client understands method: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what the client knows about the metho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ether she/he needs more inform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lient’s answers suggest misunderstanding or incorrect information, discuss and make it cl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sk questions to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ee if method suits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lient.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re you confident that you could remember to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ake a pill every day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ould you be able to come back for injection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977320" y="2889360"/>
            <a:ext cx="626760" cy="468360"/>
            <a:chOff x="8977320" y="2889360"/>
            <a:chExt cx="626760" cy="468360"/>
          </a:xfrm>
        </p:grpSpPr>
        <p:sp>
          <p:nvSpPr>
            <p:cNvPr id="46" name=""/>
            <p:cNvSpPr/>
            <p:nvPr/>
          </p:nvSpPr>
          <p:spPr>
            <a:xfrm>
              <a:off x="8977320" y="2889360"/>
              <a:ext cx="6267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9139680" y="2936880"/>
              <a:ext cx="3139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 rot="20133000">
            <a:off x="4768560" y="1219320"/>
            <a:ext cx="323640" cy="304560"/>
          </a:xfrm>
          <a:prstGeom prst="rightArrow">
            <a:avLst>
              <a:gd name="adj1" fmla="val 44444"/>
              <a:gd name="adj2" fmla="val 41325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3120" y="4305240"/>
            <a:ext cx="4471920" cy="135576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everyone needs to consider protection from both pregnanc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Is such as HIV/AI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client to speak openly about her/his situation, her/his relationship(s) and sexual behavio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f client needs protection or is unsure, go to Dual Protection 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41960" y="3600360"/>
            <a:ext cx="4473720" cy="408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heck if client would like to know about other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021360"/>
            <a:ext cx="2816280" cy="595440"/>
          </a:xfrm>
          <a:prstGeom prst="rightArrow">
            <a:avLst>
              <a:gd name="adj1" fmla="val 100000"/>
              <a:gd name="adj2" fmla="val 329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STI/HIV/AIDS prot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Dual Protection tab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7800" y="3933720"/>
            <a:ext cx="3571920" cy="154152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Importan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choosing a method:</a:t>
            </a: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Do you need protection from sexually transmitted infections (STIs) or HIV/AID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57760" y="4338720"/>
            <a:ext cx="322200" cy="304560"/>
          </a:xfrm>
          <a:prstGeom prst="rightArrow">
            <a:avLst>
              <a:gd name="adj1" fmla="val 44444"/>
              <a:gd name="adj2" fmla="val 4114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56320" y="1900080"/>
            <a:ext cx="323640" cy="304920"/>
          </a:xfrm>
          <a:prstGeom prst="rightArrow">
            <a:avLst>
              <a:gd name="adj1" fmla="val 44444"/>
              <a:gd name="adj2" fmla="val 41276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7800" y="6013440"/>
            <a:ext cx="2950920" cy="793800"/>
          </a:xfrm>
          <a:prstGeom prst="downArrow">
            <a:avLst>
              <a:gd name="adj1" fmla="val 100000"/>
              <a:gd name="adj2" fmla="val 3515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ctr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 method in mi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if method in mind doesn’t suit client,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6018120"/>
            <a:ext cx="2529000" cy="687600"/>
          </a:xfrm>
          <a:prstGeom prst="downArrow">
            <a:avLst>
              <a:gd name="adj1" fmla="val 100000"/>
              <a:gd name="adj2" fmla="val 3515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method in more det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go to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7520" cy="946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7080" y="1484280"/>
            <a:ext cx="464976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 you like about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have you heard about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440" y="2879640"/>
            <a:ext cx="46497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f not, we can find a method that is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ight for yo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Go to next p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32240" y="1021320"/>
            <a:ext cx="447228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page for client who has a method in mind, to check if it suits her/his needs and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83e3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983800" y="1773360"/>
            <a:ext cx="576000" cy="468360"/>
            <a:chOff x="8983800" y="1773360"/>
            <a:chExt cx="576000" cy="468360"/>
          </a:xfrm>
        </p:grpSpPr>
        <p:sp>
          <p:nvSpPr>
            <p:cNvPr id="63" name=""/>
            <p:cNvSpPr/>
            <p:nvPr/>
          </p:nvSpPr>
          <p:spPr>
            <a:xfrm>
              <a:off x="8983800" y="1773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9123480" y="1899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 rot="5400000">
            <a:off x="9443160" y="2072160"/>
            <a:ext cx="1353960" cy="438480"/>
          </a:xfrm>
          <a:prstGeom prst="rect">
            <a:avLst/>
          </a:prstGeom>
          <a:solidFill>
            <a:srgbClr val="83e3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oosing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159080" y="1557360"/>
            <a:ext cx="5713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90000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o method in mind? We can discus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experiences with family pla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you have heard about family planning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plans for having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from sexually transmitted infections (STIs) or HIV/A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partner’s or family’s attitu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needs and conc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904320" cy="133200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 can find a meth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ight for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1520" y="3179880"/>
            <a:ext cx="4013280" cy="22161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89520" y="5423040"/>
            <a:ext cx="3808440" cy="11430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Now let’s discuss how a method can meet your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08240" y="1773360"/>
            <a:ext cx="2287440" cy="167616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27000" y="3424320"/>
            <a:ext cx="76320" cy="12708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54080" y="3271680"/>
            <a:ext cx="152280" cy="15264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06360" y="3043080"/>
            <a:ext cx="255600" cy="30492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2320" y="5759280"/>
            <a:ext cx="1295640" cy="100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3800" y="2857680"/>
            <a:ext cx="469800" cy="304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013120" y="1925640"/>
            <a:ext cx="658800" cy="44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241720" y="2535120"/>
            <a:ext cx="446040" cy="641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925720" y="2687760"/>
            <a:ext cx="362160" cy="376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536840" y="2382840"/>
            <a:ext cx="45216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2666880" y="2052720"/>
            <a:ext cx="534960" cy="480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328680" y="3541680"/>
            <a:ext cx="3384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440" y="1440"/>
            <a:ext cx="990432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You can find a method right for you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943600"/>
            <a:ext cx="990288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9160" y="1333440"/>
            <a:ext cx="4646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3160" indent="-173160">
              <a:lnSpc>
                <a:spcPct val="9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No method in mind? We can discu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experiences with family plan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you have heard about family planning metho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plans for having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from sexually transmitted infections (STIs) or HIV/AI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partner’s or family’s attitu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needs and 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912160" y="1981080"/>
            <a:ext cx="576360" cy="468360"/>
            <a:chOff x="8912160" y="1981080"/>
            <a:chExt cx="576360" cy="468360"/>
          </a:xfrm>
        </p:grpSpPr>
        <p:sp>
          <p:nvSpPr>
            <p:cNvPr id="86" name=""/>
            <p:cNvSpPr/>
            <p:nvPr/>
          </p:nvSpPr>
          <p:spPr>
            <a:xfrm>
              <a:off x="8912160" y="198108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8924760" y="2052360"/>
              <a:ext cx="5461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533520" y="571500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6060960"/>
            <a:ext cx="6016680" cy="720720"/>
          </a:xfrm>
          <a:prstGeom prst="downArrow">
            <a:avLst>
              <a:gd name="adj1" fmla="val 100000"/>
              <a:gd name="adj2" fmla="val 34565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 to discuss what methods could suit the client’s n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7000" y="981000"/>
            <a:ext cx="4367520" cy="230364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indent="-101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Helping client with no method in mind to make a deci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page to help client think about her/his situation and life and what seems most important about a metho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ng some of the topics at left can help the client  consider different methods. You can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Here are some things to consider when choosing a family planning meth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is most important to you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choice is yours. I want you to be happy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ith your cho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152280" y="5911920"/>
            <a:ext cx="1220760" cy="9460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8920080" y="2735280"/>
            <a:ext cx="607680" cy="468360"/>
            <a:chOff x="8920080" y="2735280"/>
            <a:chExt cx="607680" cy="468360"/>
          </a:xfrm>
        </p:grpSpPr>
        <p:sp>
          <p:nvSpPr>
            <p:cNvPr id="93" name=""/>
            <p:cNvSpPr/>
            <p:nvPr/>
          </p:nvSpPr>
          <p:spPr>
            <a:xfrm>
              <a:off x="8920080" y="2735280"/>
              <a:ext cx="60768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9077400" y="2782800"/>
              <a:ext cx="30456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 rot="1599600">
            <a:off x="4728960" y="3484080"/>
            <a:ext cx="322200" cy="304920"/>
          </a:xfrm>
          <a:prstGeom prst="rightArrow">
            <a:avLst>
              <a:gd name="adj1" fmla="val 44444"/>
              <a:gd name="adj2" fmla="val 410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78280" y="1111320"/>
            <a:ext cx="322200" cy="304560"/>
          </a:xfrm>
          <a:prstGeom prst="rightArrow">
            <a:avLst>
              <a:gd name="adj1" fmla="val 44444"/>
              <a:gd name="adj2" fmla="val 4114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600" y="63360"/>
            <a:ext cx="1222560" cy="71784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8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oosing metho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method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n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2320" y="3635280"/>
            <a:ext cx="4372200" cy="1306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everyone needs to consider protection from both pregnanc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Is such as HIV/AI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courage client to speak openly about her/his situation, her/his relationship(s) and sexual behaviou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0360" indent="-903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f client needs protection or is unsure, go to Dual Protection t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40240" y="5167440"/>
            <a:ext cx="4372200" cy="3492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360" indent="-9036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al Needs tab or Appendices may hel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391600">
            <a:off x="4700160" y="4824360"/>
            <a:ext cx="322200" cy="304920"/>
          </a:xfrm>
          <a:prstGeom prst="rightArrow">
            <a:avLst>
              <a:gd name="adj1" fmla="val 44444"/>
              <a:gd name="adj2" fmla="val 410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83e3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276960" y="1276200"/>
            <a:ext cx="3498840" cy="2794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30720" y="1276200"/>
            <a:ext cx="2762280" cy="5067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840" y="1268280"/>
            <a:ext cx="3022560" cy="50673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7080" y="1268280"/>
            <a:ext cx="3024000" cy="99864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ost effective </a:t>
            </a:r>
            <a:br>
              <a:rPr sz="1800"/>
            </a:b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and nothing to reme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76960" y="1276200"/>
            <a:ext cx="3498840" cy="9907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Effective but must be </a:t>
            </a:r>
            <a:r>
              <a:rPr b="1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carefully used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38760" y="2368440"/>
            <a:ext cx="2894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wer side-effe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30720" y="1276200"/>
            <a:ext cx="2762280" cy="990720"/>
          </a:xfrm>
          <a:prstGeom prst="rect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ery effective but must be </a:t>
            </a:r>
            <a:r>
              <a:rPr b="1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carefully used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4537080"/>
            <a:ext cx="2741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re side-effe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74240" y="5701680"/>
            <a:ext cx="519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il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80160" y="5721120"/>
            <a:ext cx="1031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Injectab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30520" y="4992840"/>
            <a:ext cx="100512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26080" y="4857840"/>
            <a:ext cx="1206360" cy="811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43800" y="3404160"/>
            <a:ext cx="1387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Fertility </a:t>
            </a:r>
            <a:br>
              <a:rPr sz="1300"/>
            </a:b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awareness-</a:t>
            </a:r>
            <a:br>
              <a:rPr sz="1300"/>
            </a:b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based metho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86560" y="3492720"/>
            <a:ext cx="9892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Vaginal metho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57920" y="3466080"/>
            <a:ext cx="2089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Male and </a:t>
            </a:r>
            <a:br>
              <a:rPr sz="1300"/>
            </a:b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female </a:t>
            </a:r>
            <a:br>
              <a:rPr sz="1300"/>
            </a:br>
            <a:r>
              <a:rPr b="1" lang="en-US" sz="1300" spc="-1" strike="noStrike">
                <a:solidFill>
                  <a:srgbClr val="000099"/>
                </a:solidFill>
                <a:latin typeface="Arial"/>
              </a:rPr>
              <a:t>cond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140600" y="2708280"/>
            <a:ext cx="263520" cy="698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554960" y="2986200"/>
            <a:ext cx="1098360" cy="5778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8594640" y="2622600"/>
            <a:ext cx="1142640" cy="838080"/>
            <a:chOff x="8594640" y="2622600"/>
            <a:chExt cx="1142640" cy="83808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8721720" y="2622600"/>
              <a:ext cx="10155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8594640" y="2664720"/>
              <a:ext cx="571320" cy="3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6135840" y="4159080"/>
            <a:ext cx="3712680" cy="2438280"/>
            <a:chOff x="6135840" y="4159080"/>
            <a:chExt cx="3712680" cy="2438280"/>
          </a:xfrm>
        </p:grpSpPr>
        <p:sp>
          <p:nvSpPr>
            <p:cNvPr id="123" name=""/>
            <p:cNvSpPr/>
            <p:nvPr/>
          </p:nvSpPr>
          <p:spPr>
            <a:xfrm>
              <a:off x="6135840" y="4159080"/>
              <a:ext cx="3712680" cy="2438280"/>
            </a:xfrm>
            <a:prstGeom prst="ellipse">
              <a:avLst/>
            </a:prstGeom>
            <a:solidFill>
              <a:srgbClr val="ff6699"/>
            </a:solidFill>
            <a:ln w="2844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29560" y="4487760"/>
              <a:ext cx="226836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2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IMPORTANT!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Only condoms protect 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against 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both </a:t>
              </a:r>
              <a:br>
                <a:rPr sz="1700"/>
              </a:b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pregnancy </a:t>
              </a:r>
              <a:br>
                <a:rPr sz="1700"/>
              </a:br>
              <a:r>
                <a:rPr b="1" i="1" lang="en-US" sz="1700" spc="-1" strike="noStrike" u="sng">
                  <a:solidFill>
                    <a:srgbClr val="ffffff"/>
                  </a:solidFill>
                  <a:uFillTx/>
                  <a:latin typeface="Arial"/>
                </a:rPr>
                <a:t>and</a:t>
              </a:r>
              <a:r>
                <a:rPr b="1" i="1" lang="en-US" sz="1700" spc="-1" strike="noStrike">
                  <a:solidFill>
                    <a:srgbClr val="ffffff"/>
                  </a:solidFill>
                  <a:latin typeface="Arial"/>
                </a:rPr>
                <a:t> STIs/HIV/AID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7"/>
            <a:stretch/>
          </p:blipFill>
          <p:spPr>
            <a:xfrm>
              <a:off x="9085680" y="4938120"/>
              <a:ext cx="383040" cy="9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8"/>
            <a:stretch/>
          </p:blipFill>
          <p:spPr>
            <a:xfrm>
              <a:off x="7957800" y="5045040"/>
              <a:ext cx="10411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409680" y="2335320"/>
            <a:ext cx="2360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wer side-effects, perman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0280" y="4537080"/>
            <a:ext cx="2589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re side-effe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36440" y="58014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Arial"/>
              </a:rPr>
              <a:t>Im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1708200" y="4888080"/>
            <a:ext cx="793800" cy="82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270000" y="4913280"/>
            <a:ext cx="90648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73000" y="51919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33"/>
                </a:solidFill>
                <a:latin typeface="Arial"/>
              </a:rPr>
              <a:t>I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35200" y="2352600"/>
            <a:ext cx="2370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ewer side-effe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49120" y="2796480"/>
            <a:ext cx="537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LA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1"/>
          <a:stretch/>
        </p:blipFill>
        <p:spPr>
          <a:xfrm>
            <a:off x="4005360" y="2708280"/>
            <a:ext cx="995400" cy="1490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6276960" y="2781360"/>
            <a:ext cx="792000" cy="5968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264600" y="3013200"/>
            <a:ext cx="2417400" cy="1524960"/>
            <a:chOff x="264600" y="3013200"/>
            <a:chExt cx="2417400" cy="1524960"/>
          </a:xfrm>
        </p:grpSpPr>
        <p:sp>
          <p:nvSpPr>
            <p:cNvPr id="138" name=""/>
            <p:cNvSpPr/>
            <p:nvPr/>
          </p:nvSpPr>
          <p:spPr>
            <a:xfrm>
              <a:off x="264600" y="4087800"/>
              <a:ext cx="10951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9933"/>
                  </a:solidFill>
                  <a:latin typeface="Arial"/>
                </a:rPr>
                <a:t>Fema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9933"/>
                  </a:solidFill>
                  <a:latin typeface="Arial"/>
                </a:rPr>
                <a:t>steriliz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2600" y="4169880"/>
              <a:ext cx="10494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9933"/>
                  </a:solidFill>
                  <a:latin typeface="Arial"/>
                </a:rPr>
                <a:t>Vasectom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3"/>
            <a:stretch/>
          </p:blipFill>
          <p:spPr>
            <a:xfrm>
              <a:off x="323280" y="3013200"/>
              <a:ext cx="1140840" cy="103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" descr=""/>
          <p:cNvPicPr/>
          <p:nvPr/>
        </p:nvPicPr>
        <p:blipFill>
          <a:blip r:embed="rId14"/>
          <a:stretch/>
        </p:blipFill>
        <p:spPr>
          <a:xfrm>
            <a:off x="1595520" y="2995560"/>
            <a:ext cx="1195200" cy="1222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440"/>
            <a:ext cx="99043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paring meth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440"/>
            <a:ext cx="990432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ing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724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hoosing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19920"/>
            <a:ext cx="990288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574056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981000"/>
            <a:ext cx="517860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 marL="101520" indent="-10152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page to help client compare methods and narrow down cho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876920"/>
            <a:ext cx="5178600" cy="101124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client finds it hard to choose: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at the client needs: To talk with partner? Mo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? Talk with a user? Think about it mo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o clients that they can try a method for a few weeks or months to see how they like it (except sterilization, vasectomy and implant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110280"/>
            <a:ext cx="3427560" cy="70812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a method in more det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go to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7320" y="4897440"/>
            <a:ext cx="3641400" cy="547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For more information on comparing methods, see Appendices 2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1346040"/>
            <a:ext cx="5178600" cy="323532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 marL="101520" indent="-10152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mportant consideration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nes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how much the client has to do or remember. The most effective methods require no repeated action. You can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w important is it to you that you don’t get pregnant now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o you think you can use a method that requires repeated action (such as taking a pill or getting an injection)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de-effec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-effects of hormonal methods (pills, injectables and implants) are common at first, but may go away after a few months. The IUD may also bother some women. Discuss how cli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feel, for example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“How would you feel if this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hod changed your monthly bleeding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manent, long- or short-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Sterilization and vasectomy are permanent. IUD and implants can be left in place for many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ction from HIV/AIDS and other STI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Condom is the only method that protects against STIs. To help client consider options and risk, go to next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27520" y="6137280"/>
            <a:ext cx="3427560" cy="708120"/>
          </a:xfrm>
          <a:prstGeom prst="downArrow">
            <a:avLst>
              <a:gd name="adj1" fmla="val 98954"/>
              <a:gd name="adj2" fmla="val 3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 STI/HIV/AIDS protection,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87800" y="4941720"/>
            <a:ext cx="322200" cy="304920"/>
          </a:xfrm>
          <a:prstGeom prst="rightArrow">
            <a:avLst>
              <a:gd name="adj1" fmla="val 44444"/>
              <a:gd name="adj2" fmla="val 410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040320" y="4956120"/>
            <a:ext cx="576360" cy="468360"/>
            <a:chOff x="9040320" y="4956120"/>
            <a:chExt cx="576360" cy="468360"/>
          </a:xfrm>
        </p:grpSpPr>
        <p:sp>
          <p:nvSpPr>
            <p:cNvPr id="156" name=""/>
            <p:cNvSpPr/>
            <p:nvPr/>
          </p:nvSpPr>
          <p:spPr>
            <a:xfrm flipH="1">
              <a:off x="9039960" y="495612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9131040" y="4968720"/>
              <a:ext cx="40320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83e3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8696160" y="3011400"/>
            <a:ext cx="609480" cy="468360"/>
            <a:chOff x="8696160" y="3011400"/>
            <a:chExt cx="609480" cy="468360"/>
          </a:xfrm>
        </p:grpSpPr>
        <p:sp>
          <p:nvSpPr>
            <p:cNvPr id="160" name=""/>
            <p:cNvSpPr/>
            <p:nvPr/>
          </p:nvSpPr>
          <p:spPr>
            <a:xfrm>
              <a:off x="8696160" y="3011400"/>
              <a:ext cx="60948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8854200" y="3058920"/>
              <a:ext cx="305280" cy="38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" descr=""/>
          <p:cNvPicPr/>
          <p:nvPr/>
        </p:nvPicPr>
        <p:blipFill>
          <a:blip r:embed="rId4"/>
          <a:srcRect l="0" t="14217" r="0" b="-315"/>
          <a:stretch/>
        </p:blipFill>
        <p:spPr>
          <a:xfrm>
            <a:off x="271440" y="952560"/>
            <a:ext cx="403236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20766000">
            <a:off x="8404200" y="4722840"/>
            <a:ext cx="1371600" cy="9619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425840"/>
            <a:ext cx="2818080" cy="19940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ther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safe forms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of intimacy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3000" y="1744560"/>
            <a:ext cx="2971800" cy="2320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y 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n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5280" y="2664720"/>
            <a:ext cx="1828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Uninfected part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904160" y="2781360"/>
            <a:ext cx="897120" cy="1299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197160" y="1744560"/>
            <a:ext cx="2895840" cy="23162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d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other 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lann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06680" y="33472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46040" y="306936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33399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44880" y="3354480"/>
            <a:ext cx="451080" cy="290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3120" y="1744560"/>
            <a:ext cx="2894040" cy="231624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d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080" y="3179880"/>
            <a:ext cx="1463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3399"/>
                </a:solidFill>
                <a:latin typeface="Arial"/>
              </a:rPr>
              <a:t>Male </a:t>
            </a:r>
            <a:br>
              <a:rPr sz="1400"/>
            </a:br>
            <a:r>
              <a:rPr b="1" i="1" lang="en-GB" sz="1400" spc="-1" strike="noStrike">
                <a:solidFill>
                  <a:srgbClr val="333399"/>
                </a:solidFill>
                <a:latin typeface="Arial"/>
              </a:rPr>
              <a:t>condoms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11440" y="3174840"/>
            <a:ext cx="1258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333399"/>
                </a:solidFill>
                <a:latin typeface="Arial"/>
              </a:rPr>
              <a:t>Female condoms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94000" y="32551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99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387520" y="2265480"/>
            <a:ext cx="3412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9400" y="409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Some other op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600" y="142632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Arial"/>
              </a:rPr>
              <a:t>Options using family plan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62400" y="4438800"/>
            <a:ext cx="2819160" cy="1993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82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537400" y="4827600"/>
            <a:ext cx="1121040" cy="1252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970520" y="4753080"/>
            <a:ext cx="874800" cy="1352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23080" y="4249800"/>
            <a:ext cx="2436840" cy="23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D for added protection from STIs/HIV/AIDS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duce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your number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f sexual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rtners: 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ne uninfected partner is saf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023920"/>
            <a:ext cx="45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10240" y="1998720"/>
            <a:ext cx="4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025720"/>
            <a:ext cx="45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5080" y="4616280"/>
            <a:ext cx="45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603680"/>
            <a:ext cx="37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Wingdings"/>
                <a:ea typeface="Wingdings"/>
              </a:rPr>
              <a:t>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533520" y="2494080"/>
            <a:ext cx="838080" cy="630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3579840" y="3298680"/>
            <a:ext cx="838080" cy="63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4664160" y="3659040"/>
            <a:ext cx="503280" cy="341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/>
          <a:stretch/>
        </p:blipFill>
        <p:spPr>
          <a:xfrm>
            <a:off x="5311800" y="3444840"/>
            <a:ext cx="349200" cy="503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1063800" y="4626000"/>
            <a:ext cx="603000" cy="1611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86200" y="4695840"/>
            <a:ext cx="1268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lay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r avoid 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aving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904320" cy="133200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ays to avoid both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pregnancy &amp; STIs/HIV/AID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0840" y="249120"/>
            <a:ext cx="1619280" cy="90828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ou can dec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1"/>
          <a:stretch/>
        </p:blipFill>
        <p:spPr>
          <a:xfrm>
            <a:off x="8701200" y="606600"/>
            <a:ext cx="13636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>JohnsonS</dc:creator>
  <dc:description/>
  <dc:language>en-US</dc:language>
  <cp:lastModifiedBy>Church</cp:lastModifiedBy>
  <cp:lastPrinted>2004-03-15T14:32:16Z</cp:lastPrinted>
  <dcterms:modified xsi:type="dcterms:W3CDTF">2005-09-16T15:05:10Z</dcterms:modified>
  <cp:revision>3107</cp:revision>
  <dc:subject/>
  <dc:title>No Slide Title</dc:title>
</cp:coreProperties>
</file>