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11D2-8EF8-4BAC-B6D0-35B5FFB83B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C047-CB86-475D-A4A0-15A432FF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2447-FF07-4D9C-97C6-13279928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85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17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85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17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BF51D-1BC7-49EA-B302-B918B96133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0D08-3C54-4D68-B3E8-DE9D337C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CB93-7919-4ABC-8E1E-A06B4F0F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7F907-344E-4710-A51C-0E228089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4BD1-1BB4-498A-87F0-6CACA3F3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86688-6AA9-4A50-8A4B-2B222382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13EC-9221-4750-B1E1-7E5273C1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9D79-54A2-4842-95D0-9ED30F10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4FE3-9422-4AE7-B750-D0CFCF74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9320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CEC8-8FA5-420B-B83D-068F332B7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90288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637240" y="1141560"/>
            <a:ext cx="3960720" cy="112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ient with warmth and resp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an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ient for co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to this flipchart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plain that it will help both you and the cl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37240" y="3198960"/>
            <a:ext cx="396072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ite client to tal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ask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lear that you want 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you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ed the client to speak ope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o you can hel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43600"/>
            <a:ext cx="990288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6095880"/>
            <a:ext cx="6397920" cy="609840"/>
          </a:xfrm>
          <a:prstGeom prst="downArrow">
            <a:avLst>
              <a:gd name="adj1" fmla="val 100000"/>
              <a:gd name="adj2" fmla="val 3515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client is comfortable and ready to talk, 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960" y="573408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7080" y="12114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912160" y="3292560"/>
            <a:ext cx="576360" cy="468360"/>
            <a:chOff x="8912160" y="3292560"/>
            <a:chExt cx="576360" cy="468360"/>
          </a:xfrm>
        </p:grpSpPr>
        <p:sp>
          <p:nvSpPr>
            <p:cNvPr id="48" name=""/>
            <p:cNvSpPr/>
            <p:nvPr/>
          </p:nvSpPr>
          <p:spPr>
            <a:xfrm>
              <a:off x="8912160" y="3292560"/>
              <a:ext cx="5763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9061560" y="3340080"/>
              <a:ext cx="2887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4807080" y="32846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800" y="1115640"/>
            <a:ext cx="44182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00000"/>
              </a:lnSpc>
              <a:spcBef>
                <a:spcPts val="9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Using this flipchart, we can help yo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901"/>
              </a:spcBef>
              <a:spcAft>
                <a:spcPts val="33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oose and use a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901"/>
              </a:spcBef>
              <a:spcAft>
                <a:spcPts val="33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ve any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901"/>
              </a:spcBef>
              <a:spcAft>
                <a:spcPts val="33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 accurat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9080" y="3124440"/>
            <a:ext cx="283536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lease tell me abo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r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r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r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7240" y="4608360"/>
            <a:ext cx="3960720" cy="81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meeting spac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the meeting will b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denti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hat you say will not be told to oth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5920" y="4728600"/>
            <a:ext cx="41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We promise you privacy and confidenti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7080" y="4816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293400" y="6400800"/>
            <a:ext cx="533160" cy="43020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9447480" y="502200"/>
            <a:ext cx="1354320" cy="438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rot="741000">
            <a:off x="7313760" y="4717800"/>
            <a:ext cx="2512800" cy="16761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741000">
            <a:off x="152280" y="1676160"/>
            <a:ext cx="3275280" cy="22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90288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can I help you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52280" y="1981080"/>
            <a:ext cx="3427200" cy="2702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726320" y="4818240"/>
            <a:ext cx="1579680" cy="1995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3080" y="1660320"/>
            <a:ext cx="589896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rmAutofit fontScale="85000"/>
          </a:bodyPr>
          <a:p>
            <a:pPr marL="248040" indent="-248040">
              <a:lnSpc>
                <a:spcPct val="95000"/>
              </a:lnSpc>
              <a:spcBef>
                <a:spcPts val="451"/>
              </a:spcBef>
              <a:spcAft>
                <a:spcPts val="11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you using a family planning method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5000"/>
              </a:lnSpc>
              <a:spcBef>
                <a:spcPts val="451"/>
              </a:spcBef>
              <a:spcAft>
                <a:spcPts val="11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ing a meth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5000"/>
              </a:lnSpc>
              <a:spcBef>
                <a:spcPts val="451"/>
              </a:spcBef>
              <a:spcAft>
                <a:spcPts val="11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 or problem about a meth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5000"/>
              </a:lnSpc>
              <a:spcBef>
                <a:spcPts val="451"/>
              </a:spcBef>
              <a:spcAft>
                <a:spcPts val="11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n about sexually transmitted infections (STIs) or HIV/AI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5000"/>
              </a:lnSpc>
              <a:spcBef>
                <a:spcPts val="451"/>
              </a:spcBef>
              <a:spcAft>
                <a:spcPts val="11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ried you might be pregn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5000"/>
              </a:lnSpc>
              <a:spcBef>
                <a:spcPts val="451"/>
              </a:spcBef>
              <a:spcAft>
                <a:spcPts val="11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nee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62000" y="966960"/>
            <a:ext cx="630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using a family planning method now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purple Returning Client tab (page RC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934000">
            <a:off x="6800760" y="1128600"/>
            <a:ext cx="406080" cy="361800"/>
          </a:xfrm>
          <a:prstGeom prst="rightArrow">
            <a:avLst>
              <a:gd name="adj1" fmla="val 50000"/>
              <a:gd name="adj2" fmla="val 28060"/>
            </a:avLst>
          </a:prstGeom>
          <a:solidFill>
            <a:srgbClr val="b5ba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7080" y="1347840"/>
            <a:ext cx="16761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7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hoose next move based on client’s purpo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62000" y="1400040"/>
            <a:ext cx="630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client choosing a method? 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green Choosing Method tab (page CM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0" y="1080"/>
            <a:ext cx="990288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can I help you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590920"/>
            <a:ext cx="6239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ern about sexually transmitted infections (STIs) or HIV/AIDS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pink Dual Protection tab (page DP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62000" y="1944720"/>
            <a:ext cx="62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stion or problem about a method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purple Returning Client tab (page RC1) or specific method tab bel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82080" y="2109960"/>
            <a:ext cx="380880" cy="352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4080" y="3665160"/>
            <a:ext cx="6397920" cy="18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10800" bIns="10800" anchor="ctr">
            <a:spAutoFit/>
          </a:bodyPr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s with special nee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clients may need spe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ice or have special concerns. Go to light blue tab (page SN1) f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Younger clients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- Older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Pregnant/postpartum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Post-abortion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Clients living with HIV/AIDS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- Clients who want to become pregn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62000" y="3121200"/>
            <a:ext cx="759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ried you might be pregnant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fer advice and support, perform pregnancy test if needed, and discuss her options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emergency contraception, go to EC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9315360" y="3394080"/>
            <a:ext cx="336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70680" y="4562640"/>
            <a:ext cx="428760" cy="392040"/>
          </a:xfrm>
          <a:prstGeom prst="rightArrow">
            <a:avLst>
              <a:gd name="adj1" fmla="val 50000"/>
              <a:gd name="adj2" fmla="val 27342"/>
            </a:avLst>
          </a:prstGeom>
          <a:solidFill>
            <a:srgbClr val="baf3fe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019920"/>
            <a:ext cx="9902880" cy="838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440" y="1527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3e3a8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21720" y="2638440"/>
            <a:ext cx="404640" cy="361800"/>
          </a:xfrm>
          <a:prstGeom prst="rightArrow">
            <a:avLst>
              <a:gd name="adj1" fmla="val 50000"/>
              <a:gd name="adj2" fmla="val 27960"/>
            </a:avLst>
          </a:prstGeom>
          <a:solidFill>
            <a:srgbClr val="ffb3d9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6091200"/>
            <a:ext cx="7007040" cy="657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d first to the client’s need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ce client tells reason for coming, go to a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43280" y="5459400"/>
            <a:ext cx="622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need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fer advice and support. Refer if needed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endices may help with some other nee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3494400">
            <a:off x="8715240" y="2109600"/>
            <a:ext cx="406440" cy="362160"/>
          </a:xfrm>
          <a:prstGeom prst="rightArrow">
            <a:avLst>
              <a:gd name="adj1" fmla="val 50000"/>
              <a:gd name="adj2" fmla="val 28057"/>
            </a:avLst>
          </a:prstGeom>
          <a:solidFill>
            <a:srgbClr val="b5ba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579132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70680" y="552600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293400" y="6400800"/>
            <a:ext cx="533160" cy="43020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904320" cy="133200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o you have a meth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 min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52560" y="4121280"/>
            <a:ext cx="76320" cy="126720"/>
          </a:xfrm>
          <a:prstGeom prst="ellipse">
            <a:avLst/>
          </a:prstGeom>
          <a:solidFill>
            <a:srgbClr val="e9ffe9"/>
          </a:solidFill>
          <a:ln w="19080">
            <a:solidFill>
              <a:srgbClr val="83e3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006800"/>
            <a:ext cx="152640" cy="152280"/>
          </a:xfrm>
          <a:prstGeom prst="ellipse">
            <a:avLst/>
          </a:prstGeom>
          <a:solidFill>
            <a:srgbClr val="e9ffe9"/>
          </a:solidFill>
          <a:ln w="19080">
            <a:solidFill>
              <a:srgbClr val="83e3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3778200"/>
            <a:ext cx="253800" cy="304920"/>
          </a:xfrm>
          <a:prstGeom prst="ellipse">
            <a:avLst/>
          </a:prstGeom>
          <a:solidFill>
            <a:srgbClr val="e9ffe9"/>
          </a:solidFill>
          <a:ln w="19080">
            <a:solidFill>
              <a:srgbClr val="83e3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203040" y="4114800"/>
            <a:ext cx="2971800" cy="2303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78280" y="1676520"/>
            <a:ext cx="6024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825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If you do, let’s talk about how it suits yo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825"/>
              </a:spcBef>
              <a:spcAft>
                <a:spcPts val="68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do you like about i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825"/>
              </a:spcBef>
              <a:spcAft>
                <a:spcPts val="68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have you heard about i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925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If not, we can find a method that is </a:t>
            </a:r>
            <a:br>
              <a:rPr sz="2200"/>
            </a:b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right for yo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4508640"/>
            <a:ext cx="4403520" cy="2062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mportant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choosing a method: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o you need protection from sexually transmitted infections (STIs) or HIV/AI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25480" y="1873080"/>
            <a:ext cx="2666880" cy="1905120"/>
            <a:chOff x="825480" y="1873080"/>
            <a:chExt cx="2666880" cy="1905120"/>
          </a:xfrm>
        </p:grpSpPr>
        <p:sp>
          <p:nvSpPr>
            <p:cNvPr id="93" name=""/>
            <p:cNvSpPr/>
            <p:nvPr/>
          </p:nvSpPr>
          <p:spPr>
            <a:xfrm>
              <a:off x="825480" y="1873080"/>
              <a:ext cx="2666880" cy="1905120"/>
            </a:xfrm>
            <a:prstGeom prst="ellipse">
              <a:avLst/>
            </a:prstGeom>
            <a:solidFill>
              <a:srgbClr val="e9ffe9"/>
            </a:solidFill>
            <a:ln w="19080">
              <a:solidFill>
                <a:srgbClr val="83e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1314360" y="3071880"/>
              <a:ext cx="55404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1689120" y="2025720"/>
              <a:ext cx="7747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1957320" y="2709720"/>
              <a:ext cx="5256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2762280" y="2879640"/>
              <a:ext cx="4237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1130400" y="2538360"/>
              <a:ext cx="5302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2514600" y="2201760"/>
              <a:ext cx="60948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1:59:38Z</dcterms:created>
  <dc:creator>JohnsonS</dc:creator>
  <dc:description/>
  <dc:language>en-US</dc:language>
  <cp:lastModifiedBy>Church</cp:lastModifiedBy>
  <cp:lastPrinted>2004-03-15T14:32:16Z</cp:lastPrinted>
  <dcterms:modified xsi:type="dcterms:W3CDTF">2005-09-16T15:06:03Z</dcterms:modified>
  <cp:revision>3107</cp:revision>
  <dc:subject/>
  <dc:title>No Slide Title</dc:title>
</cp:coreProperties>
</file>