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902825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0080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108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90080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42108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2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080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42108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38052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190080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342108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2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spcBef>
                <a:spcPts val="400"/>
              </a:spcBef>
              <a:buClr>
                <a:srgbClr val="000000"/>
              </a:buClr>
              <a:buFont typeface="Wingdings 3" charset="2"/>
              <a:buChar char="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body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spcBef>
                <a:spcPts val="400"/>
              </a:spcBef>
              <a:buClr>
                <a:srgbClr val="000000"/>
              </a:buClr>
              <a:buFont typeface="Wingdings 3" charset="2"/>
              <a:buChar char="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5842080"/>
            <a:ext cx="9906120" cy="1028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o you want to know more about condoms, or talk about a different method?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6143760"/>
            <a:ext cx="3886200" cy="684000"/>
          </a:xfrm>
          <a:prstGeom prst="downArrowCallout">
            <a:avLst>
              <a:gd name="adj1" fmla="val 568210"/>
              <a:gd name="adj2" fmla="val 284078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client wants to know more about th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male condom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go to next p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3200" y="1589040"/>
            <a:ext cx="39546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85760" indent="-185760">
              <a:lnSpc>
                <a:spcPct val="90000"/>
              </a:lnSpc>
              <a:spcBef>
                <a:spcPts val="3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tects against both pregnancy AND STIs including HIV/A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79800" y="1805040"/>
            <a:ext cx="4896000" cy="97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Client needs condom whenev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ent is unsure whether he/she or his/her partner has an STI including HI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ent has other sex partners or is not sure if current partner has had other sex partn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79800" y="2838600"/>
            <a:ext cx="4896000" cy="604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n condoms are use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rrectly every tim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they are very effective in preventing pregnancy, HIV and other ST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st if used during ALL sexual cont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9800" y="4340160"/>
            <a:ext cx="4896000" cy="70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ld in many sho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becomes easy with a little experi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couples find that they still enjoy sex with cond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0360" y="5572080"/>
            <a:ext cx="144756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906120" cy="83808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Male Cond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59080" y="174312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59080" y="283212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59080" y="439884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79800" y="5089680"/>
            <a:ext cx="4896000" cy="672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If partner does not want to use condoms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“We can discuss and practice what you might say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actice with client how to talk with partner. Use Appendix 9.</a:t>
            </a:r>
            <a:r>
              <a:rPr b="0" lang="en-GB" sz="12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79800" y="3498840"/>
            <a:ext cx="4896000" cy="779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can use another family planning method along with condoms for extra protection from pregnancy (but not the female condo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so used as back-up for another method of family planning (for example, missed pills, late for injectio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59080" y="361152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3200" y="2679840"/>
            <a:ext cx="37386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85760" indent="-185760">
              <a:lnSpc>
                <a:spcPct val="90000"/>
              </a:lnSpc>
              <a:spcBef>
                <a:spcPts val="3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ery effective when used EVERY TIME you have s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3200" y="3557520"/>
            <a:ext cx="45720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85760" indent="-185760">
              <a:lnSpc>
                <a:spcPct val="90000"/>
              </a:lnSpc>
              <a:spcBef>
                <a:spcPts val="3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n be used alone or with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other family planning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3200" y="4398840"/>
            <a:ext cx="4572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85760" indent="-185760">
              <a:lnSpc>
                <a:spcPct val="90000"/>
              </a:lnSpc>
              <a:spcBef>
                <a:spcPts val="3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asy to get, easy to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3200" y="5003640"/>
            <a:ext cx="4572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85760" indent="-185760">
              <a:lnSpc>
                <a:spcPct val="90000"/>
              </a:lnSpc>
              <a:spcBef>
                <a:spcPts val="3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ually partners need to disc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83e3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C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5778360"/>
            <a:ext cx="855720" cy="1079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79360" y="5911920"/>
            <a:ext cx="1219320" cy="94608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155520" y="19440"/>
            <a:ext cx="1143000" cy="762840"/>
            <a:chOff x="155520" y="19440"/>
            <a:chExt cx="1143000" cy="762840"/>
          </a:xfrm>
        </p:grpSpPr>
        <p:grpSp>
          <p:nvGrpSpPr>
            <p:cNvPr id="96" name=""/>
            <p:cNvGrpSpPr/>
            <p:nvPr/>
          </p:nvGrpSpPr>
          <p:grpSpPr>
            <a:xfrm>
              <a:off x="155520" y="19440"/>
              <a:ext cx="1143000" cy="762840"/>
              <a:chOff x="155520" y="19440"/>
              <a:chExt cx="1143000" cy="762840"/>
            </a:xfrm>
          </p:grpSpPr>
          <p:sp>
            <p:nvSpPr>
              <p:cNvPr id="97" name=""/>
              <p:cNvSpPr/>
              <p:nvPr/>
            </p:nvSpPr>
            <p:spPr>
              <a:xfrm>
                <a:off x="155520" y="64800"/>
                <a:ext cx="1143000" cy="71748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10800" bIns="1080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21760" y="1944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Condo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371520" y="261720"/>
              <a:ext cx="685800" cy="51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9054720" y="5032440"/>
            <a:ext cx="597240" cy="468360"/>
            <a:chOff x="9054720" y="5032440"/>
            <a:chExt cx="597240" cy="468360"/>
          </a:xfrm>
        </p:grpSpPr>
        <p:sp>
          <p:nvSpPr>
            <p:cNvPr id="101" name=""/>
            <p:cNvSpPr/>
            <p:nvPr/>
          </p:nvSpPr>
          <p:spPr>
            <a:xfrm flipH="1">
              <a:off x="9054360" y="5032440"/>
              <a:ext cx="576360" cy="468360"/>
            </a:xfrm>
            <a:prstGeom prst="rect">
              <a:avLst/>
            </a:prstGeom>
            <a:solidFill>
              <a:srgbClr val="83e3a8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9069480" y="5040720"/>
              <a:ext cx="582480" cy="44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"/>
          <p:cNvSpPr/>
          <p:nvPr/>
        </p:nvSpPr>
        <p:spPr>
          <a:xfrm>
            <a:off x="4875120" y="922320"/>
            <a:ext cx="4896000" cy="82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About the male cond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rubber sheath that covers the penis during s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most all men can use male condoms, even men with large penises. Only those with a serious allergy to latex cannot use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62320" y="505620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38720" y="6143760"/>
            <a:ext cx="3960720" cy="52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o discuss another method,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 to a new method tab or to Choosing Method ta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19240" y="6858000"/>
            <a:ext cx="1354320" cy="438120"/>
          </a:xfrm>
          <a:prstGeom prst="rect">
            <a:avLst/>
          </a:prstGeom>
          <a:solidFill>
            <a:srgbClr val="83e3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le Cond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ow to use a cond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1440" y="3425760"/>
            <a:ext cx="172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 new condo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for each sex 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3425760"/>
            <a:ext cx="1808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ce condom on tip of peni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rolled rim facing awa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46480" y="3425760"/>
            <a:ext cx="1540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roll condom all the w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base of pen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16680" y="3425760"/>
            <a:ext cx="1905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ter ejaculation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ld rim of condom so it will not slip off, and withdraw penis from vagina while still e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107200" y="3425760"/>
            <a:ext cx="152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ow away used condom prope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95320" y="5300640"/>
            <a:ext cx="3753000" cy="103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Are you ready to </a:t>
            </a:r>
            <a:br>
              <a:rPr sz="1800"/>
            </a:b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choose this metho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74560" y="5537160"/>
            <a:ext cx="1371600" cy="1065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52280" y="5519880"/>
            <a:ext cx="866880" cy="109188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336600" y="1395360"/>
            <a:ext cx="1446120" cy="1962360"/>
            <a:chOff x="336600" y="1395360"/>
            <a:chExt cx="1446120" cy="1962360"/>
          </a:xfrm>
        </p:grpSpPr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444600" y="1484280"/>
              <a:ext cx="1338120" cy="1873440"/>
            </a:xfrm>
            <a:prstGeom prst="rect">
              <a:avLst/>
            </a:prstGeom>
            <a:ln w="9360">
              <a:solidFill>
                <a:srgbClr val="00cc99"/>
              </a:solidFill>
              <a:miter/>
            </a:ln>
          </p:spPr>
        </p:pic>
        <p:sp>
          <p:nvSpPr>
            <p:cNvPr id="118" name=""/>
            <p:cNvSpPr/>
            <p:nvPr/>
          </p:nvSpPr>
          <p:spPr>
            <a:xfrm>
              <a:off x="336600" y="1395360"/>
              <a:ext cx="5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cc99"/>
                  </a:solidFill>
                  <a:latin typeface="Wingdings"/>
                  <a:ea typeface="Wingdings"/>
                </a:rPr>
                <a:t>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273400" y="1355760"/>
            <a:ext cx="1458720" cy="2014560"/>
            <a:chOff x="2273400" y="1355760"/>
            <a:chExt cx="1458720" cy="2014560"/>
          </a:xfrm>
        </p:grpSpPr>
        <p:grpSp>
          <p:nvGrpSpPr>
            <p:cNvPr id="120" name=""/>
            <p:cNvGrpSpPr/>
            <p:nvPr/>
          </p:nvGrpSpPr>
          <p:grpSpPr>
            <a:xfrm>
              <a:off x="2352600" y="1465560"/>
              <a:ext cx="1379520" cy="1904760"/>
              <a:chOff x="2352600" y="1465560"/>
              <a:chExt cx="1379520" cy="1904760"/>
            </a:xfrm>
          </p:grpSpPr>
          <p:sp>
            <p:nvSpPr>
              <p:cNvPr id="121" name=""/>
              <p:cNvSpPr/>
              <p:nvPr/>
            </p:nvSpPr>
            <p:spPr>
              <a:xfrm>
                <a:off x="2352600" y="1465560"/>
                <a:ext cx="1371600" cy="190476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428920" y="1513080"/>
                <a:ext cx="1303200" cy="1828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3" name=""/>
            <p:cNvSpPr/>
            <p:nvPr/>
          </p:nvSpPr>
          <p:spPr>
            <a:xfrm>
              <a:off x="2273400" y="1355760"/>
              <a:ext cx="59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cc99"/>
                  </a:solidFill>
                  <a:latin typeface="Wingdings"/>
                  <a:ea typeface="Wingdings"/>
                </a:rPr>
                <a:t>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200480" y="1355760"/>
            <a:ext cx="1454040" cy="2014560"/>
            <a:chOff x="4200480" y="1355760"/>
            <a:chExt cx="1454040" cy="2014560"/>
          </a:xfrm>
        </p:grpSpPr>
        <p:grpSp>
          <p:nvGrpSpPr>
            <p:cNvPr id="125" name=""/>
            <p:cNvGrpSpPr/>
            <p:nvPr/>
          </p:nvGrpSpPr>
          <p:grpSpPr>
            <a:xfrm>
              <a:off x="4282920" y="1465560"/>
              <a:ext cx="1371600" cy="1904760"/>
              <a:chOff x="4282920" y="1465560"/>
              <a:chExt cx="1371600" cy="1904760"/>
            </a:xfrm>
          </p:grpSpPr>
          <p:pic>
            <p:nvPicPr>
              <p:cNvPr id="12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358880" y="1465560"/>
                <a:ext cx="1295640" cy="190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4282920" y="1465560"/>
                <a:ext cx="1371600" cy="190476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4200480" y="1355760"/>
              <a:ext cx="59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cc99"/>
                  </a:solidFill>
                  <a:latin typeface="Wingdings"/>
                  <a:ea typeface="Wingdings"/>
                </a:rPr>
                <a:t>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175440" y="1370160"/>
            <a:ext cx="1425600" cy="1981080"/>
            <a:chOff x="6175440" y="1370160"/>
            <a:chExt cx="1425600" cy="1981080"/>
          </a:xfrm>
        </p:grpSpPr>
        <p:grpSp>
          <p:nvGrpSpPr>
            <p:cNvPr id="130" name=""/>
            <p:cNvGrpSpPr/>
            <p:nvPr/>
          </p:nvGrpSpPr>
          <p:grpSpPr>
            <a:xfrm>
              <a:off x="6229440" y="1465560"/>
              <a:ext cx="1371600" cy="1885680"/>
              <a:chOff x="6229440" y="1465560"/>
              <a:chExt cx="1371600" cy="1885680"/>
            </a:xfrm>
          </p:grpSpPr>
          <p:sp>
            <p:nvSpPr>
              <p:cNvPr id="131" name=""/>
              <p:cNvSpPr/>
              <p:nvPr/>
            </p:nvSpPr>
            <p:spPr>
              <a:xfrm>
                <a:off x="6229440" y="1465560"/>
                <a:ext cx="1371600" cy="188568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305760" y="1508040"/>
                <a:ext cx="1295280" cy="1828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3" name=""/>
            <p:cNvSpPr/>
            <p:nvPr/>
          </p:nvSpPr>
          <p:spPr>
            <a:xfrm>
              <a:off x="6175440" y="1370160"/>
              <a:ext cx="59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cc99"/>
                  </a:solidFill>
                  <a:latin typeface="Wingdings"/>
                  <a:ea typeface="Wingdings"/>
                </a:rPr>
                <a:t>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8136000" y="1374840"/>
            <a:ext cx="1353960" cy="1995480"/>
            <a:chOff x="8136000" y="1374840"/>
            <a:chExt cx="1353960" cy="1995480"/>
          </a:xfrm>
        </p:grpSpPr>
        <p:pic>
          <p:nvPicPr>
            <p:cNvPr id="135" name="" descr=""/>
            <p:cNvPicPr/>
            <p:nvPr/>
          </p:nvPicPr>
          <p:blipFill>
            <a:blip r:embed="rId7"/>
            <a:stretch/>
          </p:blipFill>
          <p:spPr>
            <a:xfrm>
              <a:off x="8228160" y="1465560"/>
              <a:ext cx="1261800" cy="1904760"/>
            </a:xfrm>
            <a:prstGeom prst="rect">
              <a:avLst/>
            </a:prstGeom>
            <a:ln w="9360">
              <a:solidFill>
                <a:srgbClr val="00cc99"/>
              </a:solidFill>
              <a:miter/>
            </a:ln>
          </p:spPr>
        </p:pic>
        <p:sp>
          <p:nvSpPr>
            <p:cNvPr id="136" name=""/>
            <p:cNvSpPr/>
            <p:nvPr/>
          </p:nvSpPr>
          <p:spPr>
            <a:xfrm>
              <a:off x="8136000" y="1374840"/>
              <a:ext cx="59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cc99"/>
                  </a:solidFill>
                  <a:latin typeface="Wingdings"/>
                  <a:ea typeface="Wingdings"/>
                </a:rPr>
                <a:t>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to use a cond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67360" y="2446200"/>
            <a:ext cx="1905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ter ejaculation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ld rim of condom so it will not slip off, and withdraw penis from vagina while still er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7080" y="2454120"/>
            <a:ext cx="17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 new condom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for each sex act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7080" y="4027320"/>
            <a:ext cx="1944720" cy="1265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spcAft>
                <a:spcPts val="30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pen package carefull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spcAft>
                <a:spcPts val="30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ck the expiry or manufacturing da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spcAft>
                <a:spcPts val="30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doms should be used within 3 years of the manufacturing d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880560" y="361944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48520" y="4027320"/>
            <a:ext cx="1655640" cy="824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awa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artner fir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spill semen on vaginal ope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5400000">
            <a:off x="6727320" y="361944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51440" y="2454120"/>
            <a:ext cx="167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roll condom all the wa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 base of pen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14640" y="4031280"/>
            <a:ext cx="2159280" cy="1554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01520" indent="-10152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condom does not unroll easily, it may be backwards or too old. If old, use a new cond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bricants can be used (water-based, not oil-based) and should be used during anal inter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400000">
            <a:off x="4668480" y="361944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164440" y="2454120"/>
            <a:ext cx="134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ow away used condom proper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153280" y="4027320"/>
            <a:ext cx="1543320" cy="641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throw away in bin or trash can as appropri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8648280" y="361944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98520" y="2454120"/>
            <a:ext cx="16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ce condom on tip of peni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with rolled rim facing awa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bo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14720" y="4027320"/>
            <a:ext cx="1531800" cy="1044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spcAft>
                <a:spcPts val="30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condom on before penis touches vagin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uncircumcised, pull back foresk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2829960" y="361944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5715000"/>
            <a:ext cx="990612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oes client understand how to use the condom?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Is he/she ready to choose method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6095880"/>
            <a:ext cx="3810240" cy="685800"/>
          </a:xfrm>
          <a:prstGeom prst="downArrowCallout">
            <a:avLst>
              <a:gd name="adj1" fmla="val 555641"/>
              <a:gd name="adj2" fmla="val 277795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f he/she has decided to use method,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 to next p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6095880"/>
            <a:ext cx="3645000" cy="533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not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iscuss further or conside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metho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7080" y="5514840"/>
            <a:ext cx="144756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83e3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C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5778360"/>
            <a:ext cx="855720" cy="1079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79360" y="5911920"/>
            <a:ext cx="1219320" cy="94608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155520" y="21240"/>
            <a:ext cx="1143000" cy="762840"/>
            <a:chOff x="155520" y="21240"/>
            <a:chExt cx="1143000" cy="762840"/>
          </a:xfrm>
        </p:grpSpPr>
        <p:grpSp>
          <p:nvGrpSpPr>
            <p:cNvPr id="161" name=""/>
            <p:cNvGrpSpPr/>
            <p:nvPr/>
          </p:nvGrpSpPr>
          <p:grpSpPr>
            <a:xfrm>
              <a:off x="155520" y="21240"/>
              <a:ext cx="1143000" cy="762840"/>
              <a:chOff x="155520" y="21240"/>
              <a:chExt cx="1143000" cy="762840"/>
            </a:xfrm>
          </p:grpSpPr>
          <p:sp>
            <p:nvSpPr>
              <p:cNvPr id="162" name=""/>
              <p:cNvSpPr/>
              <p:nvPr/>
            </p:nvSpPr>
            <p:spPr>
              <a:xfrm>
                <a:off x="155520" y="66600"/>
                <a:ext cx="1143000" cy="71748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10800" bIns="1080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1760" y="2124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Condo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4" name="" descr=""/>
            <p:cNvPicPr/>
            <p:nvPr/>
          </p:nvPicPr>
          <p:blipFill>
            <a:blip r:embed="rId3"/>
            <a:stretch/>
          </p:blipFill>
          <p:spPr>
            <a:xfrm>
              <a:off x="371520" y="263520"/>
              <a:ext cx="685800" cy="51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"/>
          <p:cNvGrpSpPr/>
          <p:nvPr/>
        </p:nvGrpSpPr>
        <p:grpSpPr>
          <a:xfrm>
            <a:off x="8236080" y="922320"/>
            <a:ext cx="1136520" cy="1517760"/>
            <a:chOff x="8236080" y="922320"/>
            <a:chExt cx="1136520" cy="1517760"/>
          </a:xfrm>
        </p:grpSpPr>
        <p:pic>
          <p:nvPicPr>
            <p:cNvPr id="166" name="" descr=""/>
            <p:cNvPicPr/>
            <p:nvPr/>
          </p:nvPicPr>
          <p:blipFill>
            <a:blip r:embed="rId4"/>
            <a:stretch/>
          </p:blipFill>
          <p:spPr>
            <a:xfrm>
              <a:off x="8305920" y="992160"/>
              <a:ext cx="100944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8305920" y="992160"/>
              <a:ext cx="1066680" cy="1447920"/>
            </a:xfrm>
            <a:prstGeom prst="rect">
              <a:avLst/>
            </a:prstGeom>
            <a:noFill/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36080" y="92232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cc99"/>
                  </a:solidFill>
                  <a:latin typeface="Wingdings"/>
                  <a:ea typeface="Wingdings"/>
                </a:rPr>
                <a:t>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243480" y="922320"/>
            <a:ext cx="1224000" cy="1517760"/>
            <a:chOff x="6243480" y="922320"/>
            <a:chExt cx="1224000" cy="1517760"/>
          </a:xfrm>
        </p:grpSpPr>
        <p:pic>
          <p:nvPicPr>
            <p:cNvPr id="170" name="" descr=""/>
            <p:cNvPicPr/>
            <p:nvPr/>
          </p:nvPicPr>
          <p:blipFill>
            <a:blip r:embed="rId5"/>
            <a:stretch/>
          </p:blipFill>
          <p:spPr>
            <a:xfrm>
              <a:off x="6324480" y="992160"/>
              <a:ext cx="113364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6324480" y="992160"/>
              <a:ext cx="1143000" cy="1447920"/>
            </a:xfrm>
            <a:prstGeom prst="rect">
              <a:avLst/>
            </a:prstGeom>
            <a:noFill/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243480" y="922320"/>
              <a:ext cx="59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cc99"/>
                  </a:solidFill>
                  <a:latin typeface="Wingdings"/>
                  <a:ea typeface="Wingdings"/>
                </a:rPr>
                <a:t>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216320" y="907920"/>
            <a:ext cx="1181160" cy="1531800"/>
            <a:chOff x="4216320" y="907920"/>
            <a:chExt cx="1181160" cy="1531800"/>
          </a:xfrm>
        </p:grpSpPr>
        <p:pic>
          <p:nvPicPr>
            <p:cNvPr id="174" name="" descr=""/>
            <p:cNvPicPr/>
            <p:nvPr/>
          </p:nvPicPr>
          <p:blipFill>
            <a:blip r:embed="rId6"/>
            <a:stretch/>
          </p:blipFill>
          <p:spPr>
            <a:xfrm>
              <a:off x="4309920" y="991800"/>
              <a:ext cx="108756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4309920" y="991800"/>
              <a:ext cx="1067040" cy="1447920"/>
            </a:xfrm>
            <a:prstGeom prst="rect">
              <a:avLst/>
            </a:prstGeom>
            <a:noFill/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16320" y="90792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cc99"/>
                  </a:solidFill>
                  <a:latin typeface="Wingdings"/>
                  <a:ea typeface="Wingdings"/>
                </a:rPr>
                <a:t>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363760" y="907920"/>
            <a:ext cx="1137960" cy="1531800"/>
            <a:chOff x="2363760" y="907920"/>
            <a:chExt cx="1137960" cy="1531800"/>
          </a:xfrm>
        </p:grpSpPr>
        <p:pic>
          <p:nvPicPr>
            <p:cNvPr id="178" name="" descr=""/>
            <p:cNvPicPr/>
            <p:nvPr/>
          </p:nvPicPr>
          <p:blipFill>
            <a:blip r:embed="rId7"/>
            <a:stretch/>
          </p:blipFill>
          <p:spPr>
            <a:xfrm>
              <a:off x="2469960" y="991800"/>
              <a:ext cx="103176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2435040" y="991800"/>
              <a:ext cx="1066680" cy="1447920"/>
            </a:xfrm>
            <a:prstGeom prst="rect">
              <a:avLst/>
            </a:prstGeom>
            <a:noFill/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63760" y="90792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cc99"/>
                  </a:solidFill>
                  <a:latin typeface="Wingdings"/>
                  <a:ea typeface="Wingdings"/>
                </a:rPr>
                <a:t>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399960" y="936720"/>
            <a:ext cx="1123920" cy="1503360"/>
            <a:chOff x="399960" y="936720"/>
            <a:chExt cx="1123920" cy="1503360"/>
          </a:xfrm>
        </p:grpSpPr>
        <p:sp>
          <p:nvSpPr>
            <p:cNvPr id="182" name=""/>
            <p:cNvSpPr/>
            <p:nvPr/>
          </p:nvSpPr>
          <p:spPr>
            <a:xfrm>
              <a:off x="457200" y="992160"/>
              <a:ext cx="1066680" cy="1447920"/>
            </a:xfrm>
            <a:prstGeom prst="rect">
              <a:avLst/>
            </a:prstGeom>
            <a:noFill/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8"/>
            <a:stretch/>
          </p:blipFill>
          <p:spPr>
            <a:xfrm>
              <a:off x="542880" y="992160"/>
              <a:ext cx="9810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99960" y="93672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cc99"/>
                  </a:solidFill>
                  <a:latin typeface="Wingdings"/>
                  <a:ea typeface="Wingdings"/>
                </a:rPr>
                <a:t>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8407440" y="5330880"/>
            <a:ext cx="576360" cy="468360"/>
            <a:chOff x="8407440" y="5330880"/>
            <a:chExt cx="576360" cy="468360"/>
          </a:xfrm>
        </p:grpSpPr>
        <p:sp>
          <p:nvSpPr>
            <p:cNvPr id="186" name=""/>
            <p:cNvSpPr/>
            <p:nvPr/>
          </p:nvSpPr>
          <p:spPr>
            <a:xfrm>
              <a:off x="8407440" y="5330880"/>
              <a:ext cx="576360" cy="468360"/>
            </a:xfrm>
            <a:prstGeom prst="rect">
              <a:avLst/>
            </a:prstGeom>
            <a:solidFill>
              <a:srgbClr val="a4acf4"/>
            </a:soli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7" name="" descr=""/>
            <p:cNvPicPr/>
            <p:nvPr/>
          </p:nvPicPr>
          <p:blipFill>
            <a:blip r:embed="rId9"/>
            <a:stretch/>
          </p:blipFill>
          <p:spPr>
            <a:xfrm>
              <a:off x="8604360" y="5427720"/>
              <a:ext cx="190440" cy="25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"/>
          <p:cNvGrpSpPr/>
          <p:nvPr/>
        </p:nvGrpSpPr>
        <p:grpSpPr>
          <a:xfrm>
            <a:off x="9055080" y="5330880"/>
            <a:ext cx="576000" cy="468360"/>
            <a:chOff x="9055080" y="5330880"/>
            <a:chExt cx="576000" cy="468360"/>
          </a:xfrm>
        </p:grpSpPr>
        <p:sp>
          <p:nvSpPr>
            <p:cNvPr id="189" name=""/>
            <p:cNvSpPr/>
            <p:nvPr/>
          </p:nvSpPr>
          <p:spPr>
            <a:xfrm>
              <a:off x="9055080" y="533088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0" name="" descr=""/>
            <p:cNvPicPr/>
            <p:nvPr/>
          </p:nvPicPr>
          <p:blipFill>
            <a:blip r:embed="rId10"/>
            <a:stretch/>
          </p:blipFill>
          <p:spPr>
            <a:xfrm>
              <a:off x="9194760" y="545652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534520" y="1549440"/>
            <a:ext cx="1268280" cy="92088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280" y="1555920"/>
            <a:ext cx="3276720" cy="45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7840" indent="-177840">
              <a:lnSpc>
                <a:spcPct val="90000"/>
              </a:lnSpc>
              <a:spcBef>
                <a:spcPts val="2750"/>
              </a:spcBef>
              <a:spcAft>
                <a:spcPts val="55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a condom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VERY TIME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have se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2750"/>
              </a:spcBef>
              <a:spcAft>
                <a:spcPts val="55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ke sure you always have enough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pplies of condo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27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a condom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reaks,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der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mergency contraception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 soon as possi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21337200">
            <a:off x="2057400" y="4140360"/>
            <a:ext cx="1219320" cy="99036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21337200">
            <a:off x="3200400" y="2971800"/>
            <a:ext cx="1676520" cy="91440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21337200">
            <a:off x="3429000" y="4190760"/>
            <a:ext cx="1981080" cy="91440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21337200">
            <a:off x="2614320" y="1511280"/>
            <a:ext cx="2209680" cy="121932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at to rememb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2235240" cy="1368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200400" y="2971800"/>
            <a:ext cx="1863720" cy="9446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3429000" y="4267080"/>
            <a:ext cx="2057400" cy="10432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8191440" y="3301920"/>
            <a:ext cx="1208160" cy="14479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638680" y="1523880"/>
            <a:ext cx="259092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7840" indent="-177840">
              <a:lnSpc>
                <a:spcPct val="90000"/>
              </a:lnSpc>
              <a:spcBef>
                <a:spcPts val="3438"/>
              </a:spcBef>
              <a:spcAft>
                <a:spcPts val="55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only water-based lubricants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343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ore condoms away from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rect sunlight and he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2133720" y="4191120"/>
            <a:ext cx="900000" cy="10429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152880" y="4508640"/>
            <a:ext cx="50328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49880" y="5300640"/>
            <a:ext cx="373392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Anything else I can repeat or explain? </a:t>
            </a:r>
            <a:br>
              <a:rPr sz="1800"/>
            </a:b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Any other questi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43880" y="2065320"/>
            <a:ext cx="1268280" cy="92088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7805880" y="2060640"/>
            <a:ext cx="896760" cy="11732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8717040" y="1511280"/>
            <a:ext cx="94464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73160" y="2666880"/>
            <a:ext cx="46479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 condom breaks, consider emergency contraception as soo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to reme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3160" y="1036800"/>
            <a:ext cx="46479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a condom EVERY TIME you have s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95800" y="909720"/>
            <a:ext cx="4657680" cy="1066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You need to use a condom EVERY TIME you have sex for full protection from pregnancy and STIs.”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Cannot reuse condoms.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st use a new condom for each act of intercourse.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If cannot use a condom every time,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der also using another method of family plann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95800" y="2397240"/>
            <a:ext cx="4657680" cy="2001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doms rarely break if properly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condoms break often, make sure they are not damaged or old. Review instructions for proper use. Also try lubricated condoms, or else water or water-based lubricant on outside of cond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not use if unopened package is torn or leaking, or the condom is dried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ffer emergency contraceptive pill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women to take home in case condom breaks or sli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ents that may have been exposed to HIV or STIs may also nee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ost-exposure prophylaxis (PE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for HIV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nd/or presumptive STI treatm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3160" y="5084640"/>
            <a:ext cx="39859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e condoms away from direct sun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75160" y="10652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75160" y="276084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6035760"/>
            <a:ext cx="9909000" cy="831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51080" y="6093000"/>
            <a:ext cx="7157880" cy="69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you feel happy with this choice of method?</a:t>
            </a:r>
            <a:r>
              <a:rPr b="1" i="1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s there anything I can repeat or explain? Please come back any time!”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Last, most important message: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“Use a condom every time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7080" y="5765760"/>
            <a:ext cx="198108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Last Move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95800" y="5646600"/>
            <a:ext cx="4657680" cy="320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nlight and heat can make condoms weak and they can br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753200">
            <a:off x="4493880" y="53546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3160" y="1930320"/>
            <a:ext cx="46479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sure you always have enough supplies of condo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095800" y="2031840"/>
            <a:ext cx="46576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Get more condoms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you run ou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3160" y="4460760"/>
            <a:ext cx="4647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only water-based lubric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95800" y="4452840"/>
            <a:ext cx="4657680" cy="1136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ils weaken condoms so condoms can break. Avoid oil-based materials such as cooking oil, baby oil, coconut oil, petroleum jelly, bu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-based materials are OK. They include glycerine, certain commercial lubricants, clean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ll client whether condoms offered are lubricated or n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75160" y="206064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75160" y="45036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83e3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C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55520" y="14760"/>
            <a:ext cx="1143000" cy="762840"/>
            <a:chOff x="155520" y="14760"/>
            <a:chExt cx="1143000" cy="762840"/>
          </a:xfrm>
        </p:grpSpPr>
        <p:grpSp>
          <p:nvGrpSpPr>
            <p:cNvPr id="230" name=""/>
            <p:cNvGrpSpPr/>
            <p:nvPr/>
          </p:nvGrpSpPr>
          <p:grpSpPr>
            <a:xfrm>
              <a:off x="155520" y="14760"/>
              <a:ext cx="1143000" cy="762840"/>
              <a:chOff x="155520" y="14760"/>
              <a:chExt cx="1143000" cy="762840"/>
            </a:xfrm>
          </p:grpSpPr>
          <p:sp>
            <p:nvSpPr>
              <p:cNvPr id="231" name=""/>
              <p:cNvSpPr/>
              <p:nvPr/>
            </p:nvSpPr>
            <p:spPr>
              <a:xfrm>
                <a:off x="155520" y="60120"/>
                <a:ext cx="1143000" cy="71748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10800" bIns="1080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1760" y="1476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Condo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33" name="" descr=""/>
            <p:cNvPicPr/>
            <p:nvPr/>
          </p:nvPicPr>
          <p:blipFill>
            <a:blip r:embed="rId1"/>
            <a:stretch/>
          </p:blipFill>
          <p:spPr>
            <a:xfrm>
              <a:off x="371520" y="257040"/>
              <a:ext cx="685800" cy="51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4" name=""/>
          <p:cNvGrpSpPr/>
          <p:nvPr/>
        </p:nvGrpSpPr>
        <p:grpSpPr>
          <a:xfrm>
            <a:off x="7802640" y="6200640"/>
            <a:ext cx="576000" cy="468360"/>
            <a:chOff x="7802640" y="6200640"/>
            <a:chExt cx="576000" cy="468360"/>
          </a:xfrm>
        </p:grpSpPr>
        <p:sp>
          <p:nvSpPr>
            <p:cNvPr id="235" name=""/>
            <p:cNvSpPr/>
            <p:nvPr/>
          </p:nvSpPr>
          <p:spPr>
            <a:xfrm>
              <a:off x="7802640" y="620064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6" name="" descr=""/>
            <p:cNvPicPr/>
            <p:nvPr/>
          </p:nvPicPr>
          <p:blipFill>
            <a:blip r:embed="rId2"/>
            <a:stretch/>
          </p:blipFill>
          <p:spPr>
            <a:xfrm>
              <a:off x="7942320" y="632628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 rot="21337200">
            <a:off x="7423200" y="2133360"/>
            <a:ext cx="1873080" cy="2057400"/>
          </a:xfrm>
          <a:prstGeom prst="ellipse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21337200">
            <a:off x="3213000" y="4483080"/>
            <a:ext cx="1295640" cy="1219320"/>
          </a:xfrm>
          <a:prstGeom prst="ellipse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Female Cond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2280" y="1341360"/>
            <a:ext cx="533412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16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Helps protect against both pregnancy and STIs/HIV/AI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6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ffective when used 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VERY TIME you have se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6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an be used alone or with other family planning metho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6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May be expens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6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nserted by the 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woman, but need to 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iscuss with part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7913520" y="2300400"/>
            <a:ext cx="889200" cy="23619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352680" y="4572000"/>
            <a:ext cx="1038240" cy="16002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 rot="21337200">
            <a:off x="4250880" y="2133360"/>
            <a:ext cx="1779840" cy="977760"/>
          </a:xfrm>
          <a:prstGeom prst="ellipse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4040280" y="2219400"/>
            <a:ext cx="1820880" cy="11142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952880" y="5181480"/>
            <a:ext cx="4800600" cy="1270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Do you want to know more about this method, or talk about a different metho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4495680" y="5524560"/>
            <a:ext cx="14479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31T15:18:44Z</dcterms:created>
  <dc:creator>Church</dc:creator>
  <dc:description/>
  <dc:language>en-US</dc:language>
  <cp:lastModifiedBy>meynentc</cp:lastModifiedBy>
  <cp:lastPrinted>2003-07-13T11:19:50Z</cp:lastPrinted>
  <dcterms:modified xsi:type="dcterms:W3CDTF">2011-08-22T13:29:51Z</dcterms:modified>
  <cp:revision>99</cp:revision>
  <dc:subject/>
  <dc:title>No Slide Title</dc:title>
</cp:coreProperties>
</file>