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D588-2D54-4A12-8BD5-6551A97C8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F0D2-A379-43A8-811E-5E32234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70E2-31AB-45CF-ADFD-A5A10C3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E285-CACD-4550-B75C-FB18DAD59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FA7E-4CB6-4BFF-9BDA-459AA626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407A-7350-4C9F-9608-EE74E7F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08A8-1496-4A2F-8FA6-B9C6576F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4CD5-DD3F-4646-AA50-1A6B3C34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7D7A-AFCA-4586-A647-BC3C95EC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6BB3-3F17-4F32-9AF1-9F7C6D54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3A46-68F6-43B6-91BB-65005144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1774-7886-4369-8C64-129C68FC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93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388-3F27-477C-AD3C-3E0895741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rcRect l="0" t="18522" r="0" b="0"/>
          <a:stretch/>
        </p:blipFill>
        <p:spPr>
          <a:xfrm>
            <a:off x="198360" y="1327320"/>
            <a:ext cx="3529080" cy="1990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52280" y="3789360"/>
            <a:ext cx="32004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buClr>
                <a:srgbClr val="ff33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What is an uninfected partn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s must consider i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partner could have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 or HIV. Go to next p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805360"/>
            <a:ext cx="990288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ich option would the client like to discu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0"/>
            <a:ext cx="9902880" cy="115092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to avoid bo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regnancy &amp; STIs/HIV/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1800" y="1317600"/>
            <a:ext cx="5891400" cy="13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troduce the topic of STIs &amp; HIV/AIDS gently but hone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cause STIs and HIV/AIDS are a growing problem, we all need to choose ways to protect ourselves and our famili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IV/AIDS and STIs if needed (see Appendix 8), inclu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consequences (such as pain, infertility, life-threatening illnes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ether they think about it or not, everyone either takes risks or protects themselves. I want to help you make a healthy ch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2880" y="6134040"/>
            <a:ext cx="320184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needs help considering her/his ris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240" y="21276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720" y="5589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1800" y="2816280"/>
            <a:ext cx="5894640" cy="285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xplain the dual protection cho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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oms can be very effective for family planning—when used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consistently and correctly—and are the only method that also protects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against STIs/HIV/A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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doms AND another family planning method offers more protec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rom pregnancy than condoms alo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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amily planning method can be used if you and your partner are unin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ypes of sexual intimacy that can be satisfying yet do not spr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STIs or HIV. For best protection, no contact with partner’s semen or vagin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secretions. Avoid unprotected anal and oral s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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ing or avoiding sexual activity (abstinence) can be a good choice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ome adolescents or unmarried ad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client chooses option 4 or 5, advise on the need for protection if she/he decides to have sex: “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Always keep condoms at hand in case you need the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57560" y="6134040"/>
            <a:ext cx="260208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condom use now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a condom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3920" y="6134040"/>
            <a:ext cx="258948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another method now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correct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055080" y="1774800"/>
            <a:ext cx="576360" cy="468360"/>
            <a:chOff x="9055080" y="1774800"/>
            <a:chExt cx="576360" cy="468360"/>
          </a:xfrm>
        </p:grpSpPr>
        <p:sp>
          <p:nvSpPr>
            <p:cNvPr id="54" name=""/>
            <p:cNvSpPr/>
            <p:nvPr/>
          </p:nvSpPr>
          <p:spPr>
            <a:xfrm>
              <a:off x="9055080" y="177480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9252000" y="187164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792520" y="176040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15080" y="5689440"/>
            <a:ext cx="609480" cy="468360"/>
            <a:chOff x="7615080" y="5689440"/>
            <a:chExt cx="609480" cy="468360"/>
          </a:xfrm>
        </p:grpSpPr>
        <p:sp>
          <p:nvSpPr>
            <p:cNvPr id="58" name=""/>
            <p:cNvSpPr/>
            <p:nvPr/>
          </p:nvSpPr>
          <p:spPr>
            <a:xfrm>
              <a:off x="7615080" y="5689440"/>
              <a:ext cx="60948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7773120" y="5736960"/>
              <a:ext cx="30528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430360" y="4221000"/>
            <a:ext cx="576000" cy="468360"/>
            <a:chOff x="2430360" y="4221000"/>
            <a:chExt cx="576000" cy="468360"/>
          </a:xfrm>
        </p:grpSpPr>
        <p:sp>
          <p:nvSpPr>
            <p:cNvPr id="61" name=""/>
            <p:cNvSpPr/>
            <p:nvPr/>
          </p:nvSpPr>
          <p:spPr>
            <a:xfrm>
              <a:off x="2430360" y="4221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2570040" y="4346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 rot="5400000">
            <a:off x="9443160" y="3324600"/>
            <a:ext cx="1353960" cy="438480"/>
          </a:xfrm>
          <a:prstGeom prst="rect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20766000">
            <a:off x="6779880" y="1333440"/>
            <a:ext cx="1598760" cy="1067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506600"/>
            <a:ext cx="777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ituations are more risky than others —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having more than one sexual part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, you may not know if you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artner has an STI or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rson with HIV can look and feel heal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are unsure of infection, tests may b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800600"/>
            <a:ext cx="5407200" cy="19051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a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9680" y="4800600"/>
            <a:ext cx="3897360" cy="1905120"/>
          </a:xfrm>
          <a:prstGeom prst="rect">
            <a:avLst/>
          </a:prstGeom>
          <a:solidFill>
            <a:srgbClr val="ffcccc"/>
          </a:solidFill>
          <a:ln w="28440">
            <a:solidFill>
              <a:srgbClr val="f67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a WOM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’s consider your ri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440" y="6095880"/>
            <a:ext cx="23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 or bu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you urin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15000" y="4800600"/>
            <a:ext cx="121140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19920"/>
            <a:ext cx="27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r around your vagi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4834080"/>
            <a:ext cx="762120" cy="59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75440" y="4772160"/>
            <a:ext cx="175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where in your genit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9000" y="5486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from your pen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626080" y="5486400"/>
            <a:ext cx="566640" cy="104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417920" y="4838760"/>
            <a:ext cx="523800" cy="660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970360" y="4927680"/>
            <a:ext cx="766440" cy="1752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320" y="41911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ome STIs have signs and symptom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1656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 in your lower bell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048440" y="1422360"/>
            <a:ext cx="1382760" cy="154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8683560" y="5646600"/>
            <a:ext cx="1023840" cy="1060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183440" y="3294000"/>
            <a:ext cx="2519280" cy="11430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o you want </a:t>
            </a:r>
            <a:br>
              <a:rPr sz="1800"/>
            </a:b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to be tested for HI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4320" cy="83808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consider your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62640" y="893880"/>
            <a:ext cx="5236920" cy="217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ell clients which situations are risky. Then ask them to think about their sexual relationships to help assess risk. Offer to discu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Appendix 12 for tips on talking about sex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isky situat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with more than one partner without always using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with a partner who may have sex with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for money, food, or other pay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with a new partner who does not always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 husband who travels for work and returns now and t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n area where HIV and other STIs are widesp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lescents may be at higher ris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1052640"/>
            <a:ext cx="434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15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situations are more risky than others — such as having more than one sexual partn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3660840"/>
            <a:ext cx="466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Some STIs have signs and symptom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920" y="4168800"/>
            <a:ext cx="3882960" cy="685800"/>
          </a:xfrm>
          <a:prstGeom prst="rect">
            <a:avLst/>
          </a:prstGeom>
          <a:solidFill>
            <a:srgbClr val="ffcccc"/>
          </a:solidFill>
          <a:ln w="12600">
            <a:solidFill>
              <a:srgbClr val="f67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r a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n in your lower bell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or around your vagina?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4846680"/>
            <a:ext cx="388476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r a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ing from your peni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n or bur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n you urina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so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where in your genital are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7400" y="1270080"/>
            <a:ext cx="379440" cy="304560"/>
          </a:xfrm>
          <a:prstGeom prst="rightArrow">
            <a:avLst>
              <a:gd name="adj1" fmla="val 44444"/>
              <a:gd name="adj2" fmla="val 4845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57560" y="3284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3676800">
            <a:off x="3948840" y="2313720"/>
            <a:ext cx="380880" cy="306360"/>
          </a:xfrm>
          <a:prstGeom prst="rightArrow">
            <a:avLst>
              <a:gd name="adj1" fmla="val 44444"/>
              <a:gd name="adj2" fmla="val 48348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8240" y="6984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40" y="1766880"/>
            <a:ext cx="434340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15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ten, you may not know if you or your partner has an ST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40800">
            <a:off x="4032000" y="2881440"/>
            <a:ext cx="380880" cy="306360"/>
          </a:xfrm>
          <a:prstGeom prst="rightArrow">
            <a:avLst>
              <a:gd name="adj1" fmla="val 44444"/>
              <a:gd name="adj2" fmla="val 48348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704800">
            <a:off x="4110480" y="4145400"/>
            <a:ext cx="379440" cy="304560"/>
          </a:xfrm>
          <a:prstGeom prst="rightArrow">
            <a:avLst>
              <a:gd name="adj1" fmla="val 44444"/>
              <a:gd name="adj2" fmla="val 4845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508640"/>
            <a:ext cx="5237280" cy="146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Diagnosing ST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omen, many STIs do not cause obvious signs or symptoms (such as those listed at lef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 obvious signs in the genital area may not be caused by STIs. Abnormal vaginal discharge and itching are often due to infections that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sexually trans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client suspects that she/he or partner has an STI: diagnose and treat, or ref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111480"/>
            <a:ext cx="5237280" cy="133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HIV testing and counsell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people do not know if they are infected with HIV. A blood test is the only sure way to know. Rapid HIV tests are cheap, easy and reliable.  Positive test results need confirmation before diagnosing or counselling the cli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client wants an HIV test, give test or refer for testing and couns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e Appendix 8 for more information on HIV testing and couns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40" y="2565360"/>
            <a:ext cx="4343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person with HIV can look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d feel health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40" y="3213000"/>
            <a:ext cx="4343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f you are unsure of infection,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sts may be avail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21360"/>
            <a:ext cx="9902880" cy="836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99080" y="6095880"/>
            <a:ext cx="3456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lient wishes to be tested for HIV, offer counselling or re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093000"/>
            <a:ext cx="4032000" cy="68868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client understands STI risks and dual protection choices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440" y="581976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07080" y="6165720"/>
            <a:ext cx="576000" cy="468360"/>
            <a:chOff x="4807080" y="6165720"/>
            <a:chExt cx="576000" cy="468360"/>
          </a:xfrm>
        </p:grpSpPr>
        <p:sp>
          <p:nvSpPr>
            <p:cNvPr id="107" name=""/>
            <p:cNvSpPr/>
            <p:nvPr/>
          </p:nvSpPr>
          <p:spPr>
            <a:xfrm>
              <a:off x="4807080" y="6165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946760" y="6291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-4680"/>
            <a:ext cx="9902880" cy="133200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can choose how to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64160" y="2181240"/>
            <a:ext cx="5040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9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Please consid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suits you best for family planning and STI/HIV/AIDS protectio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your partner agre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f you can't stick to your first choi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200400"/>
            <a:ext cx="3810240" cy="23623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51680" y="260280"/>
            <a:ext cx="1752840" cy="135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293840" y="1600200"/>
            <a:ext cx="3138120" cy="1955880"/>
            <a:chOff x="1293840" y="1600200"/>
            <a:chExt cx="3138120" cy="1955880"/>
          </a:xfrm>
        </p:grpSpPr>
        <p:sp>
          <p:nvSpPr>
            <p:cNvPr id="114" name=""/>
            <p:cNvSpPr/>
            <p:nvPr/>
          </p:nvSpPr>
          <p:spPr>
            <a:xfrm>
              <a:off x="1306800" y="1600200"/>
              <a:ext cx="3125160" cy="1676520"/>
            </a:xfrm>
            <a:prstGeom prst="ellipse">
              <a:avLst/>
            </a:prstGeom>
            <a:solidFill>
              <a:srgbClr val="ffe1f0"/>
            </a:solidFill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8640" y="2448000"/>
              <a:ext cx="835200" cy="600120"/>
            </a:xfrm>
            <a:prstGeom prst="ellipse">
              <a:avLst/>
            </a:prstGeom>
            <a:solidFill>
              <a:srgbClr val="b7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40400" y="2448000"/>
              <a:ext cx="832320" cy="600120"/>
            </a:xfrm>
            <a:prstGeom prst="ellipse">
              <a:avLst/>
            </a:prstGeom>
            <a:solidFill>
              <a:srgbClr val="b7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6920" y="1828800"/>
              <a:ext cx="905040" cy="7207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300"/>
              </a:br>
              <a:br>
                <a:rPr sz="11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33160" y="1844640"/>
              <a:ext cx="881280" cy="722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51040" y="1844640"/>
              <a:ext cx="835560" cy="722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14200" y="2109960"/>
              <a:ext cx="276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333399"/>
                  </a:solidFill>
                  <a:latin typeface="Arial"/>
                </a:rPr>
                <a:t>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9360" y="2084400"/>
              <a:ext cx="317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333399"/>
                  </a:solidFill>
                  <a:latin typeface="Arial"/>
                </a:rPr>
                <a:t>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778040" y="2043000"/>
              <a:ext cx="3128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2508840" y="2087640"/>
              <a:ext cx="2714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3526560" y="1967040"/>
              <a:ext cx="3445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3088440" y="2508120"/>
              <a:ext cx="34632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2971080" y="2089080"/>
              <a:ext cx="27468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2262600" y="2016000"/>
              <a:ext cx="1317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819440" y="1940040"/>
              <a:ext cx="1839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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2200" y="1940040"/>
              <a:ext cx="12528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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6080" y="1967040"/>
              <a:ext cx="12852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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07160" y="2579760"/>
              <a:ext cx="1141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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15640" y="2576520"/>
              <a:ext cx="1267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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3840" y="3429000"/>
              <a:ext cx="76320" cy="127080"/>
            </a:xfrm>
            <a:prstGeom prst="ellipse">
              <a:avLst/>
            </a:prstGeom>
            <a:solidFill>
              <a:srgbClr val="ffe1f0"/>
            </a:solidFill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20920" y="3276720"/>
              <a:ext cx="152280" cy="152280"/>
            </a:xfrm>
            <a:prstGeom prst="ellipse">
              <a:avLst/>
            </a:prstGeom>
            <a:solidFill>
              <a:srgbClr val="ffe1f0"/>
            </a:solidFill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3200" y="3048120"/>
              <a:ext cx="254160" cy="304560"/>
            </a:xfrm>
            <a:prstGeom prst="ellipse">
              <a:avLst/>
            </a:prstGeom>
            <a:solidFill>
              <a:srgbClr val="ffe1f0"/>
            </a:solidFill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2419920" y="2522520"/>
              <a:ext cx="198360" cy="5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73120" y="3608280"/>
            <a:ext cx="3384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950080"/>
            <a:ext cx="9902880" cy="907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40"/>
            <a:ext cx="9902880" cy="115092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can choose how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69592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240" y="19044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68920" y="4767120"/>
            <a:ext cx="48798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client chooses condoms, could this couple abstain if they ran out of condom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73600" y="1555920"/>
            <a:ext cx="48751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client consider which of the 5 options will work best for her/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3600" y="2238480"/>
            <a:ext cx="4875120" cy="241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it is very important for clients to discuss dual protection and family planning decision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their part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Can you talk to your partner about this?”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If your partner does not agree, what will you do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9 has tips on helping clients talk with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client to bring partner into clinic to discuss options and cho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client with family planning method in mi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scuss how to make her/his dual protection choice work with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“The IUD won’t protect you from STIs or HIV/AIDS. Will your partner be happy to use condoms? Or else will you and your partner stay faithful to each other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360" y="2685960"/>
            <a:ext cx="396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your partner agre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7360" y="46990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 you can't stick to your first cho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59080" y="2805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360" y="1203480"/>
            <a:ext cx="4113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ease consi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59080" y="4767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59080" y="1735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360" y="1773360"/>
            <a:ext cx="411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suits you best for family planning and STI/HIV/AIDS protectio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70080" y="6119640"/>
            <a:ext cx="346536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condom use now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a condom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7800" y="6119640"/>
            <a:ext cx="346536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another method now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correct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4-03-15T14:32:16Z</cp:lastPrinted>
  <dcterms:modified xsi:type="dcterms:W3CDTF">2005-09-16T15:03:43Z</dcterms:modified>
  <cp:revision>3107</cp:revision>
  <dc:subject/>
  <dc:title>No Slide Title</dc:title>
</cp:coreProperties>
</file>