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D109-4FC5-4014-9144-1D4D093BF0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3568C-2C1F-447D-A7AD-6E36B3A7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2188A-D928-44AC-9FED-C5694BF0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1BF03-34C4-4AFC-93BC-8A11C67596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3E336-0B79-4C2F-B0AA-9C66DB7E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604DB-2415-476D-869C-755D9D63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5B333-31D9-4A0A-9706-9F69BA79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14AD6-02E7-48D8-ACD3-F68CFF81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F9FDC-D5B4-419E-AF68-2698E56A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D5667-68BD-4AE9-9D47-0617C48E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88466-B1FA-427E-891F-44963F99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2D14F-8FA6-4B42-B990-9B6E4817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0B7F-2B6C-4118-9003-731A38866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-1440" y="1440"/>
            <a:ext cx="9907560" cy="93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ational Amenorrhoea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30320" y="1255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ntraceptive metho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breastfee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876920" y="1009800"/>
            <a:ext cx="4876560" cy="979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About LA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ional”—related to breastfeeding. “Amenorrhoea”—not having menstrual blee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LAM means choosing to breastfeed in a way that prevents pregnancy. It works by stopping ovulation (se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ces 4 &amp; 5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2076480"/>
            <a:ext cx="4876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baby ONLY breast milk (with little or no other food) gives best protection from pregnancy and is best for the baby’s heal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age L3 for how to breastfeed for best prot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w would breastfeeding your baby in this way suit you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3083040"/>
            <a:ext cx="487656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eriods have not retur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effective when used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s commonly used it is less effe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3860640"/>
            <a:ext cx="487656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iest way to feed most babies for first 6 months. Breast milk contains the exact nutrients the baby needs and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ps protect the baby from infections. Breastfeeding benefits the mother’s health to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stfeeding should be started within 1 hour after birth, and babies should be given no other food or drink until they are 6 month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milk can be a major part of diet for 2 years or m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200560"/>
            <a:ext cx="4876560" cy="4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woman’s STI/HIV/AIDS protection, also use cond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stfeeding can pass HIV from mother to bab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ould you like to discuss LAM more, or would you like to think about another method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6146640"/>
            <a:ext cx="4191120" cy="684360"/>
          </a:xfrm>
          <a:prstGeom prst="downArrowCallout">
            <a:avLst>
              <a:gd name="adj1" fmla="val 612471"/>
              <a:gd name="adj2" fmla="val 306207"/>
              <a:gd name="adj3" fmla="val 33333"/>
              <a:gd name="adj4" fmla="val 6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discuss another method, go to method t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146640"/>
            <a:ext cx="3886200" cy="684360"/>
          </a:xfrm>
          <a:prstGeom prst="downArrowCallout">
            <a:avLst>
              <a:gd name="adj1" fmla="val 567912"/>
              <a:gd name="adj2" fmla="val 283929"/>
              <a:gd name="adj3" fmla="val 33333"/>
              <a:gd name="adj4" fmla="val 6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discuss LAM further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7080" y="557532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410760" y="6564240"/>
            <a:ext cx="38088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867280"/>
            <a:ext cx="990612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o you want to know more about LAM, or talk about a different method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6360" y="6143760"/>
            <a:ext cx="3886200" cy="684000"/>
          </a:xfrm>
          <a:prstGeom prst="downArrowCallout">
            <a:avLst>
              <a:gd name="adj1" fmla="val 568210"/>
              <a:gd name="adj2" fmla="val 28407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client wants to know more about LAM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7080" y="557532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5800" y="14079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95800" y="33764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401000">
            <a:off x="4154040" y="50846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5800" y="22924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5800" y="43498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0320" y="213984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M means breastfeeding often, day and night, and giving baby little or no other f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0320" y="3298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57320" indent="-157320">
              <a:lnSpc>
                <a:spcPct val="100000"/>
              </a:lnSpc>
              <a:spcBef>
                <a:spcPts val="2588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ive for 6 months after giving bi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0320" y="4216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st milk is best food for bab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0320" y="4956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protection against STIs or HIV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/A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38720" y="6143760"/>
            <a:ext cx="396072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o discuss another method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a new method tab or to Choosing Method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09520" y="119520"/>
            <a:ext cx="1143000" cy="718560"/>
            <a:chOff x="209520" y="119520"/>
            <a:chExt cx="1143000" cy="718560"/>
          </a:xfrm>
        </p:grpSpPr>
        <p:sp>
          <p:nvSpPr>
            <p:cNvPr id="66" name=""/>
            <p:cNvSpPr/>
            <p:nvPr/>
          </p:nvSpPr>
          <p:spPr>
            <a:xfrm>
              <a:off x="209520" y="12060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7280" y="119520"/>
              <a:ext cx="564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768240" y="171360"/>
              <a:ext cx="436680" cy="65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"/>
          <p:cNvSpPr/>
          <p:nvPr/>
        </p:nvSpPr>
        <p:spPr>
          <a:xfrm>
            <a:off x="7415280" y="6858000"/>
            <a:ext cx="1353960" cy="438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rot="17015400">
            <a:off x="7918200" y="3327120"/>
            <a:ext cx="1938240" cy="14907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7015400">
            <a:off x="5620320" y="1573920"/>
            <a:ext cx="2946240" cy="2122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en you can use L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6280" y="1593000"/>
            <a:ext cx="632844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If breastfeeding now, can use LAM if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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by is less than 6 months 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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by gets little or no food or drink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cept breast mil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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nstrual periods have not come b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0240" y="4797000"/>
            <a:ext cx="690120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But please tell me if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ve AIDS? Or infected with HIV, the AIDS viru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35800" y="3213000"/>
            <a:ext cx="1186200" cy="1844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181560" y="1355760"/>
            <a:ext cx="1811520" cy="2712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408880" y="3068640"/>
            <a:ext cx="1008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you can use L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2240" y="3733920"/>
            <a:ext cx="43434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2024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ut please tell me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AIDS? Or infected with HIV, the AIDS viru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1666800"/>
            <a:ext cx="4405320" cy="1233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st for the baby to breastfeed for at least 2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Once her baby is 6 months or old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houl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another meth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family pla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he continues to breastfeed, nonhormonal methods are best. She can also use progestogen-only methods (mini-pill, long-acting injectable or implants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3052800"/>
            <a:ext cx="4403520" cy="657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use LAM if she has had 2 or more straight days of menstrual bleeding. (Bleeding in first 8 weeks after childbirth does not cou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860640"/>
            <a:ext cx="4403520" cy="194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may be passed to the baby in breast mi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 safe replacement infant formula is available (either home-prepared or bought), a woman with HIV should not breastfeed and should use another family planning metho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afe replacement infant formula is available, a woman with HIV should breastfeed exclusively. After 6 months, or if safe replacement food becomes available, she should stop breastfee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Special Needs tab (page SN1) for special advice for women with HIV/AI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958000"/>
            <a:ext cx="9906120" cy="911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6019920"/>
            <a:ext cx="4190760" cy="655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client can no longer use LAM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r is unable to use LAM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her choose another metho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1800" y="6019920"/>
            <a:ext cx="4092480" cy="825480"/>
          </a:xfrm>
          <a:prstGeom prst="downArrowCallout">
            <a:avLst>
              <a:gd name="adj1" fmla="val 495815"/>
              <a:gd name="adj2" fmla="val 247884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client can start now or when she gives birt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instructions on next page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6920" y="568152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45160" y="32670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18280" y="981000"/>
            <a:ext cx="4406760" cy="561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stfeeding women can start LAM any time i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mee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 3 condi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1160" y="1218960"/>
            <a:ext cx="4649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f breastfeeding now, can use LAM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63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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is less than 6 months 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gets little or no food or drink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except breast mi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</a:t>
            </a: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strual periods have not come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17240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49840" y="43815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09520" y="81360"/>
            <a:ext cx="1143000" cy="718920"/>
            <a:chOff x="209520" y="81360"/>
            <a:chExt cx="1143000" cy="718920"/>
          </a:xfrm>
        </p:grpSpPr>
        <p:sp>
          <p:nvSpPr>
            <p:cNvPr id="94" name=""/>
            <p:cNvSpPr/>
            <p:nvPr/>
          </p:nvSpPr>
          <p:spPr>
            <a:xfrm>
              <a:off x="209520" y="8244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7280" y="81360"/>
              <a:ext cx="564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768240" y="133200"/>
              <a:ext cx="436680" cy="65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8985240" y="1023840"/>
            <a:ext cx="576000" cy="468360"/>
            <a:chOff x="8985240" y="1023840"/>
            <a:chExt cx="576000" cy="468360"/>
          </a:xfrm>
        </p:grpSpPr>
        <p:sp>
          <p:nvSpPr>
            <p:cNvPr id="98" name=""/>
            <p:cNvSpPr/>
            <p:nvPr/>
          </p:nvSpPr>
          <p:spPr>
            <a:xfrm>
              <a:off x="8985240" y="10238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9124920" y="11494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20733000">
            <a:off x="6608520" y="1268280"/>
            <a:ext cx="2330280" cy="2071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to use L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080" y="2637000"/>
            <a:ext cx="5486400" cy="22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231840" indent="-23184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rt giving baby other foods when he/she is 6 months old, but continu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breastfe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rt another method at the right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959520" y="1486080"/>
            <a:ext cx="1685880" cy="2358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72880" y="4581360"/>
            <a:ext cx="3025800" cy="115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re you ready to choose this metho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70120" y="5446800"/>
            <a:ext cx="36576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nything else I can repeat or explain? </a:t>
            </a:r>
            <a:br>
              <a:rPr sz="1800"/>
            </a:b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ny other ques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6080" y="938160"/>
            <a:ext cx="54864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231840" indent="-23184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n start LAM as soon as baby is bo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eastfeed of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6080" y="2563920"/>
            <a:ext cx="3966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What to do after LA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272560" y="3526920"/>
            <a:ext cx="2701440" cy="2307600"/>
            <a:chOff x="5272560" y="3526920"/>
            <a:chExt cx="2701440" cy="2307600"/>
          </a:xfrm>
        </p:grpSpPr>
        <p:sp>
          <p:nvSpPr>
            <p:cNvPr id="109" name=""/>
            <p:cNvSpPr/>
            <p:nvPr/>
          </p:nvSpPr>
          <p:spPr>
            <a:xfrm rot="20733000">
              <a:off x="5457960" y="3789360"/>
              <a:ext cx="2330280" cy="178272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854680" y="4946400"/>
              <a:ext cx="62388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6300720" y="3863880"/>
              <a:ext cx="874800" cy="59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6359400" y="4483080"/>
              <a:ext cx="592200" cy="85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5"/>
            <a:stretch/>
          </p:blipFill>
          <p:spPr>
            <a:xfrm>
              <a:off x="6931080" y="4592520"/>
              <a:ext cx="48096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6"/>
            <a:stretch/>
          </p:blipFill>
          <p:spPr>
            <a:xfrm>
              <a:off x="5614920" y="4268520"/>
              <a:ext cx="600120" cy="45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use L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3680" y="922320"/>
            <a:ext cx="3967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33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start LAM as soon a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is bo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68880" y="1500120"/>
            <a:ext cx="4622760" cy="162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hould breastfeed whenever the baby is hungry, both day and n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eedings become more than 4 hours apart in the day, or more than 6 hours apart at night, she should consider another method of family plann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hould keep breastfeeding even if she or the baby is s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re you ready to keep up this pattern of breastfeeding?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se on breastfeeding technique and di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68880" y="3716280"/>
            <a:ext cx="4622760" cy="1349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her menstrual periods return (bleeding in first 8 weeks after childbirth not inclu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she stops fully or nearly fully breastfeeding (baby takes other foods/liquids regular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baby is 6 months old (about time child starts sitting u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she no longer wants to use 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whichever comes fir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19749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549200">
            <a:off x="4241520" y="47800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1125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84720" y="43354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653080"/>
            <a:ext cx="9909000" cy="1216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5388120"/>
            <a:ext cx="1828800" cy="288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Last Mov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68880" y="965160"/>
            <a:ext cx="4622760" cy="479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ter childbir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tart breastfeeding as soon as possible, for baby’s health and best protection from pregna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68880" y="3213000"/>
            <a:ext cx="462276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additional foods are introduced, she should breastfeed before each feeding of other food or drin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80040" y="32860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68880" y="5138640"/>
            <a:ext cx="4622760" cy="419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fer supplies now, such as condoms, that she can start using when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5715000"/>
            <a:ext cx="7543800" cy="108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 you feel confident you can use this method successfully?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 you need any more advice on breastfeeding?”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3399"/>
                </a:solidFill>
                <a:latin typeface="Arial"/>
              </a:rPr>
              <a:t>Remember to offer condoms for dual protection and/or back-up!</a:t>
            </a:r>
            <a:r>
              <a:rPr b="1" i="1" lang="en-US" sz="1400" spc="-1" strike="noStrike">
                <a:solidFill>
                  <a:srgbClr val="ff3399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Last, most important message: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“Come back for another method when the baby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6 months old, or your periods return, or the baby starts taking other food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09520" y="68760"/>
            <a:ext cx="1143000" cy="718560"/>
            <a:chOff x="209520" y="68760"/>
            <a:chExt cx="1143000" cy="718560"/>
          </a:xfrm>
        </p:grpSpPr>
        <p:sp>
          <p:nvSpPr>
            <p:cNvPr id="132" name=""/>
            <p:cNvSpPr/>
            <p:nvPr/>
          </p:nvSpPr>
          <p:spPr>
            <a:xfrm>
              <a:off x="209520" y="6984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7280" y="68760"/>
              <a:ext cx="564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768240" y="120240"/>
              <a:ext cx="436680" cy="6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>
            <a:off x="193680" y="1650960"/>
            <a:ext cx="274320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33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stfeed of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3680" y="2549520"/>
            <a:ext cx="3967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hat to do after LA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3680" y="3068640"/>
            <a:ext cx="3967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giving baby other foods when he/she is 6 months old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continue to breastf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3680" y="4292640"/>
            <a:ext cx="3967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another method at the righ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048520" y="5840280"/>
            <a:ext cx="576000" cy="468360"/>
            <a:chOff x="8048520" y="5840280"/>
            <a:chExt cx="576000" cy="468360"/>
          </a:xfrm>
        </p:grpSpPr>
        <p:sp>
          <p:nvSpPr>
            <p:cNvPr id="140" name=""/>
            <p:cNvSpPr/>
            <p:nvPr/>
          </p:nvSpPr>
          <p:spPr>
            <a:xfrm>
              <a:off x="8048520" y="58402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8188200" y="59659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-1144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329600" y="6858000"/>
            <a:ext cx="1353960" cy="438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715000" y="1600200"/>
            <a:ext cx="4114800" cy="327672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440"/>
            <a:ext cx="991080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rtility Awareness-Based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0160" y="1568520"/>
            <a:ext cx="60926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earn on which days of the menstrual cycle you can get pregn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prevent pregnancy, you and your partner either avoid sex OR use a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dom on fertile d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an be effective if used correc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o side-eff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es not protect against STIs or HIV/AI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326280" y="2163600"/>
            <a:ext cx="3354120" cy="2941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940360" y="2046240"/>
            <a:ext cx="2060640" cy="1382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4600" y="5340240"/>
            <a:ext cx="5335560" cy="127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Do you want to know more about these methods, or talk about a different metho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28600" y="5657760"/>
            <a:ext cx="1447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11:59:38Z</dcterms:created>
  <dc:creator>JohnsonS</dc:creator>
  <dc:description/>
  <dc:language>en-US</dc:language>
  <cp:lastModifiedBy>Church</cp:lastModifiedBy>
  <cp:lastPrinted>2002-07-03T12:43:25Z</cp:lastPrinted>
  <dcterms:modified xsi:type="dcterms:W3CDTF">2005-09-16T14:50:02Z</dcterms:modified>
  <cp:revision>2412</cp:revision>
  <dc:subject/>
  <dc:title>No Slide Title</dc:title>
</cp:coreProperties>
</file>