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902825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714240" y="746280"/>
            <a:ext cx="537552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07560" y="4716360"/>
            <a:ext cx="4978440" cy="44690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9435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49840" y="9435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9F91F5-BC03-464C-AD31-5AD5F51CE04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714240" y="746280"/>
            <a:ext cx="5375520" cy="37224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07560" y="4716000"/>
            <a:ext cx="49784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057320" y="6620040"/>
            <a:ext cx="4227480" cy="12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1360" indent="-171360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old for use elsewher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You and your sex partner should see a doctor or nurse if either of you hav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res on or near your genita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in when pee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ipping, itching, rash, irrita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are signs of sexually transmitted diseas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906480" y="8028000"/>
            <a:ext cx="5132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7840" indent="-177840">
              <a:spcAft>
                <a:spcPts val="300"/>
              </a:spcAft>
              <a:tabLst>
                <a:tab algn="l" pos="0"/>
                <a:tab algn="l" pos="17784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Move to training guid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7784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Explain when to use and why us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7784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EVERY TIME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 import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7784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protected sex just once—even the first time—can lead to pregnancy and/or ST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7784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 cannot tell, by the way people look, whether they have an STI, including HIV. They often look health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7784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person does not always know if he or she has an STI, including HIV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714240" y="746280"/>
            <a:ext cx="5375520" cy="37224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07560" y="4716360"/>
            <a:ext cx="497844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982800" y="6124680"/>
            <a:ext cx="45291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7840" indent="-17784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7784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6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561120"/>
            <a:ext cx="4496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2684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00800" y="137160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21080" y="137160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56112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1900800" y="356112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3421080" y="356112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371600"/>
            <a:ext cx="4496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6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28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84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4496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520" y="1371600"/>
            <a:ext cx="4496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spcBef>
                <a:spcPts val="400"/>
              </a:spcBef>
              <a:buClr>
                <a:srgbClr val="000000"/>
              </a:buClr>
              <a:buFont typeface="Wingdings 3" charset="2"/>
              <a:buChar char="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png"/><Relationship Id="rId3" Type="http://schemas.openxmlformats.org/officeDocument/2006/relationships/image" Target="../media/image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189400" y="2406600"/>
            <a:ext cx="4569120" cy="327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Side-effects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possible irritation, burning or bladder inf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218200" y="4321080"/>
            <a:ext cx="4568760" cy="460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aphragms (together with spermicide) are most effective when used correctly every tim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95880" y="3673440"/>
            <a:ext cx="4568760" cy="327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For STI/HIV/AIDS protection, also use cond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867280"/>
            <a:ext cx="9906120" cy="990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o you want to know more about vaginal methods, or talk about a different method?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49240" y="6143760"/>
            <a:ext cx="3886200" cy="684000"/>
          </a:xfrm>
          <a:prstGeom prst="downArrowCallout">
            <a:avLst>
              <a:gd name="adj1" fmla="val 568210"/>
              <a:gd name="adj2" fmla="val 284078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 client wants to know more about vaginal methods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go to next pag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7080" y="5575320"/>
            <a:ext cx="144756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Next Mov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98920" y="170028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98920" y="368604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98920" y="514368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9680" y="1187280"/>
            <a:ext cx="48690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90440" indent="-190440">
              <a:lnSpc>
                <a:spcPct val="95000"/>
              </a:lnSpc>
              <a:spcBef>
                <a:spcPts val="737"/>
              </a:spcBef>
              <a:buClr>
                <a:srgbClr val="ff3300"/>
              </a:buClr>
              <a:buFont typeface="Arial"/>
              <a:buChar char="•"/>
              <a:tabLst>
                <a:tab algn="l" pos="291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Includes spermicides and diaphragm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18200" y="5040360"/>
            <a:ext cx="4568760" cy="477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ction by diaphragms against HIV/AIDS is uncertain.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200"/>
            </a:b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For STI/HIV/AIDS protection, also use cond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89400" y="2795760"/>
            <a:ext cx="4569120" cy="80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Would putting something in your vagina be uncomfortable for you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Do you feel comfortable with a method that may be messy after sex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817400">
            <a:off x="4448160" y="305424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98920" y="442440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aginal metho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76320" y="5911920"/>
            <a:ext cx="1219320" cy="946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08080" y="55800"/>
            <a:ext cx="1143000" cy="733320"/>
            <a:chOff x="208080" y="55800"/>
            <a:chExt cx="1143000" cy="733320"/>
          </a:xfrm>
        </p:grpSpPr>
        <p:sp>
          <p:nvSpPr>
            <p:cNvPr id="62" name=""/>
            <p:cNvSpPr/>
            <p:nvPr/>
          </p:nvSpPr>
          <p:spPr>
            <a:xfrm>
              <a:off x="208080" y="58680"/>
              <a:ext cx="1143000" cy="7174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22200" y="55800"/>
              <a:ext cx="9108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Vaginal </a:t>
              </a:r>
              <a:br>
                <a:rPr sz="1400"/>
              </a:b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Method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335160" y="446040"/>
              <a:ext cx="914400" cy="343080"/>
              <a:chOff x="335160" y="446040"/>
              <a:chExt cx="914400" cy="343080"/>
            </a:xfrm>
          </p:grpSpPr>
          <p:pic>
            <p:nvPicPr>
              <p:cNvPr id="6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34880" y="477720"/>
                <a:ext cx="814680" cy="311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35160" y="446040"/>
                <a:ext cx="415800" cy="177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7" name=""/>
          <p:cNvSpPr/>
          <p:nvPr/>
        </p:nvSpPr>
        <p:spPr>
          <a:xfrm>
            <a:off x="5189400" y="911160"/>
            <a:ext cx="4569120" cy="1438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About vaginal method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iaphragm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a soft flexible piece of rubber that blocks the sperm from entering the womb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permicid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are gels, creams, foaming tablets, suppositories, foam or melting film that kill the sper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th are inserted by the woman into her vagina ahead of time. They don't have to interrupt se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9680" y="3052800"/>
            <a:ext cx="486900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90440" indent="-190440">
              <a:lnSpc>
                <a:spcPct val="95000"/>
              </a:lnSpc>
              <a:spcBef>
                <a:spcPts val="425"/>
              </a:spcBef>
              <a:tabLst>
                <a:tab algn="l" pos="0"/>
                <a:tab algn="l" pos="291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en-GB" sz="1700" spc="-1" strike="noStrike">
                <a:solidFill>
                  <a:srgbClr val="ff3300"/>
                </a:solidFill>
                <a:latin typeface="Arial"/>
              </a:rPr>
              <a:t>Spermicides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spcBef>
                <a:spcPts val="425"/>
              </a:spcBef>
              <a:buClr>
                <a:srgbClr val="ff3300"/>
              </a:buClr>
              <a:buFont typeface="Arial"/>
              <a:buChar char="•"/>
              <a:tabLst>
                <a:tab algn="l" pos="291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Less effective than other method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25"/>
              </a:spcBef>
              <a:buClr>
                <a:srgbClr val="ff3300"/>
              </a:buClr>
              <a:buFont typeface="Arial"/>
              <a:buChar char="•"/>
              <a:tabLst>
                <a:tab algn="l" pos="291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No protection against STIs or HIV/AID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9680" y="3976560"/>
            <a:ext cx="486900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276"/>
              </a:spcBef>
              <a:tabLst>
                <a:tab algn="l" pos="0"/>
                <a:tab algn="l" pos="291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en-GB" sz="1700" spc="-1" strike="noStrike">
                <a:solidFill>
                  <a:srgbClr val="ff3300"/>
                </a:solidFill>
                <a:latin typeface="Arial"/>
              </a:rPr>
              <a:t>Diaphrag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25"/>
              </a:spcBef>
              <a:buClr>
                <a:srgbClr val="ff3300"/>
              </a:buClr>
              <a:buFont typeface="Arial"/>
              <a:buChar char="•"/>
              <a:tabLst>
                <a:tab algn="l" pos="291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Can be effective when used </a:t>
            </a:r>
            <a:br>
              <a:rPr sz="1700"/>
            </a:b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correctly every tim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425"/>
              </a:spcBef>
              <a:buClr>
                <a:srgbClr val="ff3300"/>
              </a:buClr>
              <a:buFont typeface="Arial"/>
              <a:buChar char="•"/>
              <a:tabLst>
                <a:tab algn="l" pos="291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Needs pelvic exam to check for siz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425"/>
              </a:spcBef>
              <a:buClr>
                <a:srgbClr val="ff3300"/>
              </a:buClr>
              <a:buFont typeface="Arial"/>
              <a:buChar char="•"/>
              <a:tabLst>
                <a:tab algn="l" pos="291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ossible protection against some STI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7080" y="1620720"/>
            <a:ext cx="324000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90440" indent="-190440">
              <a:lnSpc>
                <a:spcPct val="95000"/>
              </a:lnSpc>
              <a:spcBef>
                <a:spcPts val="737"/>
              </a:spcBef>
              <a:buClr>
                <a:srgbClr val="ff3300"/>
              </a:buClr>
              <a:buFont typeface="Arial"/>
              <a:buChar char="•"/>
              <a:tabLst>
                <a:tab algn="l" pos="291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Must be placed in the vagina </a:t>
            </a:r>
            <a:br>
              <a:rPr sz="1700"/>
            </a:b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each time before sex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7080" y="2298600"/>
            <a:ext cx="48686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90440" indent="-190440">
              <a:lnSpc>
                <a:spcPct val="95000"/>
              </a:lnSpc>
              <a:spcBef>
                <a:spcPts val="737"/>
              </a:spcBef>
              <a:buClr>
                <a:srgbClr val="ff3300"/>
              </a:buClr>
              <a:buFont typeface="Arial"/>
              <a:buChar char="•"/>
              <a:tabLst>
                <a:tab algn="l" pos="291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Some users have side-effects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7080" y="2716200"/>
            <a:ext cx="29970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90440" indent="-190440">
              <a:lnSpc>
                <a:spcPct val="95000"/>
              </a:lnSpc>
              <a:spcBef>
                <a:spcPts val="737"/>
              </a:spcBef>
              <a:buClr>
                <a:srgbClr val="ff3300"/>
              </a:buClr>
              <a:buFont typeface="Arial"/>
              <a:buChar char="•"/>
              <a:tabLst>
                <a:tab algn="l" pos="291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May be messy</a:t>
            </a:r>
            <a:r>
              <a:rPr b="1" lang="en-GB" sz="17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98920" y="234936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98920" y="119700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238720" y="6143760"/>
            <a:ext cx="3960720" cy="523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o discuss another method,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o to a new method tab or to Choosing Method tab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59440" y="6858000"/>
            <a:ext cx="1354320" cy="438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Vaginal Meth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6095880" y="1981080"/>
            <a:ext cx="3200400" cy="312444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0"/>
            <a:ext cx="9907560" cy="1125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A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ctational Amenorrhoea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257800" y="2895480"/>
            <a:ext cx="4114800" cy="8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1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4920" y="1628640"/>
            <a:ext cx="5713200" cy="33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825"/>
              </a:spcBef>
              <a:spcAft>
                <a:spcPts val="825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contraceptive method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d on breastfee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825"/>
              </a:spcBef>
              <a:spcAft>
                <a:spcPts val="825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M means breastfeeding often, day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d night, and giving baby little or no other foo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825"/>
              </a:spcBef>
              <a:spcAft>
                <a:spcPts val="825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ive for 6 months after giving bir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825"/>
              </a:spcBef>
              <a:spcAft>
                <a:spcPts val="825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reast milk is best food for bab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8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 protection against STIs or HIV/AI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44600" y="5340240"/>
            <a:ext cx="5333760" cy="1270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3300"/>
                </a:solidFill>
                <a:latin typeface="Arial"/>
              </a:rPr>
              <a:t>Do you want to know more about this method, or talk about a different metho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" y="5657760"/>
            <a:ext cx="1447920" cy="11239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6629400" y="2133720"/>
            <a:ext cx="2244600" cy="33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 rot="369000">
            <a:off x="6322680" y="5444640"/>
            <a:ext cx="861840" cy="133380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8360" y="561024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ve a medical condition that makes pregnancy danger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440"/>
            <a:ext cx="9906120" cy="1332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ho can and cannot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use vaginal metho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888160" y="3543480"/>
            <a:ext cx="37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nd if you are thinking about the DIAPHRAGM, tell me if you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1625760"/>
            <a:ext cx="449568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275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Most women can safely use vaginal metho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21522600">
            <a:off x="3924000" y="1431720"/>
            <a:ext cx="5143320" cy="19335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178160" y="1461960"/>
            <a:ext cx="4419720" cy="1881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30320" y="3543480"/>
            <a:ext cx="47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But usually should not use SPERMICIDES or DIAPHRAGM with spermicides if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20766000">
            <a:off x="596880" y="4263840"/>
            <a:ext cx="1228680" cy="9651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817560" y="4324320"/>
            <a:ext cx="730080" cy="12654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359080" y="5610240"/>
            <a:ext cx="3311640" cy="12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lnSpc>
                <a:spcPct val="100000"/>
              </a:lnSpc>
              <a:spcBef>
                <a:spcPts val="33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than one sex partner or partner has sex with others (high HIV ris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Bef>
                <a:spcPts val="33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ve HIV/AI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20766000">
            <a:off x="3409920" y="4303800"/>
            <a:ext cx="1371600" cy="96192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3543480" y="4408560"/>
            <a:ext cx="1120680" cy="12524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270920" y="4437000"/>
            <a:ext cx="257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6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ntly had a baby or abor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741000">
            <a:off x="6175080" y="4271760"/>
            <a:ext cx="1131840" cy="9111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6362640" y="4340160"/>
            <a:ext cx="736560" cy="10335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270920" y="5697360"/>
            <a:ext cx="257652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95000"/>
              </a:lnSpc>
              <a:spcBef>
                <a:spcPts val="56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e allergic to lat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95000"/>
              </a:lnSpc>
              <a:spcBef>
                <a:spcPts val="56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er had toxic shock syndr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6405480" y="5495760"/>
            <a:ext cx="571680" cy="13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5805360"/>
            <a:ext cx="9906120" cy="1052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672160" y="3817800"/>
            <a:ext cx="4043520" cy="825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rally should wait 6 to 12 weeks after childbirth or second-trimester abortion to fit diaphragm, depending on when the uterus and cervix return to normal size and sha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72160" y="4745160"/>
            <a:ext cx="4043520" cy="342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e should not use a latex diaphragm.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72160" y="5176800"/>
            <a:ext cx="4043520" cy="330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rally should not use diaphrag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72160" y="2747880"/>
            <a:ext cx="4043520" cy="825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rmicides should NOT be used if woman is at high risk for HIV infe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ffectiveness of diaphragms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withou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spermicides is not kn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5950080"/>
            <a:ext cx="4114800" cy="6872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lient unable to use vaginal method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elp her choose another metho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2760" y="5978520"/>
            <a:ext cx="4470120" cy="866880"/>
          </a:xfrm>
          <a:prstGeom prst="downArrowCallout">
            <a:avLst>
              <a:gd name="adj1" fmla="val 515704"/>
              <a:gd name="adj2" fmla="val 257828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lient able to use method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o to next page to discuss diaphragm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or page VM4 to discuss spermicid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0600" y="5572080"/>
            <a:ext cx="144792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Next Mov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57840" y="215892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57840" y="285264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20328600">
            <a:off x="4832280" y="4264200"/>
            <a:ext cx="381240" cy="304560"/>
          </a:xfrm>
          <a:prstGeom prst="rightArrow">
            <a:avLst>
              <a:gd name="adj1" fmla="val 44444"/>
              <a:gd name="adj2" fmla="val 48680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57840" y="472140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57840" y="514512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440"/>
            <a:ext cx="9906120" cy="1150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o can and cannot us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aginal metho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3920" y="1103400"/>
            <a:ext cx="5159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Most women can safely use vaginal method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55520" y="174600"/>
            <a:ext cx="1143000" cy="733320"/>
            <a:chOff x="155520" y="174600"/>
            <a:chExt cx="1143000" cy="733320"/>
          </a:xfrm>
        </p:grpSpPr>
        <p:sp>
          <p:nvSpPr>
            <p:cNvPr id="112" name=""/>
            <p:cNvSpPr/>
            <p:nvPr/>
          </p:nvSpPr>
          <p:spPr>
            <a:xfrm>
              <a:off x="155520" y="177480"/>
              <a:ext cx="1143000" cy="7174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69640" y="174600"/>
              <a:ext cx="9108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Vaginal </a:t>
              </a:r>
              <a:br>
                <a:rPr sz="1400"/>
              </a:b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Method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282600" y="564840"/>
              <a:ext cx="914400" cy="343080"/>
              <a:chOff x="282600" y="564840"/>
              <a:chExt cx="914400" cy="343080"/>
            </a:xfrm>
          </p:grpSpPr>
          <p:pic>
            <p:nvPicPr>
              <p:cNvPr id="11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82320" y="596520"/>
                <a:ext cx="814680" cy="311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82600" y="564840"/>
                <a:ext cx="415800" cy="177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7" name=""/>
          <p:cNvSpPr/>
          <p:nvPr/>
        </p:nvSpPr>
        <p:spPr>
          <a:xfrm>
            <a:off x="120600" y="2066760"/>
            <a:ext cx="526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ve a medical condition that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s pregnancy danger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0600" y="1484280"/>
            <a:ext cx="490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But usually should not use SPERMICIDES or DIAPHRAGM with spermicides if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0600" y="2709720"/>
            <a:ext cx="526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than one sex partner or partner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s sex with others (high HIV ris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0600" y="3357720"/>
            <a:ext cx="526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ve HIV/AI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0600" y="3745080"/>
            <a:ext cx="526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nd if you are thinking about the 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IAPHRAGM, tell me if you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0600" y="4365720"/>
            <a:ext cx="526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ntly had a baby or abor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0600" y="4732200"/>
            <a:ext cx="526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e allergic to lat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5119560"/>
            <a:ext cx="526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er had toxic shock syndr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672160" y="1557360"/>
            <a:ext cx="4043520" cy="1079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s include high blood pressure, diabetes, heart disease, stroke, some cancers, STIs including HIV/AIDS, liver disease, anaemia, tuberculosi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re effective method may be more suitable for women with these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69920" y="3411360"/>
            <a:ext cx="203184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Squeeze plenty of spermicidal </a:t>
            </a:r>
            <a:br>
              <a:rPr sz="1700"/>
            </a:b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cream or jelly into diaphragm and around ri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3160" y="3411360"/>
            <a:ext cx="215100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Press the rim together and push the diaphragm into the vagina as far </a:t>
            </a:r>
            <a:br>
              <a:rPr sz="1700"/>
            </a:b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as it go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35440" y="3971880"/>
            <a:ext cx="244800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Touch the diaphragm to make sure it covers the cervix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1440" y="5013360"/>
            <a:ext cx="55450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ALSO: For each additional act of intercourse, use an applicator to insert additional spermicide into the vagina. DO NOT remove the diaphragm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327800" y="1197000"/>
            <a:ext cx="2430720" cy="3598920"/>
          </a:xfrm>
          <a:prstGeom prst="rect">
            <a:avLst/>
          </a:prstGeom>
          <a:noFill/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1360" indent="-171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6440" y="1197000"/>
            <a:ext cx="2133720" cy="3600360"/>
          </a:xfrm>
          <a:prstGeom prst="rect">
            <a:avLst/>
          </a:prstGeom>
          <a:noFill/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27200" y="1197000"/>
            <a:ext cx="2136960" cy="3600360"/>
          </a:xfrm>
          <a:prstGeom prst="rect">
            <a:avLst/>
          </a:prstGeom>
          <a:noFill/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08520" y="1197000"/>
            <a:ext cx="2376360" cy="3600360"/>
          </a:xfrm>
          <a:prstGeom prst="rect">
            <a:avLst/>
          </a:prstGeom>
          <a:noFill/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-1440" y="1440"/>
            <a:ext cx="9907560" cy="101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How to use the diaphrag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816520" y="5157720"/>
            <a:ext cx="3943440" cy="1459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3300"/>
                </a:solidFill>
                <a:latin typeface="Arial"/>
              </a:rPr>
              <a:t>Do you want to try using this method and see how you like it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56160" y="5823000"/>
            <a:ext cx="1219320" cy="9460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89080" y="1830240"/>
            <a:ext cx="1828800" cy="10940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2879640" y="1774800"/>
            <a:ext cx="1600200" cy="9968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5440" y="1111320"/>
            <a:ext cx="4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ccff"/>
                </a:solidFill>
                <a:latin typeface="Wingdings"/>
                <a:ea typeface="Wingdings"/>
              </a:rPr>
              <a:t>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32160" y="1120680"/>
            <a:ext cx="36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ccff"/>
                </a:solidFill>
                <a:latin typeface="Wingdings"/>
                <a:ea typeface="Wingdings"/>
              </a:rPr>
              <a:t>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735440" y="1135080"/>
            <a:ext cx="43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ccff"/>
                </a:solidFill>
                <a:latin typeface="Wingdings"/>
                <a:ea typeface="Wingdings"/>
              </a:rPr>
              <a:t>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227720" y="1125360"/>
            <a:ext cx="50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66ccff"/>
                </a:solidFill>
                <a:latin typeface="Wingdings"/>
                <a:ea typeface="Wingdings"/>
              </a:rPr>
              <a:t>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5370480" y="1239840"/>
            <a:ext cx="1416240" cy="27129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7183440" y="1268280"/>
            <a:ext cx="2521080" cy="34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After sex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4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Leave the diaphragm in place for AT LEAST 6 hours but NO MORE THAN 24 hour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638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To remove, gently slide a finger under the rim and pull the diaphragm down and ou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718160" y="1322280"/>
            <a:ext cx="1708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uch the diaphragm to make sure it covers the 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erv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3040" y="1322280"/>
            <a:ext cx="18687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queeze plenty of spermicidal 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ream or jelly into diaphragm and around r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43080" y="3645000"/>
            <a:ext cx="1617480" cy="695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about a tablespoon of jelly or cre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51800" y="3645000"/>
            <a:ext cx="3001680" cy="1800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 careful not to tear the diaphragm when remo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sh diaphragm with mild soap and clean water after each 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ck for holes in the diaphragm by filling it with water or by holding it up to the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ry the diaphragm and store it in a clean, dark, cool place, if pos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2920" y="4619520"/>
            <a:ext cx="4664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each additional act of intercourse, use an applicator to insert additional spermicide into the vagina. DO NOT remove the diaphrag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07080" y="1063800"/>
            <a:ext cx="3168720" cy="200484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18800" bIns="118800" anchor="t">
            <a:noAutofit/>
          </a:bodyPr>
          <a:p>
            <a:pPr marL="171360" indent="-171360" algn="ctr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After sex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 algn="ctr">
              <a:lnSpc>
                <a:spcPct val="95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eave the diaphragm in place for AT LEAST 6 hours 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ut NO MORE THAN 24 hou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 algn="ctr">
              <a:lnSpc>
                <a:spcPct val="95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 remove, gently slide a finger under the rim and pull the diaphragm down and 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764240" y="3645000"/>
            <a:ext cx="1569960" cy="1441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rough the dome of the diaphragm, make sure you can feel the cervix, which feels like the tip of the no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5726160"/>
            <a:ext cx="9906120" cy="1143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es client understand how to use diaphragm? Is she ready to choose metho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6093000"/>
            <a:ext cx="4267080" cy="685800"/>
          </a:xfrm>
          <a:prstGeom prst="downArrowCallout">
            <a:avLst>
              <a:gd name="adj1" fmla="val 622262"/>
              <a:gd name="adj2" fmla="val 311102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f she has decided to use method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, go to next page to discuss spermicides if need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10080" y="6093000"/>
            <a:ext cx="3886200" cy="5331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 not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iscuss further or consider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metho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7080" y="5499000"/>
            <a:ext cx="144756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Next Mov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81400" y="1322280"/>
            <a:ext cx="19494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ess the rim together and push the diaphragm into the vagina as far as it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2360" y="1060560"/>
            <a:ext cx="1797120" cy="200808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24160" y="1060560"/>
            <a:ext cx="2006640" cy="200808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618080" y="1060560"/>
            <a:ext cx="1828800" cy="200808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5400000">
            <a:off x="950400" y="321624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5400000">
            <a:off x="8040240" y="321624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1440"/>
            <a:ext cx="9906120" cy="838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to use the diaphrag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08080" y="63720"/>
            <a:ext cx="1143000" cy="733320"/>
            <a:chOff x="208080" y="63720"/>
            <a:chExt cx="1143000" cy="733320"/>
          </a:xfrm>
        </p:grpSpPr>
        <p:sp>
          <p:nvSpPr>
            <p:cNvPr id="165" name=""/>
            <p:cNvSpPr/>
            <p:nvPr/>
          </p:nvSpPr>
          <p:spPr>
            <a:xfrm>
              <a:off x="208080" y="66600"/>
              <a:ext cx="1143000" cy="7174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22200" y="63720"/>
              <a:ext cx="9108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Vaginal </a:t>
              </a:r>
              <a:br>
                <a:rPr sz="1400"/>
              </a:b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Method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335160" y="453960"/>
              <a:ext cx="914400" cy="343080"/>
              <a:chOff x="335160" y="453960"/>
              <a:chExt cx="914400" cy="343080"/>
            </a:xfrm>
          </p:grpSpPr>
          <p:pic>
            <p:nvPicPr>
              <p:cNvPr id="16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4880" y="485640"/>
                <a:ext cx="814680" cy="311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35160" y="453960"/>
                <a:ext cx="415800" cy="177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70" name=""/>
          <p:cNvSpPr/>
          <p:nvPr/>
        </p:nvSpPr>
        <p:spPr>
          <a:xfrm>
            <a:off x="185760" y="98100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Wingdings"/>
                <a:ea typeface="Wingdings"/>
              </a:rPr>
              <a:t>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14720" y="981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Wingdings"/>
                <a:ea typeface="Wingdings"/>
              </a:rPr>
              <a:t>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22680" y="98100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Wingdings"/>
                <a:ea typeface="Wingdings"/>
              </a:rPr>
              <a:t>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521400" y="981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ccff"/>
                </a:solidFill>
                <a:latin typeface="Wingdings"/>
                <a:ea typeface="Wingdings"/>
              </a:rPr>
              <a:t>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5400000">
            <a:off x="5400360" y="3216240"/>
            <a:ext cx="381240" cy="304560"/>
          </a:xfrm>
          <a:prstGeom prst="rightArrow">
            <a:avLst>
              <a:gd name="adj1" fmla="val 44444"/>
              <a:gd name="adj2" fmla="val 48680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8983800" y="5553000"/>
            <a:ext cx="576000" cy="468360"/>
            <a:chOff x="8983800" y="5553000"/>
            <a:chExt cx="576000" cy="468360"/>
          </a:xfrm>
        </p:grpSpPr>
        <p:sp>
          <p:nvSpPr>
            <p:cNvPr id="176" name=""/>
            <p:cNvSpPr/>
            <p:nvPr/>
          </p:nvSpPr>
          <p:spPr>
            <a:xfrm>
              <a:off x="8983800" y="555300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3"/>
            <a:stretch/>
          </p:blipFill>
          <p:spPr>
            <a:xfrm>
              <a:off x="9123480" y="567864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-119160" y="5911920"/>
            <a:ext cx="1219320" cy="9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 rot="21522600">
            <a:off x="7819560" y="1368000"/>
            <a:ext cx="1143000" cy="9939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21522600">
            <a:off x="6172200" y="1371240"/>
            <a:ext cx="1371600" cy="99072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21522600">
            <a:off x="2666880" y="1269720"/>
            <a:ext cx="1371600" cy="114300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21522600">
            <a:off x="622080" y="1266480"/>
            <a:ext cx="1751040" cy="100332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21522600">
            <a:off x="7497360" y="2742840"/>
            <a:ext cx="1676520" cy="241308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-1440" y="1440"/>
            <a:ext cx="9907560" cy="101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How to use spermicid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889840" y="15732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il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07040" y="203184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ablets or supposito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746840" y="1447920"/>
            <a:ext cx="1143000" cy="9126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248520" y="1589040"/>
            <a:ext cx="1295280" cy="6444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533520" y="1371600"/>
            <a:ext cx="1752480" cy="8604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2921040" y="1295280"/>
            <a:ext cx="957240" cy="12286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98360" y="2874960"/>
            <a:ext cx="6840720" cy="20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262080" indent="-262080">
              <a:lnSpc>
                <a:spcPct val="100000"/>
              </a:lnSpc>
              <a:spcBef>
                <a:spcPts val="8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Insert before sex (up to 1 hour befor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spcBef>
                <a:spcPts val="8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Insert deep into vagina using 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applicator or fing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spcBef>
                <a:spcPts val="8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Do not wash vagina for at least 6 hours after se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spcBef>
                <a:spcPts val="8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If possible, store in a cool, dry pl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728720" y="5157720"/>
            <a:ext cx="3943440" cy="1459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3300"/>
                </a:solidFill>
                <a:latin typeface="Arial"/>
              </a:rPr>
              <a:t>Do you want to try using this method and see how you like it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1368360" y="5823000"/>
            <a:ext cx="1219320" cy="9460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6"/>
          <a:stretch/>
        </p:blipFill>
        <p:spPr>
          <a:xfrm>
            <a:off x="7327800" y="2708280"/>
            <a:ext cx="167328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5791320"/>
            <a:ext cx="9906120" cy="1066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es client understand how to use spermicides? Is she ready to choose metho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630760" y="4149720"/>
            <a:ext cx="4073760" cy="385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lps keep foaming tablets from melt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86200" y="414972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8080" y="6118200"/>
            <a:ext cx="4267440" cy="685800"/>
          </a:xfrm>
          <a:prstGeom prst="downArrowCallout">
            <a:avLst>
              <a:gd name="adj1" fmla="val 622315"/>
              <a:gd name="adj2" fmla="val 311128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f she has decided to use method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o to next pag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10080" y="6118200"/>
            <a:ext cx="3886200" cy="5875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 not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uss further or consider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metho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7080" y="5511960"/>
            <a:ext cx="1447560" cy="3045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Next Mov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1440"/>
            <a:ext cx="9906120" cy="838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to use spermici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-114480" y="5911920"/>
            <a:ext cx="1219320" cy="9460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08080" y="60480"/>
            <a:ext cx="1143000" cy="733320"/>
            <a:chOff x="208080" y="60480"/>
            <a:chExt cx="1143000" cy="733320"/>
          </a:xfrm>
        </p:grpSpPr>
        <p:sp>
          <p:nvSpPr>
            <p:cNvPr id="205" name=""/>
            <p:cNvSpPr/>
            <p:nvPr/>
          </p:nvSpPr>
          <p:spPr>
            <a:xfrm>
              <a:off x="208080" y="63360"/>
              <a:ext cx="1143000" cy="7174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22200" y="60480"/>
              <a:ext cx="9108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Vaginal </a:t>
              </a:r>
              <a:br>
                <a:rPr sz="1400"/>
              </a:b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Method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335160" y="450720"/>
              <a:ext cx="914400" cy="343080"/>
              <a:chOff x="335160" y="450720"/>
              <a:chExt cx="914400" cy="343080"/>
            </a:xfrm>
          </p:grpSpPr>
          <p:pic>
            <p:nvPicPr>
              <p:cNvPr id="20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34880" y="482400"/>
                <a:ext cx="814680" cy="311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35160" y="450720"/>
                <a:ext cx="415800" cy="177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10" name=""/>
          <p:cNvSpPr/>
          <p:nvPr/>
        </p:nvSpPr>
        <p:spPr>
          <a:xfrm>
            <a:off x="127080" y="162252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6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sert before sex (up to 1 hour befo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7080" y="232560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6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sert deep into vagina using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pplicator or fing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27080" y="314172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6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o not wash vagina for at least 6 hours after s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27080" y="407052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6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f possible, store in a cool, dry pl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630760" y="1413000"/>
            <a:ext cx="4073760" cy="1439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With tablets, suppositories, fil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st insert at least 10 minutes before se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using film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d in half and insert with dry fingers near the cervix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With fo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ake container well fir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792680" y="162864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9055080" y="5560920"/>
            <a:ext cx="576000" cy="468360"/>
            <a:chOff x="9055080" y="5560920"/>
            <a:chExt cx="576000" cy="468360"/>
          </a:xfrm>
        </p:grpSpPr>
        <p:sp>
          <p:nvSpPr>
            <p:cNvPr id="217" name=""/>
            <p:cNvSpPr/>
            <p:nvPr/>
          </p:nvSpPr>
          <p:spPr>
            <a:xfrm>
              <a:off x="9055080" y="556092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8" name="" descr=""/>
            <p:cNvPicPr/>
            <p:nvPr/>
          </p:nvPicPr>
          <p:blipFill>
            <a:blip r:embed="rId4"/>
            <a:stretch/>
          </p:blipFill>
          <p:spPr>
            <a:xfrm>
              <a:off x="9194760" y="568656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 rot="20679600">
            <a:off x="5715000" y="2819160"/>
            <a:ext cx="1903320" cy="100800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rot="4200">
            <a:off x="7315200" y="4041720"/>
            <a:ext cx="1905120" cy="15969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21522600">
            <a:off x="4874760" y="1752480"/>
            <a:ext cx="1903680" cy="10083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440" y="1628640"/>
            <a:ext cx="5257800" cy="37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3300"/>
                </a:solidFill>
                <a:latin typeface="Arial"/>
              </a:rPr>
              <a:t>Come back if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1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You need more spermici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3163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Diaphragm becomes stiff or thin or develops ho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3163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You or your partner has reaction (itching, rash, irritation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3163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You feel pain when urinat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-1440" y="1440"/>
            <a:ext cx="9907560" cy="101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hat to rememb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2236800">
            <a:off x="5318280" y="4102200"/>
            <a:ext cx="1692000" cy="21333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724280" y="1913040"/>
            <a:ext cx="1905120" cy="934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5943600" y="2971800"/>
            <a:ext cx="1676520" cy="9050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5416560" y="4114800"/>
            <a:ext cx="1200240" cy="27432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533520" y="120600"/>
            <a:ext cx="1447560" cy="11224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965160" y="5600880"/>
            <a:ext cx="4114800" cy="1079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Anything else I can repeat or explain? </a:t>
            </a:r>
            <a:br>
              <a:rPr sz="1800"/>
            </a:b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Any other question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5"/>
          <a:stretch/>
        </p:blipFill>
        <p:spPr>
          <a:xfrm>
            <a:off x="7365960" y="4048200"/>
            <a:ext cx="17463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5181480" y="1725480"/>
            <a:ext cx="452304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1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cuss where she can get resupply 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at clinic or pharma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portant to get more spermicide before she runs 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81480" y="3097080"/>
            <a:ext cx="4523040" cy="63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 algn="just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be due to spermicide or latex, of could be infection or vaginit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 algn="just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need to switch brand of spermicide, or switch metho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181480" y="3873600"/>
            <a:ext cx="452304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 algn="just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 of urinary tract inf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181480" y="2411280"/>
            <a:ext cx="452304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 algn="just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diaphragms should be repla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 algn="just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 diaphragms should be refitted after childbirth or abor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5756400"/>
            <a:ext cx="9909000" cy="11127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181160" y="5867280"/>
            <a:ext cx="7543800" cy="9050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o you feel confident you can use this method successfully?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s there anything I can repeat or explain?”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ff3399"/>
                </a:solidFill>
                <a:latin typeface="Arial"/>
              </a:rPr>
              <a:t>Remember to offer condoms for dual protection and/or back-up!</a:t>
            </a:r>
            <a:r>
              <a:rPr b="1" i="1" lang="en-US" sz="1400" spc="-1" strike="noStrike">
                <a:solidFill>
                  <a:srgbClr val="ff3399"/>
                </a:solidFill>
                <a:latin typeface="Arial"/>
              </a:rPr>
              <a:t>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Last, most important message: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“Use method every time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4760" y="5502240"/>
            <a:ext cx="198108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Last Moves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43480" y="183024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43480" y="253512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43480" y="323064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43480" y="390204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14480" y="386064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Bef>
                <a:spcPts val="1913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You feel pain when urin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1440"/>
            <a:ext cx="9906120" cy="838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to rememb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08080" y="60480"/>
            <a:ext cx="1143000" cy="733320"/>
            <a:chOff x="208080" y="60480"/>
            <a:chExt cx="1143000" cy="733320"/>
          </a:xfrm>
        </p:grpSpPr>
        <p:sp>
          <p:nvSpPr>
            <p:cNvPr id="246" name=""/>
            <p:cNvSpPr/>
            <p:nvPr/>
          </p:nvSpPr>
          <p:spPr>
            <a:xfrm>
              <a:off x="208080" y="63360"/>
              <a:ext cx="1143000" cy="7174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22200" y="60480"/>
              <a:ext cx="9108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Vaginal </a:t>
              </a:r>
              <a:br>
                <a:rPr sz="1400"/>
              </a:b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Method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335160" y="450720"/>
              <a:ext cx="914400" cy="343080"/>
              <a:chOff x="335160" y="450720"/>
              <a:chExt cx="914400" cy="343080"/>
            </a:xfrm>
          </p:grpSpPr>
          <p:pic>
            <p:nvPicPr>
              <p:cNvPr id="2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4880" y="482400"/>
                <a:ext cx="814680" cy="311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35160" y="450720"/>
                <a:ext cx="415800" cy="177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51" name=""/>
          <p:cNvGrpSpPr/>
          <p:nvPr/>
        </p:nvGrpSpPr>
        <p:grpSpPr>
          <a:xfrm>
            <a:off x="7904160" y="6056280"/>
            <a:ext cx="576000" cy="468360"/>
            <a:chOff x="7904160" y="6056280"/>
            <a:chExt cx="576000" cy="468360"/>
          </a:xfrm>
        </p:grpSpPr>
        <p:sp>
          <p:nvSpPr>
            <p:cNvPr id="252" name=""/>
            <p:cNvSpPr/>
            <p:nvPr/>
          </p:nvSpPr>
          <p:spPr>
            <a:xfrm>
              <a:off x="7904160" y="605628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3" name="" descr=""/>
            <p:cNvPicPr/>
            <p:nvPr/>
          </p:nvPicPr>
          <p:blipFill>
            <a:blip r:embed="rId3"/>
            <a:stretch/>
          </p:blipFill>
          <p:spPr>
            <a:xfrm>
              <a:off x="8043840" y="618192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4" name=""/>
          <p:cNvSpPr/>
          <p:nvPr/>
        </p:nvSpPr>
        <p:spPr>
          <a:xfrm>
            <a:off x="114480" y="308304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Bef>
                <a:spcPts val="1913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You or your partner has reaction (itching, rash, irritation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14480" y="23922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Bef>
                <a:spcPts val="1913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aphragm becomes stiff or thin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 develops ho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14480" y="177336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Bef>
                <a:spcPts val="1913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You need more spermici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14480" y="126216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Come back if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8T09:29:07Z</dcterms:created>
  <dc:creator>JohnsonS</dc:creator>
  <dc:description/>
  <dc:language>en-US</dc:language>
  <cp:lastModifiedBy>Church</cp:lastModifiedBy>
  <cp:lastPrinted>2002-06-10T08:51:06Z</cp:lastPrinted>
  <dcterms:modified xsi:type="dcterms:W3CDTF">2005-09-16T14:49:40Z</dcterms:modified>
  <cp:revision>423</cp:revision>
  <dc:subject/>
  <dc:title>No Slide Title</dc:title>
</cp:coreProperties>
</file>