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907588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116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80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116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80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C237A-F2D3-4171-8C7C-BE3E8B180B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EF865-5530-4A66-827F-6EEC2E5E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932F3-C8D3-4ECB-910A-5A6149FC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90417-73BA-45A0-A44A-82A6F22D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78DA1-DE7B-4C6C-B93C-2BB663A1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7CB45-0C01-4AE5-AEF0-BFD2BB37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9BF4D-E8CD-4659-B346-C976A618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09F88-95F2-4B18-8A9D-682CE2FD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848E6-E0E5-46B3-91FB-116A1ADC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04ADA-A4DA-4F9A-884C-C8FACCC8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472E6-3BD1-4889-9491-72A871F5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90116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180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190116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342180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9B49A-66FF-4E0C-8190-47051585A6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90116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42180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190116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342180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2"/>
          </p:nvPr>
        </p:nvSpPr>
        <p:spPr>
          <a:xfrm>
            <a:off x="769572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256F-60F2-4125-838E-9D9CCF98CC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259240" y="2484720"/>
            <a:ext cx="41166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97560" y="2405160"/>
            <a:ext cx="5205240" cy="420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Very effective with nothing to remember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up to 7 years. 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Are you looking for a method that is easy to use effectively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99000" y="5141880"/>
            <a:ext cx="5205240" cy="30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Side-effects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page I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99000" y="5502240"/>
            <a:ext cx="5205240" cy="316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For STI/HIV/AIDS protection, also use cond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rplant Im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3840" y="1168560"/>
            <a:ext cx="4267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small plastic tubes plac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 skin of upper a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97560" y="2881440"/>
            <a:ext cx="5205240" cy="806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vy women may need them removed after 4 or 5 years (see page IM4). Another set of capsules can be inserted if client wants to continue using impl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get pregnant soon after capsules are taken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881680"/>
            <a:ext cx="9906120" cy="987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ould you like to know more about implants, or talk about a different method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6143760"/>
            <a:ext cx="3886200" cy="684000"/>
          </a:xfrm>
          <a:prstGeom prst="downArrowCallout">
            <a:avLst>
              <a:gd name="adj1" fmla="val 568210"/>
              <a:gd name="adj2" fmla="val 28407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client wants to know more abou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ant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7080" y="561492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13208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67280" y="24462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40035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67280" y="29941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114800">
            <a:off x="4066920" y="53557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3840" y="2395440"/>
            <a:ext cx="322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eff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3840" y="2957400"/>
            <a:ext cx="36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 up to 7 years, depending on your w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3840" y="3946680"/>
            <a:ext cx="25052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sa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3840" y="4619520"/>
            <a:ext cx="4064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ually change monthly blee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3840" y="5013360"/>
            <a:ext cx="4267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protection against STIs or HIV/A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81080" y="14760"/>
            <a:ext cx="1143000" cy="762840"/>
            <a:chOff x="181080" y="14760"/>
            <a:chExt cx="1143000" cy="762840"/>
          </a:xfrm>
        </p:grpSpPr>
        <p:sp>
          <p:nvSpPr>
            <p:cNvPr id="135" name=""/>
            <p:cNvSpPr/>
            <p:nvPr/>
          </p:nvSpPr>
          <p:spPr>
            <a:xfrm>
              <a:off x="181080" y="3312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7280" y="14760"/>
              <a:ext cx="913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mpla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93920" y="22860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27080" y="5925960"/>
            <a:ext cx="1219320" cy="946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rot="1114800">
            <a:off x="4066920" y="49525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97560" y="3746520"/>
            <a:ext cx="5203800" cy="13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lants are not harmful for health. They do not bother her or affect strength. For breastfeeding women, they do not affect the quality of breastmi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Check for concerns, rumours:</a:t>
            </a:r>
            <a:r>
              <a:rPr b="0" lang="en-GB" sz="12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What have you heard about implants?”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xplain common myths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sules do not brea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ide the body. They are bendable. (Also see Appendix 10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92520" y="923760"/>
            <a:ext cx="5203800" cy="1425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About Norplant implant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 progestogen but not estrogen horm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mainly by thickening the cervical mucus and by stopping ovul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Appendices 4 &amp; 5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ft capsules that are just visible under the skin. Do not leave noticeable scar if inserted and removed correct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ed and removed by trained personnel in simple surgical procedure.</a:t>
            </a:r>
            <a:r>
              <a:rPr b="0" lang="en-GB" sz="12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056520" y="4286160"/>
            <a:ext cx="576360" cy="468360"/>
            <a:chOff x="9056520" y="4286160"/>
            <a:chExt cx="576360" cy="468360"/>
          </a:xfrm>
        </p:grpSpPr>
        <p:sp>
          <p:nvSpPr>
            <p:cNvPr id="144" name=""/>
            <p:cNvSpPr/>
            <p:nvPr/>
          </p:nvSpPr>
          <p:spPr>
            <a:xfrm>
              <a:off x="9056520" y="4286160"/>
              <a:ext cx="57636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9205920" y="4333680"/>
              <a:ext cx="28872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5340240" y="6143760"/>
            <a:ext cx="396108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o discuss another method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a new method tab or to Choosing Method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537400" y="6864480"/>
            <a:ext cx="1354320" cy="438120"/>
          </a:xfrm>
          <a:prstGeom prst="rect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m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hat to reme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1523880"/>
            <a:ext cx="4876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28600" indent="-228600">
              <a:lnSpc>
                <a:spcPct val="95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e back when it is time to have the implants remo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29240" y="1994040"/>
            <a:ext cx="4224240" cy="4530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3680" indent="-1936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See a nurse or doctor 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33520" y="133200"/>
            <a:ext cx="1447560" cy="11224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977240" y="5976720"/>
            <a:ext cx="12952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Yellow skin or e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80360" y="2689920"/>
            <a:ext cx="162576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y be pregnant, especially if pain or soreness in be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77040" y="5415840"/>
            <a:ext cx="16002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nusually heavy or long blee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676840" y="4869000"/>
            <a:ext cx="719280" cy="15303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7761240" y="2565360"/>
            <a:ext cx="635040" cy="11001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7977240" y="4221000"/>
            <a:ext cx="1928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fection or continued pain in the insertion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5257800"/>
            <a:ext cx="36576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Anything else I can repeat or explain? </a:t>
            </a:r>
            <a:br>
              <a:rPr sz="1800"/>
            </a:br>
            <a:r>
              <a:rPr b="1" i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Any other ques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4080" y="2666880"/>
            <a:ext cx="464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5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de-effects are common but rarely harmful. Come back if they bother you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3924360"/>
            <a:ext cx="4648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me back any time if you have problems or want implants remo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6665760" y="3932280"/>
            <a:ext cx="1354320" cy="11224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5"/>
          <a:stretch/>
        </p:blipFill>
        <p:spPr>
          <a:xfrm>
            <a:off x="8408880" y="5084640"/>
            <a:ext cx="644760" cy="8636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600880" y="2689920"/>
            <a:ext cx="120456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 bright spot in your vision before bad headach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6"/>
          <a:stretch/>
        </p:blipFill>
        <p:spPr>
          <a:xfrm>
            <a:off x="6537240" y="2376360"/>
            <a:ext cx="85716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at to rem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57960" y="952560"/>
            <a:ext cx="4248000" cy="17557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men under 70 k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back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 ye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If a woman gains much weight, she should come back soo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man 70 to 79 k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back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ye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man 80 kg or mo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back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ye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is time all women can have their implants replaced or choose a new meth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possible, give client a durable card that states date of insertion and date (with month) when she should retu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5729400"/>
            <a:ext cx="9909000" cy="1139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9560" y="5853240"/>
            <a:ext cx="8610480" cy="961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 you feel confident you can use this method successfully? Is there anything I can repeat or explain?”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3399"/>
                </a:solidFill>
                <a:latin typeface="Arial"/>
                <a:ea typeface="Arial"/>
              </a:rPr>
              <a:t>Remember to offer condoms for dual protection!</a:t>
            </a: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Last, most important message: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“Please come back any time you have questions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want to have implants removed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4760" y="5530680"/>
            <a:ext cx="1828800" cy="289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Last Mov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344340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2880" y="981000"/>
            <a:ext cx="464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228600" indent="-228600">
              <a:lnSpc>
                <a:spcPct val="95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78440" y="13111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25280" y="43200"/>
            <a:ext cx="1143000" cy="762840"/>
            <a:chOff x="125280" y="43200"/>
            <a:chExt cx="1143000" cy="762840"/>
          </a:xfrm>
        </p:grpSpPr>
        <p:sp>
          <p:nvSpPr>
            <p:cNvPr id="313" name=""/>
            <p:cNvSpPr/>
            <p:nvPr/>
          </p:nvSpPr>
          <p:spPr>
            <a:xfrm>
              <a:off x="125280" y="6156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1480" y="43200"/>
              <a:ext cx="913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a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438120" y="25704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"/>
          <p:cNvSpPr/>
          <p:nvPr/>
        </p:nvSpPr>
        <p:spPr>
          <a:xfrm>
            <a:off x="128520" y="3267000"/>
            <a:ext cx="4537080" cy="2047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e a nurse or doctor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95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 bright spot in your vision before bad headaches (migraine au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95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y be pregnant, especially if pain or soreness in be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95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fection or continued pain in the insertion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95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nusually heavy or long blee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95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Yellow skin or e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57960" y="3459240"/>
            <a:ext cx="4260600" cy="106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3300"/>
                </a:solidFill>
                <a:latin typeface="Arial"/>
                <a:ea typeface="Arial"/>
              </a:rPr>
              <a:t>Return Sig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 many cases these signs are not related to the implants. But a doctor or nurse needs to check if a serious problem is developing and if you can continue using implant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 want you to know about them and remember them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73800" y="5157720"/>
            <a:ext cx="423216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f another health care provider asks about her medications, she should mention the im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381960" y="64785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8596440" y="6165720"/>
            <a:ext cx="576000" cy="468360"/>
            <a:chOff x="8596440" y="6165720"/>
            <a:chExt cx="576000" cy="468360"/>
          </a:xfrm>
        </p:grpSpPr>
        <p:sp>
          <p:nvSpPr>
            <p:cNvPr id="321" name=""/>
            <p:cNvSpPr/>
            <p:nvPr/>
          </p:nvSpPr>
          <p:spPr>
            <a:xfrm>
              <a:off x="8596440" y="616572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8736120" y="629136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5460840" y="4606920"/>
            <a:ext cx="424512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that is more than 8 days long or twice as heavy as us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5800" y="1484280"/>
            <a:ext cx="41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0160" y="1096920"/>
            <a:ext cx="50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30040" indent="-230040">
              <a:lnSpc>
                <a:spcPct val="95000"/>
              </a:lnSpc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e back when it is time to have the implants rem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56120" y="28526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57960" y="2790720"/>
            <a:ext cx="424800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client that implants can be remove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y ti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0160" y="1887480"/>
            <a:ext cx="504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30040" indent="-230040">
              <a:lnSpc>
                <a:spcPct val="95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de-effects are common but rarely harmful. Come back if they bother yo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0160" y="2478240"/>
            <a:ext cx="468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30040" indent="-230040">
              <a:lnSpc>
                <a:spcPct val="95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e back any time if you have problems or want implants rem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47228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 rot="20498400">
            <a:off x="5168880" y="2053800"/>
            <a:ext cx="4722840" cy="31021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0160" y="1025640"/>
            <a:ext cx="5832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ple surgical proced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manent. For men who will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 want more childr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effec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saf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effect on sexual 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protection against STIs or HIV/AI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440"/>
            <a:ext cx="991080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asectomy for M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5238720"/>
            <a:ext cx="533412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Do you want to know more about this method, or talk about a different metho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33520" y="5467320"/>
            <a:ext cx="1103040" cy="13906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8467560" y="552672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Tubes </a:t>
            </a:r>
            <a:br>
              <a:rPr sz="2000"/>
            </a:b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cut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9240" y="1900080"/>
            <a:ext cx="3676680" cy="37609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flipH="1" flipV="1">
            <a:off x="7400880" y="4292280"/>
            <a:ext cx="1873440" cy="115236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2997360"/>
            <a:ext cx="525780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10000"/>
              </a:lnSpc>
              <a:spcBef>
                <a:spcPts val="414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But usually cannot use implants if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Who can and cannot use implant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420920"/>
            <a:ext cx="358128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Most women can safely use impl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5713200"/>
            <a:ext cx="237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stfeed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week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5733360"/>
            <a:ext cx="17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b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g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18080" y="5513400"/>
            <a:ext cx="28195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110000"/>
              </a:lnSpc>
              <a:spcBef>
                <a:spcPts val="249"/>
              </a:spcBef>
              <a:spcAft>
                <a:spcPts val="374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other serious health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1522600">
            <a:off x="3352320" y="1268280"/>
            <a:ext cx="5143680" cy="193356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20766000">
            <a:off x="3365280" y="3987720"/>
            <a:ext cx="1523880" cy="111456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728880" y="4064040"/>
            <a:ext cx="855720" cy="1481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657600" y="1344600"/>
            <a:ext cx="4419720" cy="1881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rot="20766000">
            <a:off x="5943240" y="4236840"/>
            <a:ext cx="1676520" cy="113004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225400">
            <a:off x="819360" y="3835080"/>
            <a:ext cx="1280880" cy="153504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914400" y="4013280"/>
            <a:ext cx="1085760" cy="1625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278400" y="4351320"/>
            <a:ext cx="9432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9440" y="1844640"/>
            <a:ext cx="4267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788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stfeeding 6 weeks or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48200" y="1219320"/>
            <a:ext cx="472752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e can find out if Norplant implants are safe for you. Usually, women with any of these conditions should use another metho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can and cannot use im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48200" y="1974960"/>
            <a:ext cx="4727520" cy="446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k her to come back when baby is 6 weeks old. Urge her to keep breastfee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950080"/>
            <a:ext cx="9906120" cy="919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02120" y="6095880"/>
            <a:ext cx="4372200" cy="6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ient is unable to use implants: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her choose another meth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2760" y="6091200"/>
            <a:ext cx="3886200" cy="725400"/>
          </a:xfrm>
          <a:prstGeom prst="downArrowCallout">
            <a:avLst>
              <a:gd name="adj1" fmla="val 535782"/>
              <a:gd name="adj2" fmla="val 267866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ient is able to use implants: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7080" y="571968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51240" y="264960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32160" y="20397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48200" y="2655720"/>
            <a:ext cx="4724280" cy="514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n doubt, use pregnancy checklist in Appendix 1 or perform pregnancy te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54080" y="27360"/>
            <a:ext cx="1143000" cy="762840"/>
            <a:chOff x="154080" y="27360"/>
            <a:chExt cx="1143000" cy="762840"/>
          </a:xfrm>
        </p:grpSpPr>
        <p:sp>
          <p:nvSpPr>
            <p:cNvPr id="174" name=""/>
            <p:cNvSpPr/>
            <p:nvPr/>
          </p:nvSpPr>
          <p:spPr>
            <a:xfrm>
              <a:off x="154080" y="4572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0280" y="27360"/>
              <a:ext cx="913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mpla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466920" y="24120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109440" y="1152360"/>
            <a:ext cx="426744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88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st women can safely use implants.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ut usually cannot use implants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381960" y="64785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4440" y="3746520"/>
            <a:ext cx="37720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Usually cannot use with any of these serious health conditions </a:t>
            </a:r>
            <a:br>
              <a:rPr sz="1400"/>
            </a:b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(if in doubt, check handbook or ref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8520" y="3141720"/>
            <a:ext cx="4267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ther serious health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3427560"/>
            <a:ext cx="4726080" cy="194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5000"/>
              </a:lnSpc>
              <a:spcBef>
                <a:spcPts val="300"/>
              </a:spcBef>
              <a:spcAft>
                <a:spcPts val="224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lood clot in lungs or deep in legs. Women with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erficial clots (including varicose veins) CAN use im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300"/>
              </a:spcBef>
              <a:spcAft>
                <a:spcPts val="224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 had breast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300"/>
              </a:spcBef>
              <a:spcAft>
                <a:spcPts val="224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explained vaginal bleeding: if the bleeding suggests a serious condition, help her choose a method without hormones to use until unusual bleeding is asse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300"/>
              </a:spcBef>
              <a:spcAft>
                <a:spcPts val="224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ous liver disease or jaundice (yellow skin or ey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300"/>
              </a:spcBef>
              <a:spcAft>
                <a:spcPts val="524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pills for tuberculosis (TB), fungal infections, or seizures (fi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46560" y="37004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9440" y="2606760"/>
            <a:ext cx="4267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be preg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ssible side-effec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20766000">
            <a:off x="5505480" y="2249280"/>
            <a:ext cx="1447920" cy="106668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13240" y="2492280"/>
            <a:ext cx="1949400" cy="1254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8600" y="2138400"/>
            <a:ext cx="4000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7200" indent="-187200">
              <a:lnSpc>
                <a:spcPct val="95000"/>
              </a:lnSpc>
              <a:spcBef>
                <a:spcPts val="689"/>
              </a:spcBef>
              <a:spcAft>
                <a:spcPts val="13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Very common: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ght spotting or blee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3281400"/>
            <a:ext cx="5638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7200" indent="-187200">
              <a:lnSpc>
                <a:spcPct val="95000"/>
              </a:lnSpc>
              <a:spcBef>
                <a:spcPts val="689"/>
              </a:spcBef>
              <a:spcAft>
                <a:spcPts val="13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Common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rregular bleeding, no monthly blee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043520"/>
            <a:ext cx="5638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7200" indent="-187200">
              <a:lnSpc>
                <a:spcPct val="95000"/>
              </a:lnSpc>
              <a:spcBef>
                <a:spcPts val="689"/>
              </a:spcBef>
              <a:spcAft>
                <a:spcPts val="13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Less common: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ome ot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45160" y="4869000"/>
            <a:ext cx="3081600" cy="130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How would you feel about these </a:t>
            </a:r>
            <a:br>
              <a:rPr sz="1800"/>
            </a:b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side-effec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105600" y="5373720"/>
            <a:ext cx="1447560" cy="1123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12760" y="1211400"/>
            <a:ext cx="970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Arial"/>
              </a:rPr>
              <a:t>If you choose this method, you may have some side-effects. </a:t>
            </a:r>
            <a:br>
              <a:rPr sz="2200"/>
            </a:br>
            <a:r>
              <a:rPr b="1" i="1" lang="en-US" sz="2200" spc="-1" strike="noStrike">
                <a:solidFill>
                  <a:srgbClr val="ff3300"/>
                </a:solidFill>
                <a:latin typeface="Arial"/>
              </a:rPr>
              <a:t>They are not usually signs of illne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305240" y="2590920"/>
            <a:ext cx="5475240" cy="86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Important to explain menstrual chang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cted and 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norrhoea (no monthly bleeding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Does not permanently affect fertility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rely a sign of pregnanc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xplain that blood does not build up insid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sible side-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s client understand side-effects? Is she happy to use metho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7080" y="557532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6143760"/>
            <a:ext cx="4267440" cy="685800"/>
          </a:xfrm>
          <a:prstGeom prst="downArrowCallout">
            <a:avLst>
              <a:gd name="adj1" fmla="val 622315"/>
              <a:gd name="adj2" fmla="val 31112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f so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6143760"/>
            <a:ext cx="388620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not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uss further or consid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metho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00440" y="19620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82520" y="29160"/>
            <a:ext cx="1143000" cy="762840"/>
            <a:chOff x="182520" y="29160"/>
            <a:chExt cx="1143000" cy="762840"/>
          </a:xfrm>
        </p:grpSpPr>
        <p:sp>
          <p:nvSpPr>
            <p:cNvPr id="201" name=""/>
            <p:cNvSpPr/>
            <p:nvPr/>
          </p:nvSpPr>
          <p:spPr>
            <a:xfrm>
              <a:off x="182520" y="4752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8720" y="29160"/>
              <a:ext cx="913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mpla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495360" y="24300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-1270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597560" y="1295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05240" y="936720"/>
            <a:ext cx="5475240" cy="1584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t can take time for the body to adjus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people have different reactions to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Discu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f these side-effects happened to you, what would 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you think or feel about it?”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hat would it mean to you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hat would you do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uss any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umours or concer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See Appendix 10 on myth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05240" y="3559320"/>
            <a:ext cx="5475240" cy="122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Less common side-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aches, lower abdominal pain, dizziness, breast tenderness, upset stomach (nausea), nervous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take paracetamol or ibuprofen for headach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Rare side-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ne or rash, change in appetite, weight gain, hair loss or more hair on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8962560" y="1693800"/>
            <a:ext cx="597240" cy="468360"/>
            <a:chOff x="8962560" y="1693800"/>
            <a:chExt cx="597240" cy="468360"/>
          </a:xfrm>
        </p:grpSpPr>
        <p:sp>
          <p:nvSpPr>
            <p:cNvPr id="210" name=""/>
            <p:cNvSpPr/>
            <p:nvPr/>
          </p:nvSpPr>
          <p:spPr>
            <a:xfrm flipH="1">
              <a:off x="8962200" y="1693800"/>
              <a:ext cx="57636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8977320" y="1702080"/>
              <a:ext cx="582480" cy="4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"/>
          <p:cNvSpPr/>
          <p:nvPr/>
        </p:nvSpPr>
        <p:spPr>
          <a:xfrm>
            <a:off x="4303800" y="4869000"/>
            <a:ext cx="5475240" cy="82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te client to return for help an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t is okay to switch methods any time. Please come back if you want the implants taken ou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dealing with side-effects, se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turning Client ta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ge RC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3160" y="1865160"/>
            <a:ext cx="4419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ry common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ght spotting or blee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8520" y="2728800"/>
            <a:ext cx="4464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7200" indent="-187200">
              <a:lnSpc>
                <a:spcPct val="95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mm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―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regular blee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―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monthly blee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3160" y="3959280"/>
            <a:ext cx="4419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7200" indent="-187200">
              <a:lnSpc>
                <a:spcPct val="90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Less common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ome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964720" y="1166760"/>
            <a:ext cx="596520" cy="468360"/>
            <a:chOff x="8964720" y="1166760"/>
            <a:chExt cx="596520" cy="468360"/>
          </a:xfrm>
        </p:grpSpPr>
        <p:sp>
          <p:nvSpPr>
            <p:cNvPr id="217" name=""/>
            <p:cNvSpPr/>
            <p:nvPr/>
          </p:nvSpPr>
          <p:spPr>
            <a:xfrm>
              <a:off x="8964720" y="1166760"/>
              <a:ext cx="59652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4"/>
            <a:stretch/>
          </p:blipFill>
          <p:spPr>
            <a:xfrm>
              <a:off x="9119160" y="1214280"/>
              <a:ext cx="29880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"/>
          <p:cNvSpPr/>
          <p:nvPr/>
        </p:nvSpPr>
        <p:spPr>
          <a:xfrm rot="1882200">
            <a:off x="3719520" y="23173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28880" y="404820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624880" y="5672160"/>
            <a:ext cx="504720" cy="409680"/>
            <a:chOff x="8624880" y="5672160"/>
            <a:chExt cx="504720" cy="409680"/>
          </a:xfrm>
        </p:grpSpPr>
        <p:sp>
          <p:nvSpPr>
            <p:cNvPr id="222" name=""/>
            <p:cNvSpPr/>
            <p:nvPr/>
          </p:nvSpPr>
          <p:spPr>
            <a:xfrm>
              <a:off x="8624880" y="5672160"/>
              <a:ext cx="504720" cy="409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5"/>
            <a:stretch/>
          </p:blipFill>
          <p:spPr>
            <a:xfrm>
              <a:off x="8747280" y="5781960"/>
              <a:ext cx="293040" cy="21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"/>
          <p:cNvSpPr/>
          <p:nvPr/>
        </p:nvSpPr>
        <p:spPr>
          <a:xfrm>
            <a:off x="3728880" y="30542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0160" y="9572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f you choose this method, you may have some side-effect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hey are not usually signs of ill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 rot="21209400">
            <a:off x="5638680" y="1564920"/>
            <a:ext cx="3919680" cy="210492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mplant insertion and remov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1468440"/>
            <a:ext cx="525780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19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sertion and removal should be quick and eas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19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jection prevents p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19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ovider puts 6 capsules just under the skin of inside upper a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19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ovider bandages opening in skin and wraps the arm 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no stitch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19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eed to be removed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fter 4 to 7 years,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epending on your we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715000" y="1609560"/>
            <a:ext cx="3962520" cy="28274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232160" y="4508640"/>
            <a:ext cx="1117800" cy="172872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303800" y="4579920"/>
            <a:ext cx="1028520" cy="1738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110280" y="4807080"/>
            <a:ext cx="3597120" cy="1501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Are you ready to </a:t>
            </a:r>
            <a:br>
              <a:rPr sz="1800"/>
            </a:b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choose this metho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What questions do you hav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5600880" y="5362560"/>
            <a:ext cx="121896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5919840"/>
            <a:ext cx="9909000" cy="946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es client understand the insertion and removal procedure? Is she ready to choose metho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mplant insertion and remov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06920" y="893880"/>
            <a:ext cx="5186520" cy="6490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lain that procedure will be done by a specially trained provi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sertion usually takes 5 to 10 minu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moval usually takes about 15 minutes, sometimes lon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06920" y="1593720"/>
            <a:ext cx="5186520" cy="466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t her feel a sample caps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possible, show her a photo of capsules under sk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06920" y="2506680"/>
            <a:ext cx="5186520" cy="11383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sertion and removal are done gen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ust one small opening in the skin. May be slight pain, swelling, bruising for a few d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eep area dry for 5 days. Can remove bandage after 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lease come back if arm stays sore for more than 5 days or if opening becomes red or has yellow liqui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9160" y="1052640"/>
            <a:ext cx="3581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sertion and removal should be quick and eas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24280" y="441972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59360" y="21160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9656600">
            <a:off x="4059360" y="32842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4760" y="5632560"/>
            <a:ext cx="144792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5280" y="43200"/>
            <a:ext cx="1143000" cy="762840"/>
            <a:chOff x="125280" y="43200"/>
            <a:chExt cx="1143000" cy="762840"/>
          </a:xfrm>
        </p:grpSpPr>
        <p:sp>
          <p:nvSpPr>
            <p:cNvPr id="245" name=""/>
            <p:cNvSpPr/>
            <p:nvPr/>
          </p:nvSpPr>
          <p:spPr>
            <a:xfrm>
              <a:off x="125280" y="6156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1480" y="43200"/>
              <a:ext cx="913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a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438120" y="25704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"/>
          <p:cNvSpPr/>
          <p:nvPr/>
        </p:nvSpPr>
        <p:spPr>
          <a:xfrm>
            <a:off x="4603680" y="2098800"/>
            <a:ext cx="5186520" cy="3380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cal anaesthetic stops pain during insertion. Woman stays aw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59360" y="1125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3963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99000" y="3687840"/>
            <a:ext cx="5186520" cy="21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  <a:ea typeface="Arial"/>
              </a:rPr>
              <a:t>When to remove or replace im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rplant implants need to be removed or replaced 4 to 7 years after insertion, depending on client's weight, as the method becomes less effective in heavier wom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eighs less than 70 kg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he can keep implants for up to 7 years unless her weight reaches 70 kg or m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eighs 70 to 79 kg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he should come back after 5 years to have implants removed unless her weight reaches 80 kg or m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eighs 80 kg or mor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he should come back after 4 years to have implants 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ll women can have new implants or another meth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9160" y="2081160"/>
            <a:ext cx="3076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jection prevents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9160" y="2565360"/>
            <a:ext cx="4157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vider puts 6 capsules just under the skin of inside upper a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9160" y="3213000"/>
            <a:ext cx="3725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vider bandages opening in skin and wraps the arm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 sti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9160" y="4149720"/>
            <a:ext cx="36529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eed to be removed after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4 to 7 years, depending on your w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59360" y="42354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59360" y="26049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8769240" y="6208560"/>
            <a:ext cx="576000" cy="468360"/>
            <a:chOff x="8769240" y="6208560"/>
            <a:chExt cx="576000" cy="468360"/>
          </a:xfrm>
        </p:grpSpPr>
        <p:sp>
          <p:nvSpPr>
            <p:cNvPr id="259" name=""/>
            <p:cNvSpPr/>
            <p:nvPr/>
          </p:nvSpPr>
          <p:spPr>
            <a:xfrm>
              <a:off x="8769240" y="620856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8908920" y="633420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"/>
          <p:cNvSpPr/>
          <p:nvPr/>
        </p:nvSpPr>
        <p:spPr>
          <a:xfrm>
            <a:off x="990720" y="6216480"/>
            <a:ext cx="3962160" cy="597240"/>
          </a:xfrm>
          <a:prstGeom prst="downArrowCallout">
            <a:avLst>
              <a:gd name="adj1" fmla="val 663472"/>
              <a:gd name="adj2" fmla="val 331705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she has decided to use meth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9240" y="6216480"/>
            <a:ext cx="3438720" cy="51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no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discuss further or consider other metho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rot="34800">
            <a:off x="6238440" y="1884240"/>
            <a:ext cx="2789280" cy="207972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ou may be able to start tod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537240" y="1990800"/>
            <a:ext cx="2486160" cy="41162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04920" y="21718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start any day of the menstrual cycle if we can be sure you aren’t preg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4978440"/>
            <a:ext cx="518184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Would you like to start no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28600" y="5200560"/>
            <a:ext cx="1447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u may be able to start to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27880" y="42051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5791320"/>
            <a:ext cx="9909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lient ready to start n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4760" y="554976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16360" y="14479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82520" y="43200"/>
            <a:ext cx="1143000" cy="762840"/>
            <a:chOff x="182520" y="43200"/>
            <a:chExt cx="1143000" cy="762840"/>
          </a:xfrm>
        </p:grpSpPr>
        <p:sp>
          <p:nvSpPr>
            <p:cNvPr id="275" name=""/>
            <p:cNvSpPr/>
            <p:nvPr/>
          </p:nvSpPr>
          <p:spPr>
            <a:xfrm>
              <a:off x="182520" y="6156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8720" y="43200"/>
              <a:ext cx="913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mpla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495360" y="25668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"/>
          <p:cNvSpPr/>
          <p:nvPr/>
        </p:nvSpPr>
        <p:spPr>
          <a:xfrm>
            <a:off x="1066680" y="6083280"/>
            <a:ext cx="3886200" cy="700200"/>
          </a:xfrm>
          <a:prstGeom prst="downArrowCallout">
            <a:avLst>
              <a:gd name="adj1" fmla="val 555063"/>
              <a:gd name="adj2" fmla="val 277506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f yes,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insert implants or arrange for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ertion as soon as possi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26040" y="6083280"/>
            <a:ext cx="4216320" cy="723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not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range another visi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uring next menstrual period would be best)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ive condo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use until then. Explain their u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1320840"/>
            <a:ext cx="286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Aft>
                <a:spcPts val="90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start any day of the menstrual cycle if we can be sure you aren’t preg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-1270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98920" y="893880"/>
            <a:ext cx="6192720" cy="1382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If menstrual bleeding started in past 7 d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 can start NOW. No extra protection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f menstrual bleeding started more than 7 days ago or if amenorrhoeic (not having menstrual period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can start NOW if reasonably certain she is not pregnant (use pregnancy checklist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ppendix 1)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eed to wait for next menstrual perio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get impla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houl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oid sex or use condoms for 7 day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fter inse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4667400"/>
            <a:ext cx="6192720" cy="10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f switching from another 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switching from pills,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the best time to star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switching from an injectable, should start at time she would have had repeat inj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switching from IUD, and menstrual bleeding started more than 7 days ago, can get implants now but leave IUD in place until the next menstrual peri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98920" y="2349360"/>
            <a:ext cx="6192720" cy="164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fter childbirth, if breastfee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y (or nearly fully) breastfeeding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start from 6 weeks after childbirth. No extra protection needed if she is between 6 weeks and 6 months after giving birth and her periods have not retur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rtiall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reastfeed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best to start 6 weeks after giving birth. Waiting longer risks pregna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fter childbirth, if NOT breastfee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tar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mediately after childbirth. If in the first 4 weeks after giving birth, no extra protection is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98920" y="4033800"/>
            <a:ext cx="619272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fter miscarriage or abor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start immediately after abortion. If in the first 7 days after abortion, no extra protection is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>JohnsonS</dc:creator>
  <dc:description/>
  <dc:language>en-US</dc:language>
  <cp:lastModifiedBy>Church</cp:lastModifiedBy>
  <cp:lastPrinted>2003-07-18T11:23:00Z</cp:lastPrinted>
  <dcterms:modified xsi:type="dcterms:W3CDTF">2005-09-16T14:46:55Z</dcterms:modified>
  <cp:revision>881</cp:revision>
  <dc:subject/>
  <dc:title>No Slide Title</dc:title>
</cp:coreProperties>
</file>