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4665600" y="5316480"/>
            <a:ext cx="50832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664160" y="3371760"/>
            <a:ext cx="5083200" cy="44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ould you remember to take a pill at the same time each day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need to do anything at time of sexual inter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664160" y="3889440"/>
            <a:ext cx="5083200" cy="96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lls are not harmful for heal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Check for concerns, rumours: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What have you heard about the mini-pill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xplain common myths: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lls are dissolved into blood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do not accumulate in stomach. (Also see Appendix 10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664160" y="922320"/>
            <a:ext cx="5083200" cy="23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the mini-p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only progestogen. OK for women who cannot take est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s mainly by thickening cervical mucus and by stopping ovul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Appendices 4 &amp; 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effective when breastf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y to stop: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woman who stops pills can soon become preg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mpared with the combined p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if breastfeeding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es not affect quality or amount of breast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ing pills on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even more important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women not breastfeeding, taking a pill more than a few hours late can increase pregnancy ris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side-effects except for bleeding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7080" y="2909880"/>
            <a:ext cx="529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 pill at same time ever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ini-P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278600">
            <a:off x="4059000" y="3182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576200">
            <a:off x="4049280" y="5200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the mini-pill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6093000"/>
            <a:ext cx="4114800" cy="734760"/>
          </a:xfrm>
          <a:prstGeom prst="downArrowCallout">
            <a:avLst>
              <a:gd name="adj1" fmla="val 560071"/>
              <a:gd name="adj2" fmla="val 28000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th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-pill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551484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080" y="4927680"/>
            <a:ext cx="441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4149720"/>
            <a:ext cx="400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 who are no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 may notice changes in monthly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080" y="1447920"/>
            <a:ext cx="441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method whil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991400">
            <a:off x="4052520" y="4723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7080" y="3500280"/>
            <a:ext cx="441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08600">
            <a:off x="4060440" y="3844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3800" y="18000"/>
            <a:ext cx="1232280" cy="763200"/>
            <a:chOff x="73800" y="18000"/>
            <a:chExt cx="1232280" cy="763200"/>
          </a:xfrm>
        </p:grpSpPr>
        <p:sp>
          <p:nvSpPr>
            <p:cNvPr id="55" name=""/>
            <p:cNvSpPr/>
            <p:nvPr/>
          </p:nvSpPr>
          <p:spPr>
            <a:xfrm>
              <a:off x="127080" y="6372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800" y="1800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Mini-P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55680" y="2606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056520" y="4091040"/>
            <a:ext cx="576360" cy="468360"/>
            <a:chOff x="9056520" y="4091040"/>
            <a:chExt cx="576360" cy="468360"/>
          </a:xfrm>
        </p:grpSpPr>
        <p:sp>
          <p:nvSpPr>
            <p:cNvPr id="61" name=""/>
            <p:cNvSpPr/>
            <p:nvPr/>
          </p:nvSpPr>
          <p:spPr>
            <a:xfrm>
              <a:off x="9056520" y="409104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9205920" y="413856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4664160" y="4941720"/>
            <a:ext cx="5083200" cy="2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ide-effects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page MP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0680" y="1671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40240" y="6093000"/>
            <a:ext cx="396108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7960" y="6864480"/>
            <a:ext cx="135396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 Mini-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1514520"/>
            <a:ext cx="4190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a mini-pill every day at the same time each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20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270240"/>
            <a:ext cx="49528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de-effects are common but rarely harmful. Come back if they bother yo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5080" y="2768760"/>
            <a:ext cx="3938400" cy="375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a nurse or doctor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520" y="189000"/>
            <a:ext cx="1447560" cy="1122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815080" y="3480480"/>
            <a:ext cx="13158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bright spot in your vision before bad head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9440" y="5905080"/>
            <a:ext cx="1600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ellow skin or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59800" y="5064840"/>
            <a:ext cx="1295280" cy="124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y be pregnant, especially if pain or soreness in be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80520" y="3500640"/>
            <a:ext cx="1295280" cy="86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usually heavy or long blee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962840" y="3235320"/>
            <a:ext cx="733320" cy="1562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928000" y="486576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21065400">
            <a:off x="4800240" y="1196640"/>
            <a:ext cx="1701720" cy="1206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181480" y="1285920"/>
            <a:ext cx="1371600" cy="1268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4920" y="2395440"/>
            <a:ext cx="4724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f you are late taking pills, you can get pregn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486400"/>
            <a:ext cx="41148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290840"/>
            <a:ext cx="441936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e back for more pills before you run out,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r if you have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368960"/>
            <a:ext cx="1371600" cy="1117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4102200" y="4533840"/>
            <a:ext cx="1143000" cy="884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391440" y="4824360"/>
            <a:ext cx="784080" cy="105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869160" y="3230640"/>
            <a:ext cx="8190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5910120"/>
            <a:ext cx="7543800" cy="89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confident you can use this method successfully?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 and/or back-up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Take a pill each day at the same tim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5587920"/>
            <a:ext cx="198144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4200" y="981000"/>
            <a:ext cx="464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ke a mini-pill every day at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me time each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9735800">
            <a:off x="4800600" y="2421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16640" y="18000"/>
            <a:ext cx="1232280" cy="763200"/>
            <a:chOff x="116640" y="18000"/>
            <a:chExt cx="1232280" cy="763200"/>
          </a:xfrm>
        </p:grpSpPr>
        <p:sp>
          <p:nvSpPr>
            <p:cNvPr id="241" name=""/>
            <p:cNvSpPr/>
            <p:nvPr/>
          </p:nvSpPr>
          <p:spPr>
            <a:xfrm>
              <a:off x="169920" y="6372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6640" y="1800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Mini-P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398520" y="2606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5410080" y="3225960"/>
            <a:ext cx="434340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3300"/>
                </a:solidFill>
                <a:latin typeface="Arial"/>
              </a:rPr>
              <a:t>Return Sig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 many cases these signs are not related to taking the mini-pill. But a doctor or nurse needs to check if a serious problem is developing and if you can continue taking the mini-p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 want you to know about them and remember the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1700280"/>
            <a:ext cx="4343400" cy="14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te client to return any time she wants more pills or help, information, or a new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possible, plan for a follow-up contac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fter starting pills. Always plan a yearly follow-up vis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breastfeeding, invite her to come back when she stops breastfeeding. She may want to switch to another method at tha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3581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200" y="2320920"/>
            <a:ext cx="49532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-effects are common but rarely harmful. Come back if they bothe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4200" y="1671480"/>
            <a:ext cx="3657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are late taking pills, you can get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4200" y="2946240"/>
            <a:ext cx="44197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e back for more pills before you run out, or if you have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014800"/>
            <a:ext cx="4343400" cy="501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other health care provider asks about her medications, she should mention that she is using the mini-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047080" y="5999040"/>
            <a:ext cx="576000" cy="468360"/>
            <a:chOff x="8047080" y="5999040"/>
            <a:chExt cx="576000" cy="468360"/>
          </a:xfrm>
        </p:grpSpPr>
        <p:sp>
          <p:nvSpPr>
            <p:cNvPr id="253" name=""/>
            <p:cNvSpPr/>
            <p:nvPr/>
          </p:nvSpPr>
          <p:spPr>
            <a:xfrm>
              <a:off x="8047080" y="59990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8186760" y="61246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5411880" y="4465800"/>
            <a:ext cx="4343400" cy="47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that is more than 8 days long or twice as heavy as us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850200">
            <a:off x="4764240" y="4508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7080" y="3616200"/>
            <a:ext cx="4032000" cy="18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e a nurse or doctor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bright spot in your vision before bad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headaches (migraine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usually heavy or long blee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ellow skin or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y be pregnant, especially      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if pain or soreness in be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rot="729000">
            <a:off x="6215040" y="2276280"/>
            <a:ext cx="3273480" cy="1638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ng-Acting Injec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557360"/>
            <a:ext cx="55101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njection every 2 or 3 months, depending on typ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ten takes longer to get pregnan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stop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saf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nges monthly bleed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751800" y="2236680"/>
            <a:ext cx="2315880" cy="1560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295280" y="530064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66680" y="564372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20766000">
            <a:off x="5508360" y="4444560"/>
            <a:ext cx="1676160" cy="1130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225400">
            <a:off x="475560" y="4404960"/>
            <a:ext cx="1490760" cy="1382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 can and cannot u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ini-p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005360"/>
            <a:ext cx="5638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ut usually cannot use the mini-pill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98760"/>
            <a:ext cx="5638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st women can safely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se the mini-p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1160" y="592308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5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 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s or 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3440" y="592308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0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pregn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522600">
            <a:off x="3771720" y="162828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766000">
            <a:off x="2971440" y="4365720"/>
            <a:ext cx="1523880" cy="11142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35400" y="4441680"/>
            <a:ext cx="855720" cy="1481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038480" y="1770120"/>
            <a:ext cx="4419720" cy="1881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15080" y="4551480"/>
            <a:ext cx="942840" cy="118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68880" y="5818320"/>
            <a:ext cx="2158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8800" y="4437000"/>
            <a:ext cx="108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95800" y="1268280"/>
            <a:ext cx="46166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e can find out if the mini-pill is safe for you. Usually, women with any of these conditions should use another meth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95800" y="2120760"/>
            <a:ext cx="4616640" cy="35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 pills and tell her to start when baby is 6 week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2952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safely use the mini-pi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cannot use the mini-pill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95800" y="3363840"/>
            <a:ext cx="4616640" cy="121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 had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 liver disease or jaundice (yellow skin or ey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lood clot in lungs or deep in legs. Women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erficial clots (including varicose veins) CAN use the mini-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pills for tuberculosis (TB), fungal infections, or epilepsy (seizures/fi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44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o can and cannot use the mini-pil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40" y="5943600"/>
            <a:ext cx="990576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5760" y="6095880"/>
            <a:ext cx="4114800" cy="684360"/>
          </a:xfrm>
          <a:prstGeom prst="downArrowCallout">
            <a:avLst>
              <a:gd name="adj1" fmla="val 601318"/>
              <a:gd name="adj2" fmla="val 30063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able to use the mini-pil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56768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0318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 6 week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58912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pregna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4560" y="3743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4560" y="2763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4560" y="2147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95800" y="2665440"/>
            <a:ext cx="46166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 doubt, use pregnancy checklist in Appendix 1 or perform pregnancy t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6095880"/>
            <a:ext cx="447012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unable to use the mini-pill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 method without horm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760" y="18000"/>
            <a:ext cx="1232280" cy="763200"/>
            <a:chOff x="68760" y="18000"/>
            <a:chExt cx="1232280" cy="763200"/>
          </a:xfrm>
        </p:grpSpPr>
        <p:sp>
          <p:nvSpPr>
            <p:cNvPr id="97" name=""/>
            <p:cNvSpPr/>
            <p:nvPr/>
          </p:nvSpPr>
          <p:spPr>
            <a:xfrm>
              <a:off x="122040" y="6372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760" y="1800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Mini-P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640" y="2606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000" y="3639960"/>
            <a:ext cx="3771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Usually cannot use with any of these serious health conditions </a:t>
            </a:r>
            <a:br>
              <a:rPr sz="1400"/>
            </a:b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(if in doubt, check handbook or ref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213000"/>
            <a:ext cx="4648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other serious health condition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2560" y="4724280"/>
            <a:ext cx="4616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women who have had stroke or problems with heart or blood vessels CAN use the mini-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766000">
            <a:off x="2287080" y="3970080"/>
            <a:ext cx="1295640" cy="885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40080" y="4122720"/>
            <a:ext cx="1095120" cy="1171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20766000">
            <a:off x="7659720" y="2349000"/>
            <a:ext cx="144792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87440" y="3789360"/>
            <a:ext cx="1506960" cy="1654200"/>
            <a:chOff x="487440" y="3789360"/>
            <a:chExt cx="1506960" cy="1654200"/>
          </a:xfrm>
        </p:grpSpPr>
        <p:sp>
          <p:nvSpPr>
            <p:cNvPr id="109" name=""/>
            <p:cNvSpPr/>
            <p:nvPr/>
          </p:nvSpPr>
          <p:spPr>
            <a:xfrm rot="20766000">
              <a:off x="610920" y="3931920"/>
              <a:ext cx="1295640" cy="885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87440" y="3919680"/>
              <a:ext cx="149544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39120" y="2592360"/>
            <a:ext cx="1949400" cy="125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341640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6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Less commo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headache, tender breasts, dizz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76640"/>
            <a:ext cx="7391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mon (when not breastfeeding)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regular bleeding, spotting, no monthly blee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361120"/>
            <a:ext cx="4102200" cy="1112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try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using this method and see how you like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62360" y="557856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0280" y="1197000"/>
            <a:ext cx="97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 </a:t>
            </a:r>
            <a:br>
              <a:rPr sz="2200"/>
            </a:b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457800">
            <a:off x="3845520" y="3994200"/>
            <a:ext cx="1359000" cy="1090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081320" y="3960720"/>
            <a:ext cx="1014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4120" y="907920"/>
            <a:ext cx="4343400" cy="18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can take time for the body to adju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people have different reactions to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f these side-effects happened to you, what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ould you think or feel about it?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it mean to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you d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 an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mours or concer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Appendix 10 on myth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side-effects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373640"/>
            <a:ext cx="43434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take aspirin, paracetamol or ibuprofen for heada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2795760"/>
            <a:ext cx="434340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breastfeeding women do not have regular periods and so often do not notice effect of mini-pills on menstrual bl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on-breastfeeding women, irregular periods, spotting, light bleeding between periods, and amenorrhoea (no bleeding) are common and norm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client: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kipping pills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may make bleeding side-effects worse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risks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553248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3800" y="18000"/>
            <a:ext cx="1232280" cy="763200"/>
            <a:chOff x="73800" y="18000"/>
            <a:chExt cx="1232280" cy="763200"/>
          </a:xfrm>
        </p:grpSpPr>
        <p:sp>
          <p:nvSpPr>
            <p:cNvPr id="126" name=""/>
            <p:cNvSpPr/>
            <p:nvPr/>
          </p:nvSpPr>
          <p:spPr>
            <a:xfrm>
              <a:off x="127080" y="6372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00" y="1800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Mini-P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355680" y="2606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8839080" y="1554120"/>
            <a:ext cx="576360" cy="468360"/>
            <a:chOff x="8839080" y="1554120"/>
            <a:chExt cx="576360" cy="468360"/>
          </a:xfrm>
        </p:grpSpPr>
        <p:sp>
          <p:nvSpPr>
            <p:cNvPr id="130" name=""/>
            <p:cNvSpPr/>
            <p:nvPr/>
          </p:nvSpPr>
          <p:spPr>
            <a:xfrm>
              <a:off x="8839080" y="155412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8988480" y="160164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15920" y="254484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mon (when not breastfeeding)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egular bleeding, spotting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monthly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5920" y="35352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ss comm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ache, tender breasts, dizz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46720" y="1268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240" y="4869000"/>
            <a:ext cx="4343400" cy="76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te client to return for help an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is okay to switch methods any ti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dealing with side-effects, se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turning Client t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840520" y="2133720"/>
            <a:ext cx="597240" cy="468360"/>
            <a:chOff x="8840520" y="2133720"/>
            <a:chExt cx="597240" cy="468360"/>
          </a:xfrm>
        </p:grpSpPr>
        <p:sp>
          <p:nvSpPr>
            <p:cNvPr id="139" name=""/>
            <p:cNvSpPr/>
            <p:nvPr/>
          </p:nvSpPr>
          <p:spPr>
            <a:xfrm flipH="1">
              <a:off x="8840160" y="213372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8855280" y="214200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4446720" y="3052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73400">
            <a:off x="4446360" y="4060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78720" y="5651640"/>
            <a:ext cx="576000" cy="468000"/>
            <a:chOff x="8478720" y="5651640"/>
            <a:chExt cx="576000" cy="468000"/>
          </a:xfrm>
        </p:grpSpPr>
        <p:sp>
          <p:nvSpPr>
            <p:cNvPr id="144" name=""/>
            <p:cNvSpPr/>
            <p:nvPr/>
          </p:nvSpPr>
          <p:spPr>
            <a:xfrm>
              <a:off x="8478720" y="565164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8618400" y="577692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990720" y="6165720"/>
            <a:ext cx="3962160" cy="662040"/>
          </a:xfrm>
          <a:prstGeom prst="downArrowCallout">
            <a:avLst>
              <a:gd name="adj1" fmla="val 598532"/>
              <a:gd name="adj2" fmla="val 29923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9240" y="6175440"/>
            <a:ext cx="365616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scuss further or consider 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0160" y="98568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21065400">
            <a:off x="5594040" y="1898280"/>
            <a:ext cx="4162320" cy="244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take the mini-p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3040" y="182880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5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ake one pill each day at the same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ce you have finished all the pills in the pack, start a new pack the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llowing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te taking a pil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ake it as soon as you re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may need to follow special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instructions if more than 3 hours 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56280" y="2247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53080" y="226224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834160"/>
            <a:ext cx="9906120" cy="1036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7440" y="1387440"/>
            <a:ext cx="452268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Most important instruction: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pill at same time each day. If not breastfeeding, taking a pill even a few hours late increases risk of pregnancy. (Breastfeeding itself helps prevent pregnanc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7440" y="2271600"/>
            <a:ext cx="4524120" cy="4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wait between pac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ills are active (they all contain hormo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67440" y="981000"/>
            <a:ext cx="4522680" cy="3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 client her pill packs to hold and look 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134136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ke one pill each day at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m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53040" y="4121280"/>
            <a:ext cx="452448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3300"/>
                </a:solidFill>
                <a:latin typeface="Arial"/>
              </a:rPr>
              <a:t>If you miss a pill by more than 3 hours and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ot breastfeeding OR breastfeeding but                 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iods have returned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oid sex or use     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doms for the next 2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reastfeeding AND periods have NOT returned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special instructions. No extra protectio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580600" y="4349880"/>
            <a:ext cx="1077840" cy="576000"/>
            <a:chOff x="8580600" y="4349880"/>
            <a:chExt cx="1077840" cy="576000"/>
          </a:xfrm>
        </p:grpSpPr>
        <p:sp>
          <p:nvSpPr>
            <p:cNvPr id="161" name=""/>
            <p:cNvSpPr/>
            <p:nvPr/>
          </p:nvSpPr>
          <p:spPr>
            <a:xfrm>
              <a:off x="8618760" y="4349880"/>
              <a:ext cx="966600" cy="576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80600" y="4462200"/>
              <a:ext cx="1077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Spe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Instru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take the mini-p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1120" y="210492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ce you have finished all the pill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pack, start a new pack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ing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1120" y="3392640"/>
            <a:ext cx="464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te taking a pi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—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ke it as soon as you re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—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may need to follow speci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instructions if more tha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3 hours 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19440" y="14130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6640" y="18000"/>
            <a:ext cx="1232280" cy="763200"/>
            <a:chOff x="116640" y="18000"/>
            <a:chExt cx="1232280" cy="763200"/>
          </a:xfrm>
        </p:grpSpPr>
        <p:sp>
          <p:nvSpPr>
            <p:cNvPr id="169" name=""/>
            <p:cNvSpPr/>
            <p:nvPr/>
          </p:nvSpPr>
          <p:spPr>
            <a:xfrm>
              <a:off x="169920" y="6372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640" y="1800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Mini-P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398520" y="2606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1685880" y="5943600"/>
            <a:ext cx="6467400" cy="811080"/>
          </a:xfrm>
          <a:prstGeom prst="downArrow">
            <a:avLst>
              <a:gd name="adj1" fmla="val 99111"/>
              <a:gd name="adj2" fmla="val 2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es client understand how to take the mini-pil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what to do if she misses pills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 further if needed, or go to next pa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19440" y="2303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3040" y="2809800"/>
            <a:ext cx="4524480" cy="1195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help you remember to take a pill on time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ach day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iest time to take the pill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to keep pi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f pill supply runs 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53040" y="5402160"/>
            <a:ext cx="4524480" cy="34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 client condoms to tak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19440" y="43927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56520" y="6013440"/>
            <a:ext cx="576000" cy="468360"/>
            <a:chOff x="7256520" y="6013440"/>
            <a:chExt cx="576000" cy="468360"/>
          </a:xfrm>
        </p:grpSpPr>
        <p:sp>
          <p:nvSpPr>
            <p:cNvPr id="179" name=""/>
            <p:cNvSpPr/>
            <p:nvPr/>
          </p:nvSpPr>
          <p:spPr>
            <a:xfrm>
              <a:off x="7256520" y="60134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7396200" y="61390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9040680" y="3848040"/>
            <a:ext cx="576000" cy="468360"/>
            <a:chOff x="9040680" y="3848040"/>
            <a:chExt cx="576000" cy="468360"/>
          </a:xfrm>
        </p:grpSpPr>
        <p:sp>
          <p:nvSpPr>
            <p:cNvPr id="182" name=""/>
            <p:cNvSpPr/>
            <p:nvPr/>
          </p:nvSpPr>
          <p:spPr>
            <a:xfrm>
              <a:off x="9040680" y="38480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9180360" y="39736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618000">
            <a:off x="5409720" y="3428640"/>
            <a:ext cx="3962520" cy="2514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may be able to start to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8032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406680"/>
            <a:ext cx="472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11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not breastfeeding, you can start any day of the menstrual cycle if we can be sure you aren’t pregn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50192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11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start today if you have been fully breastfeeding at least 6 wee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225400">
            <a:off x="4829760" y="1397520"/>
            <a:ext cx="1755720" cy="1839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44960" y="1523880"/>
            <a:ext cx="1379520" cy="20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334120" y="3962520"/>
          <a:ext cx="4038480" cy="22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403848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may be able to start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96280" y="6477120"/>
            <a:ext cx="38124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ready to start n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080" y="547524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245200">
            <a:off x="2819520" y="2205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41480" y="1295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970600"/>
            <a:ext cx="4267080" cy="863640"/>
          </a:xfrm>
          <a:prstGeom prst="downArrowCallout">
            <a:avLst>
              <a:gd name="adj1" fmla="val 494126"/>
              <a:gd name="adj2" fmla="val 24704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yes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give her up to a year’s supply of pills. Discuss when would be a good time for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r to take her first pil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5958000"/>
            <a:ext cx="42166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ve her pills to take hom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in the correct time to start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ve condo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use until then. Explain their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6640" y="18000"/>
            <a:ext cx="1232280" cy="763200"/>
            <a:chOff x="116640" y="18000"/>
            <a:chExt cx="1232280" cy="763200"/>
          </a:xfrm>
        </p:grpSpPr>
        <p:sp>
          <p:nvSpPr>
            <p:cNvPr id="202" name=""/>
            <p:cNvSpPr/>
            <p:nvPr/>
          </p:nvSpPr>
          <p:spPr>
            <a:xfrm>
              <a:off x="169920" y="6372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6640" y="1800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Mini-P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98520" y="26064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44280" y="22860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breastfeeding, you can start any day of the menstrual cycle if we can be sure you aren’t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80" y="10666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tart toda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ave be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y breastfeed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least 6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67080" y="2478240"/>
            <a:ext cx="6408720" cy="134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menstrual bleeding started in past 5 d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can start NOW. No extra protec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menstrual bleeding started more than 5 days ago or if amenorrhoeic (not having menstrual periods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can start NOW if reasonably certain she is not pregnant (use pregnancy checkli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Appendix 1)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eed to wait for next menstrual perio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start pi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oid sex or use condoms for 48 hou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taking first 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7080" y="4479840"/>
            <a:ext cx="6408720" cy="118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switching from another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the pill or implants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the best time to st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an injectable, should start pills at time she would have had repeat in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IUD, and menstrual bleeding started more than 5 days ago, can start pills now but leave IUD in place until the next menstrual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67080" y="909720"/>
            <a:ext cx="640872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childbirth, if breastfee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y (or nearly fully) breastfeeding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start pills from 6 weeks after childbirth. No extra protection needed if she is between 6 weeks and 6 months after giving birth and her periods have not return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eastfeed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best to start 6 weeks after birth. Waiting longer risks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childbirth, if NOT breastfee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ar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mediately after childbirth. If in the first 4 weeks after birth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7080" y="3875040"/>
            <a:ext cx="6408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miscarriage or abor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tart immediately after abortion. If in the first 7 days after abortion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41480" y="27813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40:00Z</dcterms:created>
  <dc:creator>Church</dc:creator>
  <dc:description/>
  <dc:language>en-US</dc:language>
  <cp:lastModifiedBy>Church</cp:lastModifiedBy>
  <cp:lastPrinted>2003-07-18T11:21:45Z</cp:lastPrinted>
  <dcterms:modified xsi:type="dcterms:W3CDTF">2005-09-16T14:51:21Z</dcterms:modified>
  <cp:revision>153</cp:revision>
  <dc:subject/>
  <dc:title>No Slide Title</dc:title>
</cp:coreProperties>
</file>