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male Ster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71360" y="106668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urgical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054760" y="981000"/>
            <a:ext cx="4724280" cy="120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828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female steri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opian tubes that carry eggs to the womb are blocked or cut and sealed (womb is left untouche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urt for a few days af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oman not put to sleep but gets injection to prevent p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can go home in a few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054760" y="2247840"/>
            <a:ext cx="4724280" cy="102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ually cannot be rever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lease consider carefully: might you want children in the futur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partner’s preferences or conc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ectomy might be another good choice. Vasectomy is simpler and safer to perform and slightly more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054760" y="3324240"/>
            <a:ext cx="4724280" cy="40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effective family planning methods for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rarely, pregnancy doe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54760" y="5256360"/>
            <a:ext cx="4724280" cy="32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54760" y="4734000"/>
            <a:ext cx="47242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 complications of surgery are rare (risk of anaesthesia, need for further surge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3840" y="2395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33840" y="1295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510200">
            <a:off x="4533480" y="47239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3840" y="34005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295400">
            <a:off x="4529160" y="52146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0068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 you want to know more about sterilization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sterilizatio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553392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243828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—for women wh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ot want more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360" y="317196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360" y="4365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ong-term side-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1360" y="4952880"/>
            <a:ext cx="456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1360" y="3871800"/>
            <a:ext cx="441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54760" y="3784680"/>
            <a:ext cx="47242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for concerns, rumours: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What have you heard about problems with sterilization?”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Appendix 10 to talk about myths about contra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in that all women can have sterilization if they want, even those with no childr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952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1360" y="166680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b is NOT remove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will still have menstrual peri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46440" y="16765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244080" y="3848040"/>
            <a:ext cx="576360" cy="468360"/>
            <a:chOff x="9244080" y="3848040"/>
            <a:chExt cx="576360" cy="468360"/>
          </a:xfrm>
        </p:grpSpPr>
        <p:sp>
          <p:nvSpPr>
            <p:cNvPr id="63" name=""/>
            <p:cNvSpPr/>
            <p:nvPr/>
          </p:nvSpPr>
          <p:spPr>
            <a:xfrm>
              <a:off x="9244080" y="384804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9393480" y="389556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7400" y="28800"/>
            <a:ext cx="1194120" cy="752400"/>
            <a:chOff x="167400" y="28800"/>
            <a:chExt cx="1194120" cy="752400"/>
          </a:xfrm>
        </p:grpSpPr>
        <p:sp>
          <p:nvSpPr>
            <p:cNvPr id="67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400" y="28800"/>
              <a:ext cx="1194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er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5238720" y="614376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3676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male Ster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rot="21337200">
            <a:off x="7229520" y="1911240"/>
            <a:ext cx="2359080" cy="1971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ale Con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21337200">
            <a:off x="4437000" y="2060640"/>
            <a:ext cx="1932120" cy="10540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229280" y="2138400"/>
            <a:ext cx="1968480" cy="1204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531504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13440" y="400536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ould you like to see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a condom and learn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how to use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413000"/>
            <a:ext cx="59436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tects against both pregnancy AND STIs including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ery effective when use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VERY TIME you have s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n be used alone or with another family planning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asy to get, easy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ually partners need to discu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98400" y="569916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65240" y="5680080"/>
            <a:ext cx="914400" cy="115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264440" y="2076480"/>
            <a:ext cx="2367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20766000">
            <a:off x="4495320" y="371628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766000">
            <a:off x="380520" y="3935520"/>
            <a:ext cx="152424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en you can have steril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71620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254400"/>
            <a:ext cx="4572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ut may need to wait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4011480"/>
            <a:ext cx="1089000" cy="1524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1420920"/>
            <a:ext cx="3581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women can have sterilization at an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9080" y="5776920"/>
            <a:ext cx="1523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720" y="577728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ve birth between 1 and 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303080" y="577728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 or other problem in female org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07080" y="5702400"/>
            <a:ext cx="21081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ther serious health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1522600">
            <a:off x="3543120" y="1267920"/>
            <a:ext cx="5143320" cy="1933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766000">
            <a:off x="2379240" y="401148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43200" y="4087800"/>
            <a:ext cx="855720" cy="148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57600" y="134460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20766000">
            <a:off x="6879960" y="4076280"/>
            <a:ext cx="1676160" cy="1130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176960" y="4206960"/>
            <a:ext cx="982800" cy="1238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791240" y="3786120"/>
            <a:ext cx="849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you can have ster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1360" y="1281240"/>
            <a:ext cx="441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have sterilization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 an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may need to wait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1967040"/>
            <a:ext cx="43434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can be done any ti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tween 7 days and 6 weeks after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done up to 7 days after delivery, if she decided in adv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490920"/>
            <a:ext cx="43434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elay sterilization until these conditions are fully trea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vic inflammatory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amydia, gonorrhoea or purulent cervic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after abortion or childbi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n female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81440"/>
            <a:ext cx="4343400" cy="750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May need to delay with serious health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stroke, high blood pressure, or diabetes with complications that require management before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276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7689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003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36766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1052640"/>
            <a:ext cx="43434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No conditions rule out female sterilization, but some situations require delay, referral, or special ca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0640" y="6019920"/>
            <a:ext cx="422604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client is unable to have sterilization now or in this facility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fer as needed.</a:t>
            </a:r>
            <a:r>
              <a:rPr b="0" lang="en-GB" sz="14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080" y="567216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2760" y="6019920"/>
            <a:ext cx="4089240" cy="796680"/>
          </a:xfrm>
          <a:prstGeom prst="downArrowCallout">
            <a:avLst>
              <a:gd name="adj1" fmla="val 513333"/>
              <a:gd name="adj2" fmla="val 25664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client is able to have steriliz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87560"/>
            <a:ext cx="4343400" cy="49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 any doubt, use pregnancy checklist in Appendix 1 or perform pregnancy te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520" y="2124000"/>
            <a:ext cx="4419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ve birth between 1 and 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520" y="2868480"/>
            <a:ext cx="441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2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520" y="3490920"/>
            <a:ext cx="4419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 or other problem in female org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20" y="4557600"/>
            <a:ext cx="4606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ther serious health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7400" y="28800"/>
            <a:ext cx="1194120" cy="752400"/>
            <a:chOff x="167400" y="28800"/>
            <a:chExt cx="1194120" cy="752400"/>
          </a:xfrm>
        </p:grpSpPr>
        <p:sp>
          <p:nvSpPr>
            <p:cNvPr id="11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400" y="28800"/>
              <a:ext cx="1194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er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21522000">
            <a:off x="5635800" y="1909800"/>
            <a:ext cx="4189320" cy="2281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efore you dec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557360"/>
            <a:ext cx="5562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Let’s discus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orary methods are also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rilization is a surgical 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risks and bene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vents having any more child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manent—decision should be carefully consid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decide against procedur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y time before surg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5105520"/>
            <a:ext cx="426708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re you ready to 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Want to know more about the proced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02120" y="560088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59440" y="2184480"/>
            <a:ext cx="3816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fore you de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360" y="981000"/>
            <a:ext cx="4572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t’s discu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81000"/>
            <a:ext cx="4267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xpl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o client underst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iscu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much a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fi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client understands each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2147760"/>
            <a:ext cx="4267080" cy="216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urgery, including sterilization, carries 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ions are uncommon. They include infection, bleeding, injury to organs, need for further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rely, allergic reaction to local anaesthetic or other serious complications from anaesthe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rocedure leads to lifelong, safe, and very effective family pla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to remember; no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elp protect against ovarian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501012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ill not lose rights to medical, health or other services or benef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744560"/>
            <a:ext cx="4267080" cy="30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vailable temporary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4437000"/>
            <a:ext cx="4267080" cy="43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, procedure cannot be rever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not be suitable for younger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15000"/>
            <a:ext cx="9906120" cy="115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sure client understands all points. Then ask what she has dec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80" y="547200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6051600"/>
            <a:ext cx="4267440" cy="806400"/>
          </a:xfrm>
          <a:prstGeom prst="downArrowCallout">
            <a:avLst>
              <a:gd name="adj1" fmla="val 529245"/>
              <a:gd name="adj2" fmla="val 26459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client understands and wants sterilization,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in consent for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if any) and ask her to 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6019920"/>
            <a:ext cx="388620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he decides against sterilization, help her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85400">
            <a:off x="4714560" y="3921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7120" y="1744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7120" y="29862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7120" y="50817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228240" y="5511960"/>
            <a:ext cx="576000" cy="468000"/>
            <a:chOff x="9228240" y="5511960"/>
            <a:chExt cx="576000" cy="468000"/>
          </a:xfrm>
        </p:grpSpPr>
        <p:sp>
          <p:nvSpPr>
            <p:cNvPr id="136" name=""/>
            <p:cNvSpPr/>
            <p:nvPr/>
          </p:nvSpPr>
          <p:spPr>
            <a:xfrm>
              <a:off x="9228240" y="5511960"/>
              <a:ext cx="576000" cy="46800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9424800" y="5608440"/>
              <a:ext cx="190080" cy="25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88920" y="59245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360" y="1792440"/>
            <a:ext cx="45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 methods are also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360" y="227808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rilization is a surgical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360" y="2924280"/>
            <a:ext cx="45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risks and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360" y="3443400"/>
            <a:ext cx="4572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s having any more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360" y="414972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—decision should be carefully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4797360"/>
            <a:ext cx="4572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decide agains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any time before su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912160" y="1081080"/>
            <a:ext cx="576000" cy="468360"/>
            <a:chOff x="8912160" y="1081080"/>
            <a:chExt cx="576000" cy="468360"/>
          </a:xfrm>
        </p:grpSpPr>
        <p:sp>
          <p:nvSpPr>
            <p:cNvPr id="147" name=""/>
            <p:cNvSpPr/>
            <p:nvPr/>
          </p:nvSpPr>
          <p:spPr>
            <a:xfrm>
              <a:off x="8912160" y="1081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9051840" y="1206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8570880" y="5516640"/>
            <a:ext cx="576000" cy="468360"/>
            <a:chOff x="8570880" y="5516640"/>
            <a:chExt cx="576000" cy="468360"/>
          </a:xfrm>
        </p:grpSpPr>
        <p:sp>
          <p:nvSpPr>
            <p:cNvPr id="150" name=""/>
            <p:cNvSpPr/>
            <p:nvPr/>
          </p:nvSpPr>
          <p:spPr>
            <a:xfrm>
              <a:off x="8570880" y="5516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8710560" y="5642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 rot="1230000">
            <a:off x="4721400" y="4336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7400" y="28800"/>
            <a:ext cx="1194120" cy="752400"/>
            <a:chOff x="167400" y="28800"/>
            <a:chExt cx="1194120" cy="752400"/>
          </a:xfrm>
        </p:grpSpPr>
        <p:sp>
          <p:nvSpPr>
            <p:cNvPr id="154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400" y="28800"/>
              <a:ext cx="1194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er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83080" y="1773360"/>
            <a:ext cx="224316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81960" y="2941560"/>
            <a:ext cx="2251080" cy="2216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02280" y="5842080"/>
            <a:ext cx="1828800" cy="8128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9080" y="4152960"/>
            <a:ext cx="1218960" cy="1143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proced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360" y="1143000"/>
            <a:ext cx="5334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74760" indent="-374760">
              <a:lnSpc>
                <a:spcPct val="9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cation helps you keep calm and helps prevent 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stay awa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3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 cut is made — not pain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bes are blocked or c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ing closed with stit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t a few h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5410080"/>
            <a:ext cx="228600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What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do you ha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51800" y="1341360"/>
            <a:ext cx="190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Small cut either here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5680" y="212724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o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629400" y="1916280"/>
            <a:ext cx="1201680" cy="9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4520" y="270828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495680"/>
            <a:ext cx="5562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fterward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should rest for 2 or 3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oid heavy lifting for a we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sex for at least 1 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131840" cy="1409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813200" y="422928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4184640" y="5867280"/>
            <a:ext cx="1752480" cy="1108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4367160" y="5913360"/>
            <a:ext cx="134640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117324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dication helps you keep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alm and helps preve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37080" y="923760"/>
            <a:ext cx="4267440" cy="105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escribe the steps in sterilization procedure. Expl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simple, safe surgical procedure that can be done in a hospital or health centre with the right facili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, the whole procedure (including rest time) can take just a few hou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37080" y="2060640"/>
            <a:ext cx="426744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light sedation will be given—oral or intraven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incision—where and h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her to let providers know if she feels pain during procedure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You can ask for more pain medicine if you want i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37080" y="3429000"/>
            <a:ext cx="42674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 in the clinic before going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es client understand surgical procedure and feel confident to contin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533412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956200"/>
            <a:ext cx="3810240" cy="878040"/>
          </a:xfrm>
          <a:prstGeom prst="downArrowCallout">
            <a:avLst>
              <a:gd name="adj1" fmla="val 433988"/>
              <a:gd name="adj2" fmla="val 21697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procedure will be done now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xt pag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 advise client on what she must remember after surg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5943600"/>
            <a:ext cx="3962520" cy="70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rocedure planned for another day, arrange a convenient time for client to retur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er condoms to use in the mean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637600">
            <a:off x="4571640" y="1496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90400">
            <a:off x="4519080" y="2492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3040" y="1693800"/>
            <a:ext cx="426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tay aw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3040" y="21337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mall cut is made — not pain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040" y="26208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ubes are blocked or 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3040" y="301464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ing closed with st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360" y="348444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t a few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3040" y="3616200"/>
            <a:ext cx="4100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fterwar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uld rest for 2 or 3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heavy lifting for a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ex for at least 1 wee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37080" y="4933800"/>
            <a:ext cx="42674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ex until all the pain is g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7560" y="4924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739360" y="5473800"/>
            <a:ext cx="576000" cy="468360"/>
            <a:chOff x="8739360" y="5473800"/>
            <a:chExt cx="576000" cy="468360"/>
          </a:xfrm>
        </p:grpSpPr>
        <p:sp>
          <p:nvSpPr>
            <p:cNvPr id="194" name=""/>
            <p:cNvSpPr/>
            <p:nvPr/>
          </p:nvSpPr>
          <p:spPr>
            <a:xfrm>
              <a:off x="8739360" y="54738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8879040" y="55994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591080" y="3484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67400" y="28800"/>
            <a:ext cx="1194120" cy="752400"/>
            <a:chOff x="167400" y="28800"/>
            <a:chExt cx="1194120" cy="752400"/>
          </a:xfrm>
        </p:grpSpPr>
        <p:sp>
          <p:nvSpPr>
            <p:cNvPr id="198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7400" y="28800"/>
              <a:ext cx="1194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er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89120" y="1779480"/>
            <a:ext cx="2016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9998000">
            <a:off x="7980480" y="1587240"/>
            <a:ext cx="116352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998000">
            <a:off x="309600" y="1647360"/>
            <a:ext cx="1522440" cy="1266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9998000">
            <a:off x="5678640" y="1625400"/>
            <a:ext cx="146340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dical reasons to retur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120" y="112536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n first week, come at once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956200" y="1701720"/>
            <a:ext cx="84636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2920" y="441972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t any time in the future, come at once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680" y="3206160"/>
            <a:ext cx="1600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f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41560" y="3174840"/>
            <a:ext cx="1676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 or bleeding from w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25840" y="33685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, heat, swelling, redness of w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7840" y="3378240"/>
            <a:ext cx="183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ady or worsening pain, cramps, tenderness in be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31080" y="336852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nting or very diz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00040" y="1758960"/>
            <a:ext cx="1355760" cy="1371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067600" y="1616040"/>
            <a:ext cx="1000080" cy="1562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19720" y="54100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 or tenderness in belly, or fa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518148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think you may be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0766000">
            <a:off x="1828440" y="5072040"/>
            <a:ext cx="152388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2192400" y="5148360"/>
            <a:ext cx="855720" cy="1481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19998000">
            <a:off x="5927400" y="5029200"/>
            <a:ext cx="146376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205680" y="5105520"/>
            <a:ext cx="846000" cy="1447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rot="19998000">
            <a:off x="7598880" y="4962240"/>
            <a:ext cx="116388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7686720" y="4991040"/>
            <a:ext cx="1000080" cy="1562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2949480" y="1773360"/>
            <a:ext cx="13683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l reasons to ret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9520" y="811080"/>
            <a:ext cx="3589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 first week, come at once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1225440"/>
            <a:ext cx="40388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8°C in first 4 weeks and especially first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317680"/>
            <a:ext cx="40388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of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4302000"/>
            <a:ext cx="4038840" cy="12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fter sterilization is rare. But when it does occur, 20% to 50% of these pregnancies are ec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igns of ectopic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come back immediately a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ime in the future if she thinks she might be preg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65840" y="2322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78440" y="1278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7150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8360" y="5838840"/>
            <a:ext cx="86104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happy with your choice of method? Is there anything I can repeat or explain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Please come back any time you have questions or problem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520" y="5486400"/>
            <a:ext cx="1752480" cy="320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9520" y="131112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f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520" y="1701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 or bleeding from w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9520" y="2060640"/>
            <a:ext cx="453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, heat, swelling, redness of w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2693880"/>
            <a:ext cx="5029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ady or worsening pain, cramps, tenderness in be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20" y="3314880"/>
            <a:ext cx="28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nting or very diz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20" y="3846600"/>
            <a:ext cx="45975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 any time in the future, come at once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9520" y="4437000"/>
            <a:ext cx="3959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think you may be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9520" y="4870440"/>
            <a:ext cx="495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 or tenderness in belly, or fa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65840" y="4564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0021400">
            <a:off x="4965480" y="49543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335800" y="6200640"/>
            <a:ext cx="576000" cy="468360"/>
            <a:chOff x="8335800" y="6200640"/>
            <a:chExt cx="576000" cy="468360"/>
          </a:xfrm>
        </p:grpSpPr>
        <p:sp>
          <p:nvSpPr>
            <p:cNvPr id="248" name=""/>
            <p:cNvSpPr/>
            <p:nvPr/>
          </p:nvSpPr>
          <p:spPr>
            <a:xfrm>
              <a:off x="8335800" y="6200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8475480" y="6326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/>
          <p:nvPr/>
        </p:nvSpPr>
        <p:spPr>
          <a:xfrm rot="19687200">
            <a:off x="4965480" y="2763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67400" y="28800"/>
            <a:ext cx="1194120" cy="752400"/>
            <a:chOff x="167400" y="28800"/>
            <a:chExt cx="1194120" cy="752400"/>
          </a:xfrm>
        </p:grpSpPr>
        <p:sp>
          <p:nvSpPr>
            <p:cNvPr id="252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7400" y="28800"/>
              <a:ext cx="1194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er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54756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2-06-24T09:01:00Z</cp:lastPrinted>
  <dcterms:modified xsi:type="dcterms:W3CDTF">2005-09-16T14:48:05Z</dcterms:modified>
  <cp:revision>831</cp:revision>
  <dc:subject/>
  <dc:title>No Slide Title</dc:title>
</cp:coreProperties>
</file>